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84186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3833280"/>
            <a:ext cx="84186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56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38332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560" y="38332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200" y="15256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5360" y="15256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38332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200" y="38332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5360" y="3833280"/>
            <a:ext cx="271044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525680"/>
            <a:ext cx="841860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841860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4107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560" y="1525680"/>
            <a:ext cx="4107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0"/>
            <a:ext cx="84186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560" y="1525680"/>
            <a:ext cx="4107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38332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410796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56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560" y="38332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560" y="1525680"/>
            <a:ext cx="410796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3833280"/>
            <a:ext cx="8418600" cy="21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6248520"/>
            <a:ext cx="2062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84720" y="6248520"/>
            <a:ext cx="313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30120" y="1295280"/>
            <a:ext cx="908064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3480" y="6345360"/>
            <a:ext cx="599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04c88"/>
                </a:solidFill>
                <a:latin typeface="Arial"/>
              </a:rPr>
              <a:t>Grundzüge der Programmierung - Organisation, © Guth, Kaukal, Klimesch 2000-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525680"/>
            <a:ext cx="841860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293680" y="623736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E441-DB37-4A3A-8BCE-647BC1A44A57}" type="slidenum">
              <a:rPr b="0" lang="de-DE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m.wu-wien.ac.at/Lehre/java" TargetMode="External"/><Relationship Id="rId2" Type="http://schemas.openxmlformats.org/officeDocument/2006/relationships/hyperlink" Target="http://nm.wu-wien.ac.at/Lehre/java" TargetMode="External"/><Relationship Id="rId3" Type="http://schemas.openxmlformats.org/officeDocument/2006/relationships/hyperlink" Target="http://nm.wu-wien.ac.at/Lehre/java" TargetMode="External"/><Relationship Id="rId4" Type="http://schemas.openxmlformats.org/officeDocument/2006/relationships/hyperlink" Target="http://nm.wu-wien.ac.at/Lehre/java" TargetMode="External"/><Relationship Id="rId5" Type="http://schemas.openxmlformats.org/officeDocument/2006/relationships/hyperlink" Target="http://nm.wu-wien.ac.at/Lehre/java" TargetMode="External"/><Relationship Id="rId6" Type="http://schemas.openxmlformats.org/officeDocument/2006/relationships/hyperlink" Target="http://nm.wu-wien.ac.at/Lehre/java" TargetMode="External"/><Relationship Id="rId7" Type="http://schemas.openxmlformats.org/officeDocument/2006/relationships/hyperlink" Target="http://nm.wu-wien.ac.at/Lehre/java" TargetMode="External"/><Relationship Id="rId8" Type="http://schemas.openxmlformats.org/officeDocument/2006/relationships/hyperlink" Target="http://nm.wu-wien.ac.at/Lehre/java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4160" y="259920"/>
            <a:ext cx="9072360" cy="81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3600" y="1752480"/>
          <a:ext cx="21672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752480"/>
                    <a:ext cx="2167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66800" y="2057040"/>
            <a:ext cx="5283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sanne G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hael Hahs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eplanter Ablauf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560"/>
            <a:ext cx="8997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e und 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er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erste Programm "HelloWorl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leitung fü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efinition und Instanziier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iablen und Datenty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8360" y="5257800"/>
            <a:ext cx="3797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ihenfolge sowie Intensität der Einheiten können in Abhängigkeit von der verfügbaren Zeit leicht variie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eplanter Ablauf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899784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flu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ufsteueru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verwend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heritanc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morphi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put / Output, I/O-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5181480"/>
            <a:ext cx="3632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Reihenfolge sowie Intensität der Einheiten können in Abhängigkeit von der verfügbaren Zeit leicht variie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Vorlesungsbegleitende Literatur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1440" y="1700280"/>
            <a:ext cx="84186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össenböck, Hanspeter: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Sprechen Sie Java?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ine Einführung in das systematische Programmieren. Heidelberg 2001, dpunkt.verlag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chtle, Klaus und Goedicke, Michael: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"Lehrbuch der Programmierung mit Java",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BN 3-932588-22-3, EUR 30,17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kriptum „Grundzüge der Programmierung“, erhältlich bei der Facu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520" y="763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Weiterführende Literatur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ruce Eckel: Thinking in Java, 2. Auflage, 2000, Prentice-Hall (http://www.bruceeckel.com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n: The Java</a:t>
            </a:r>
            <a:r>
              <a:rPr b="0" lang="de-AT" sz="2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Tutorial. Online-Tutorial (http://java.sun.com/docs/books/tutoria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rtrand Meyer: Objektorientierte Softwareentwicklung, 1990, Han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rady Booch: Obejektorienierte Analyse und Design, Addison-Wesley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irtuelle Universität (http://vu.wu-wien.ac.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olien der Lehrveranstaltung sind im WWW unter 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m.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u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-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ien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c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at/</a:t>
            </a:r>
            <a:r>
              <a:rPr b="0" lang="de-AT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14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javacorner" descr="The Java Corner"/>
          <p:cNvPicPr/>
          <p:nvPr/>
        </p:nvPicPr>
        <p:blipFill>
          <a:blip r:embed="rId9"/>
          <a:stretch/>
        </p:blipFill>
        <p:spPr>
          <a:xfrm>
            <a:off x="304920" y="304920"/>
            <a:ext cx="2438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Fragen/Problem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27640" y="2819520"/>
            <a:ext cx="3038400" cy="2419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00160" y="1752480"/>
            <a:ext cx="26449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Sie haben Fragen/Probleme?</a:t>
            </a:r>
            <a:br>
              <a:rPr sz="4000"/>
            </a:br>
            <a:r>
              <a:rPr b="1" lang="de-AT" sz="4000" spc="-1" strike="noStrike">
                <a:solidFill>
                  <a:srgbClr val="104c88"/>
                </a:solidFill>
                <a:latin typeface="Arial"/>
              </a:rPr>
              <a:t>Anleitung zur Problemlösung </a:t>
            </a:r>
            <a:endParaRPr b="1" lang="en-US" sz="4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523520"/>
            <a:ext cx="841860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1. Nachde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2. Liter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3. FAQ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http://www.afu.com/javafaq.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4. Bu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5. Diskussionsliste (Anmeldung und Infos unter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ttp://nm.wu-wien.ac.at/Lehre/java)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hre Beiträge (sowohl Fragen als auch Antworten) können bei der Beurteilung Ihrer Prüfung zur Verbesserung der Note herangezogen werd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6. Die/Der Vortra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05560" y="1752480"/>
            <a:ext cx="1390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93400"/>
            <a:ext cx="841860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104c88"/>
                </a:solidFill>
                <a:latin typeface="Arial"/>
              </a:rPr>
              <a:t>Inhalt der 1.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7040" y="2057400"/>
            <a:ext cx="5283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3212640"/>
            <a:ext cx="7759800" cy="28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ormation zur Lehrveranst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anstaltung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4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eratur und Online-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42240" y="1752480"/>
            <a:ext cx="1530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V-WI_2001_1" descr=""/>
          <p:cNvPicPr/>
          <p:nvPr/>
        </p:nvPicPr>
        <p:blipFill>
          <a:blip r:embed="rId1"/>
          <a:stretch/>
        </p:blipFill>
        <p:spPr>
          <a:xfrm>
            <a:off x="920880" y="620640"/>
            <a:ext cx="8208720" cy="5702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677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104c88"/>
                </a:solidFill>
                <a:latin typeface="Arial"/>
              </a:rPr>
              <a:t>LV-Programm der SBWL „Wirtschaftsinformatik“</a:t>
            </a:r>
            <a:endParaRPr b="1" lang="en-US" sz="3200" spc="-1" strike="noStrike">
              <a:solidFill>
                <a:srgbClr val="104c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9360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Wahlpflicht-Lehrveranstaltungen in der SBWL: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0120" y="1523520"/>
            <a:ext cx="908064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nter- und Sommer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systeme im Non-Profit 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ie und Geschäftsmodelle der Neuen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-Markt und Informations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ktronische Finanzdienst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ktorientierte Programmierung (Object Rex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nter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ssysteme im Finanz- und Rechnungsw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tliche Aspekte der Informationsverarbei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mmersem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ctronic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ktronisches Geld, Zahlungssysteme und Sicher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ätzlich können auch Vorlesungen aus den nicht gewählten Spezialisierungsschienen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80" y="0"/>
            <a:ext cx="9632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104c88"/>
                </a:solidFill>
                <a:latin typeface="Arial"/>
              </a:rPr>
              <a:t>LV-Programm des Bakk. Wirtschaftsinformatik“</a:t>
            </a:r>
            <a:endParaRPr b="1" lang="en-US" sz="32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2120" y="1484280"/>
          <a:ext cx="8782200" cy="4659480"/>
        </p:xfrm>
        <a:graphic>
          <a:graphicData uri="http://schemas.openxmlformats.org/drawingml/2006/table">
            <a:tbl>
              <a:tblPr/>
              <a:tblGrid>
                <a:gridCol w="1928880"/>
                <a:gridCol w="1089000"/>
                <a:gridCol w="700200"/>
                <a:gridCol w="669600"/>
                <a:gridCol w="621000"/>
                <a:gridCol w="871560"/>
                <a:gridCol w="1003320"/>
                <a:gridCol w="1898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entierungs-semest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PÄ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on Body of Knowledge (CBK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chhaltung und Bilanzierung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682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ienrichtungsspezifische Lehrveranstaltung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ndzüge der Modell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ndzüge der Programm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Pr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entierungssemest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PÄ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18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104c88"/>
                </a:solidFill>
                <a:latin typeface="Arial"/>
              </a:rPr>
              <a:t>Veranstaltungsform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421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weieinhalbstündige Vorlesung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äsentation der Grundlagen der Program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Übungs- und Anwendungsmöglichkeit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ulungsraum 6, 2H3.16 (UZA II), zu den Öffnungszeiten ausgenommen bei Lehrveranstal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ährend des Seme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ontag - Freitag: 08:00 Uhr - 21:00 Uh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amstag: 09:00 Uhr - 17:00 Uh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ährend der Feri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ontag - Freitag: 09:00 Uhr - 17:00 Uh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667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eranstaltungsform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1000" y="1599840"/>
            <a:ext cx="881064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lesungsbegleitende Programmier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ieraufgaben werden gestellt (die genaue Anzahl sowie die Aufgabenstellung entnehmen Sie bitte der Web-S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 gelöster und eingereichtet Programmieraufgabe werden Bonuspunkte ver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Arial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Programmieraufgaben sind individuell zu lö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ftlicher Einzeltest zur Mitte oder zum Ende des aktuellen Semesters oder zu Beginn des nächsten Seme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n aktuellen Ablauf entnehmen Sie bitte immer der Vorlesungsweb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http://nm.wu-wien.ac.at/jav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termine finden Sie auch bei „study@w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667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Veranstaltungsform (forts.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640" y="1628640"/>
            <a:ext cx="9210600" cy="462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meldung zur Veranstaltung/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Anmeldung zur Veranstaltun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für die Bakkalaureat-Studierenden (LP) ist getrennt von denen Studierenden der SBWL Wirtschaftsinformatik (VO)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mitteln Sie die für Sie zutreffende Veranstaltungsnummer aus dem elektronischen Vorlesungsverzeich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Anmeldung zur Veranstaltun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sichert Ihnen einen Platz im Hörsaal,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gilt aber nicht als Prüfungsanmeldun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Studierende müssen sich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separat zur Prüfung anmelden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 Studierende der SBWL Wirtschaftsinformatik unter der Nummer p100. BAKK-Studierende per Abhaken der Prüfungsanmeldungsoption im elektronischen Anmeldesystem. Die Prüfungsanmeldung der wird ers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 Wochen vor der Prüfung freigeschaltet. Der Anmeldezeitraum der SBWL-Studieren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der gleiche, wie für die BAKK-Studier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18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hrziele der LV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3040" y="1905120"/>
            <a:ext cx="8750160" cy="35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 dieser Lehrveranstaltung lernen 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Grundkonzepte der Programmieru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as obje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rientierte Konzep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Programmiersprache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ennen und anwenden, um mit Hilfe dieser Werkzeuge und Methoden selbst kleine Problemstellungen lösen zu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Marion Kaukal, Rainer Klimesch</dc:creator>
  <dc:description/>
  <dc:language>en-US</dc:language>
  <cp:lastModifiedBy>Susanne Guth</cp:lastModifiedBy>
  <cp:lastPrinted>2001-09-26T11:30:08Z</cp:lastPrinted>
  <dcterms:modified xsi:type="dcterms:W3CDTF">2003-05-02T13:15:51Z</dcterms:modified>
  <cp:revision>334</cp:revision>
  <dc:subject/>
  <dc:title>Grundlagen der Programmierung (Java)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people/Guth.html</vt:lpwstr>
  </property>
  <property fmtid="{D5CDD505-2E9C-101B-9397-08002B2CF9AE}" pid="9" name="LinkColor">
    <vt:r8>16711782</vt:r8>
  </property>
  <property fmtid="{D5CDD505-2E9C-101B-9397-08002B2CF9AE}" pid="10" name="MailAddress">
    <vt:lpwstr>susanne.guth@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