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3328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332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38332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5256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5256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332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38332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383328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09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332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38332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52568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3328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38160">
            <a:solidFill>
              <a:srgbClr val="104c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0840" y="6400800"/>
            <a:ext cx="653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04c88"/>
                </a:solidFill>
                <a:latin typeface="Arial"/>
              </a:rPr>
              <a:t>Grundzüge der Programmierung – Objekte und Klassen © Guth, Kaukal, Klimesch 2000-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4216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734960" y="6261120"/>
            <a:ext cx="13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5542-637E-41C4-A6EC-9678131014B3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104c88"/>
                </a:solidFill>
                <a:latin typeface="Arial"/>
              </a:rPr>
              <a:t>Grundzüge der Programmierung</a:t>
            </a:r>
            <a:endParaRPr b="1" lang="en-US" sz="40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1905120"/>
            <a:ext cx="61722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Konzepte d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objekt-orientiert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Programmierung (oo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Arial"/>
              </a:rPr>
              <a:t>OBJEKTE - KLAS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3520" y="1600200"/>
          <a:ext cx="18446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18446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Nachrichtenaustausch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39625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ts val="3197"/>
              </a:lnSpc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onenten einer Nachr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ts val="2599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Objekt, auf das die Nachricht adressiert ist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(paulsFahrr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ts val="2599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Name der Methode, die ausgeführt werden soll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(gangWechsel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ts val="2599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Parameter, die die Methode benötigt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(Ga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(hier: 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14400" y="1327320"/>
          <a:ext cx="703908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27320"/>
                    <a:ext cx="703908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Klass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bjekte, die bis auf ihren Zustand identisch sind, werden zu </a:t>
            </a: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"Klassen von Objekten"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zusammengefas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ine Klasse beschreibt das </a:t>
            </a: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Verhalte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und die </a:t>
            </a: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Eigenschaften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von gleichartigen Objekten.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(Z.B. Alle individuellen Fahrräder werden zur Klasse Fahrrad zusammengefas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us jeder Klasse können beliebig viele Objekte abgeleitet („instanziiert“)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Klassen und Objekt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9200" y="150192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Kla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8920" y="150192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Obj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819520"/>
            <a:ext cx="1828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6240" y="28954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514600" y="2361960"/>
            <a:ext cx="2819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048120"/>
            <a:ext cx="2666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2057400"/>
            <a:ext cx="1981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743200"/>
            <a:ext cx="1981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3429000"/>
            <a:ext cx="1981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21720" y="2133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32800" y="28195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p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04720" y="35053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lassen beschreiben Objekte, die identische Eigenschaften und gleiches Verhalten ha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nstanzierung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Ein Objekt ist die </a:t>
            </a:r>
            <a:r>
              <a:rPr b="1" lang="de-AT" sz="2600" spc="-1" strike="noStrike">
                <a:solidFill>
                  <a:srgbClr val="000000"/>
                </a:solidFill>
                <a:latin typeface="Arial"/>
              </a:rPr>
              <a:t>Instanz</a:t>
            </a: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 einer Klas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In der Klasse werden alle Variablen und Methoden definier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Aus einer Klasse können dann beliebig viele Instanzen abgeleitet werd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Jede Instanz hat eine eigene Kopie der Variablen, die in der Klasse definiert sind (Instanzvariab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10080"/>
            <a:ext cx="1828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4840" y="54864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743200" y="5229000"/>
            <a:ext cx="233352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5805360"/>
            <a:ext cx="298152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4648320"/>
            <a:ext cx="2376360" cy="868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16640"/>
            <a:ext cx="2376360" cy="93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62200" y="4772160"/>
            <a:ext cx="20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me: Arco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burt: 07.1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38560" y="5661000"/>
            <a:ext cx="20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me: Rex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burt: 11.11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Klassen- und Objektdiagramm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784692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iehung zwischen einer Klasse und ihren Objek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s Objekt hat seinen eigenen Zustand, der in den Instanzvariablen gespeichert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26920" y="3156120"/>
          <a:ext cx="802188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156120"/>
                    <a:ext cx="802188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Charakteristika der ooP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807732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lles ist ein Objek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Jedes Objekt hat eigene Eigenschaftswerte (Variable) und ein bestimmtes Verhalten (Method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in objek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rientiertes Programm besteht aus einer Menge von kommunizierenden Objek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lassen beschreiben das Verhalten und die Eigenschaften von gleichartigen Objek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Jedes Objekt ist die Instanz einer K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Übung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Überlegen Sie sich Objekte, die sinnvoll zu Klassen zusammengefasst werden könn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3403440"/>
          <a:ext cx="6096240" cy="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403440"/>
                    <a:ext cx="6096240" cy="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Nach dieser Einheit sollten Sie wissen, ...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was Objekte und Klassen sind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wie von realen Objekten ein Software-Objekt abgeleitet wird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wie Zustand und Verhalten der Objekte in der Software abgebildet werd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wie Objekte miteinander kommunizie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162920" y="4241880"/>
            <a:ext cx="152388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nhalt dieser Einhei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JAVA ist objektorientier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rundbegriffe der objektorientierten Programmier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bjekte (obj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lassen (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Nachrichten (mess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nstanziier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ererbung (inheri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chnittstellen (interfac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iederverwendung (code re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Objekt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Zur Lösung eines Problems müssen Gegenstände des Problemgebietes in einem Modell erfasst werden (z.B. Konten, Verkehrsnetz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Modelle sind (vereinfachte) Abbildungen der Realitä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Eine Möglichkeit der Modellierung ist die „objektorientierte Modellierung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Der Problemraum wird dabei in Objekte zerlegt, die ein Verhalten haben und durch Eigenschaften charakterisiert si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Objekt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(Bsp. Fahrrad)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ts val="3197"/>
              </a:lnSpc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bjekt der realen Welt 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.B. Fahrrad ist definiert dur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7840" indent="-281520">
              <a:lnSpc>
                <a:spcPts val="2599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800" spc="-1" strike="noStrike">
                <a:solidFill>
                  <a:srgbClr val="0b368d"/>
                </a:solidFill>
                <a:latin typeface="Arial"/>
              </a:rPr>
              <a:t>Zustan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änge, Farbe, Mark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7840" indent="-281520">
              <a:lnSpc>
                <a:spcPts val="2599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800" spc="-1" strike="noStrike">
                <a:solidFill>
                  <a:srgbClr val="0b368d"/>
                </a:solidFill>
                <a:latin typeface="Arial"/>
              </a:rPr>
              <a:t>Verhalt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Schalten, Brems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ts val="2599"/>
              </a:lnSpc>
              <a:spcBef>
                <a:spcPts val="2001"/>
              </a:spcBef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ts val="2599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oftware-Obj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7840" indent="-281520">
              <a:lnSpc>
                <a:spcPts val="2599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stand wird in </a:t>
            </a:r>
            <a:r>
              <a:rPr b="0" lang="de-DE" sz="2800" spc="-1" strike="noStrike">
                <a:solidFill>
                  <a:srgbClr val="0b368d"/>
                </a:solidFill>
                <a:latin typeface="Arial"/>
              </a:rPr>
              <a:t>Variabl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gespeich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7840" indent="-281520">
              <a:lnSpc>
                <a:spcPts val="2599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halten wird in </a:t>
            </a:r>
            <a:r>
              <a:rPr b="0" lang="de-DE" sz="2800" spc="-1" strike="noStrike">
                <a:solidFill>
                  <a:srgbClr val="0b368d"/>
                </a:solidFill>
                <a:latin typeface="Arial"/>
              </a:rPr>
              <a:t>Method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bgebild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1828800"/>
            <a:ext cx="1066680" cy="30481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533160 h 3048120"/>
              <a:gd name="textAreaBottom" fmla="*/ 221004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7410960" y="325800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Überl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Objekt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(Bsp. Fahrrad)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in Objekt 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e eindeutige Identität, die es von allen anderen Objekten unterscheid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en individuellen Zu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und ein bestimmtes Verhalten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(das vom Zustand des Objekts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bhängen kan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in spezielles Objekt wird auch </a:t>
            </a:r>
            <a:r>
              <a:rPr b="0" i="1" lang="de-AT" sz="2800" spc="-1" strike="noStrike">
                <a:solidFill>
                  <a:srgbClr val="000000"/>
                </a:solidFill>
                <a:latin typeface="Arial"/>
              </a:rPr>
              <a:t>Instanz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genan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19720" y="2743200"/>
          <a:ext cx="3443400" cy="26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9720" y="2743200"/>
                    <a:ext cx="3443400" cy="26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-294" t="32261" r="0" b="8063"/>
          <a:stretch/>
        </p:blipFill>
        <p:spPr>
          <a:xfrm>
            <a:off x="1066680" y="2514600"/>
            <a:ext cx="7162920" cy="31640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Beispielobjekt: Buch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20760" y="178920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Eigenschaf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2960" y="17524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Verha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-294" t="30646" r="44016" b="8063"/>
          <a:stretch/>
        </p:blipFill>
        <p:spPr>
          <a:xfrm>
            <a:off x="250920" y="3141720"/>
            <a:ext cx="3581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ariablen</a:t>
            </a:r>
            <a:br>
              <a:rPr sz="4400"/>
            </a:b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Beispielobjekt: Buch</a:t>
            </a:r>
            <a:endParaRPr b="1" lang="en-US" sz="36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34240" y="247824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Eigenscha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21360" y="247824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610160" y="37800"/>
            <a:ext cx="533160" cy="4267080"/>
          </a:xfrm>
          <a:custGeom>
            <a:avLst/>
            <a:gdLst>
              <a:gd name="textAreaLeft" fmla="*/ 71280 w 533160"/>
              <a:gd name="textAreaRight" fmla="*/ 461880 w 533160"/>
              <a:gd name="textAreaTop" fmla="*/ 746640 h 4267080"/>
              <a:gd name="textAreaBottom" fmla="*/ 3093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8200" y="144792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Überl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10920" y="3200400"/>
            <a:ext cx="356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Titel: 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„Thinking in Java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Bruce Ec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rscheinungsjahr: 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Hardcover: 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usleihestatus: 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verli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eiten: 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1129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ibliographie: 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3880" y="3124080"/>
          <a:ext cx="6096240" cy="5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124080"/>
                    <a:ext cx="6096240" cy="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92760" y="558972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3333cc"/>
                </a:solidFill>
                <a:latin typeface="Arial"/>
              </a:rPr>
              <a:t>Erscheinungsjahr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908000" y="4941720"/>
            <a:ext cx="1081440" cy="648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Methoden</a:t>
            </a:r>
            <a:br>
              <a:rPr sz="4400"/>
            </a:br>
            <a:r>
              <a:rPr b="1" lang="de-AT" sz="3600" spc="-1" strike="noStrike">
                <a:solidFill>
                  <a:srgbClr val="104c88"/>
                </a:solidFill>
                <a:latin typeface="Arial"/>
              </a:rPr>
              <a:t>Beispielobjekt: Buch</a:t>
            </a:r>
            <a:endParaRPr b="1" lang="en-US" sz="36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33880" y="24782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Ver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21360" y="24782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Metho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4610160" y="37800"/>
            <a:ext cx="533160" cy="4267080"/>
          </a:xfrm>
          <a:custGeom>
            <a:avLst/>
            <a:gdLst>
              <a:gd name="textAreaLeft" fmla="*/ 71280 w 533160"/>
              <a:gd name="textAreaRight" fmla="*/ 461880 w 533160"/>
              <a:gd name="textAreaTop" fmla="*/ 746640 h 4267080"/>
              <a:gd name="textAreaBottom" fmla="*/ 3093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8200" y="144792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Überl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12000" y="3200400"/>
            <a:ext cx="388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uch auslei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uch zurück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rscheinungsjahr eint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31713" t="32261" r="9603" b="8063"/>
          <a:stretch/>
        </p:blipFill>
        <p:spPr>
          <a:xfrm>
            <a:off x="685800" y="2971800"/>
            <a:ext cx="41911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Objekte - Nachrichtenaustausch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bjektorientierte Programme bestehen aus Objekten, die miteinander interagi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Interaktion zwischen Objekten erfolgt über den Austausch von Nachrich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Wenn Objekt A möchte, dass Objekt B eine seiner Methoden ausführt, sendet Objekt A eine Nachricht an Objekt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2:38:33Z</dcterms:created>
  <dc:creator>Susanne Guth, Rainer Klimesch, Marion Kaukal</dc:creator>
  <dc:description/>
  <dc:language>en-US</dc:language>
  <cp:lastModifiedBy>sguth</cp:lastModifiedBy>
  <cp:lastPrinted>2001-09-26T08:21:41Z</cp:lastPrinted>
  <dcterms:modified xsi:type="dcterms:W3CDTF">2003-05-07T13:03:21Z</dcterms:modified>
  <cp:revision>361</cp:revision>
  <dc:subject/>
  <dc:title>Grundlagen der Programmierung - Konzepte oo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nm.wu-wien.ac.at/java/</vt:lpwstr>
  </property>
  <property fmtid="{D5CDD505-2E9C-101B-9397-08002B2CF9AE}" pid="9" name="LinkColor">
    <vt:r8>16711782</vt:r8>
  </property>
  <property fmtid="{D5CDD505-2E9C-101B-9397-08002B2CF9AE}" pid="10" name="MailAddress">
    <vt:lpwstr>susanne.guth@wu-wien.ac.a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NeueMedien\java\FolienSS0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