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09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4600" y="6400800"/>
            <a:ext cx="579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04c88"/>
                </a:solidFill>
                <a:latin typeface="Arial"/>
              </a:rPr>
              <a:t>Grundzüge der Programmierung - Vererbung © Guth, Kaukal, Klimesch 2000-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4216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10920" y="626112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EA70-C039-44F2-9DA4-8FDA1F10DA75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8160" y="2057400"/>
            <a:ext cx="54705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Konzepte der objektorientierten Programmierung (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Arial"/>
              </a:rPr>
              <a:t>VERERB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14400" y="1905120"/>
          <a:ext cx="20700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20700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Tiere 2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5360" y="175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Obj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3400" y="160020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Klassen-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705040" cy="21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752480" y="1677960"/>
          <a:ext cx="2895840" cy="441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7960"/>
                    <a:ext cx="289584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629400" y="1523880"/>
          <a:ext cx="1905120" cy="14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1523880"/>
                    <a:ext cx="19051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629400" y="2971800"/>
          <a:ext cx="1905120" cy="14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29400" y="2971800"/>
                    <a:ext cx="190512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harakteristika der ooP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lles ist ein Objekt (mit eigenen Eigenschaftswerten (Variablen) und bestimmtem Verhalten (Methoden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n erfassen das Verhalten und die Eigenschaften von gleichartigen Objek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edes Objekt ist die Instanz einer K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 objektorientiertes Programm besteht aus einer Menge von kommunizierenden Objek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JAVA ist vom Sprachkonzept her vollständig objektorientiert. Außer primitiven Datentypen (Zahlen,  usw.) gibt es keine Elemente, die nicht von der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abgeleitet s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st die Wurzelklasse in J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Übungsbeispiel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Überlegen Sie sich eine Klassenhierarchie und die zugehörigen Variablen und Methoden für die Erfassung von Personen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m Universitätsverwaltungs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m Sportver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m T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uebungen_5_illu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629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ch dieser Einheit sollten Sie wissen, ...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dass Eigenschaften einer Klasse vererbt werden könn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as Generalisierung und Spezialisierung bedeuten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ie eine Klassenhierarchie aufgebaut 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4241880"/>
            <a:ext cx="15238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2514600"/>
            <a:ext cx="51055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ererb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Generalis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pezialis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Klassenhierarc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412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erb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gl.: Inheritan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bedeutet das Weitergeben (Vererben) von Variablen und Method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kla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zw. das Erben von Variablen und Method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erklas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267080" y="2887560"/>
          <a:ext cx="4330800" cy="30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87560"/>
                    <a:ext cx="433080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gleiche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Eigenschaften werden in einer Superklasse zusammengefasst, 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spezielle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Methoden und Variablen in einer Subklasse. Die Subklasse erweitert (spezialisiert) die Superklasse, z.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Klasse </a:t>
            </a:r>
            <a:r>
              <a:rPr b="0" i="1" lang="de-AT" sz="2200" spc="-1" strike="noStrike">
                <a:solidFill>
                  <a:srgbClr val="000000"/>
                </a:solidFill>
                <a:latin typeface="Courier New"/>
              </a:rPr>
              <a:t>Lebewesen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- Eigenschaften: 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Geburtsdatum,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Subklasse 1: </a:t>
            </a:r>
            <a:r>
              <a:rPr b="0" i="1" lang="de-AT" sz="22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- Erweiterung: Eigenschaft: 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Beruf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Subklasse 2: </a:t>
            </a:r>
            <a:r>
              <a:rPr b="0" i="1" lang="de-AT" sz="2200" spc="-1" strike="noStrike">
                <a:solidFill>
                  <a:srgbClr val="000000"/>
                </a:solidFill>
                <a:latin typeface="Courier New"/>
              </a:rPr>
              <a:t>Hund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- Erweiterung: Eigenschaft: </a:t>
            </a:r>
            <a:r>
              <a:rPr b="0" lang="de-AT" sz="2200" spc="-1" strike="noStrike">
                <a:solidFill>
                  <a:srgbClr val="000000"/>
                </a:solidFill>
                <a:latin typeface="Courier New"/>
              </a:rPr>
              <a:t>Ras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Jede Subklass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erbt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die Variablen- und Methodendeklarationen von ihrer Superklas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Subklassen können die geerbten Methoden und Variablen auch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erweitern</a:t>
            </a: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 und spezialisiertere Methoden und Variablen implementier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Arial"/>
              </a:rPr>
              <a:t>Je weiter unten in der Hierarchie eine Klasse aufscheint, desto spezieller ist s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uperklasse - Klasse - Instanz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4120" y="35053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920" y="2057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per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472428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stanzen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Klasse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1960" y="472428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stanzen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Klasse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1743120"/>
          <a:ext cx="541008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43120"/>
                    <a:ext cx="541008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: WU-Verwalt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ersonen an der W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ariablen: name, gebDatum, matrNr, stu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ethoden: inskribieren, lvBesuchen, spon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Assistent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ariablen: name, gebDatum, svNr, eintrittdatum, abteilung, 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ethoden: lehren, prüfen, publizieren, verdienen, promo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ProfessorIn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ariablen: name, gebDatum, svNr,  eintrittdatum, abteilung, 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ethoden: leiten, lehren, prüfen, publizieren, verdi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Nicht wissenschaftlicher Mitarbei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ariablen: name, gebDatum, svNr,  eintrittdatum, abtei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ethoden: verwalten, berichten, kopieren, verdi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: WU-Verwaltung Verer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08000" y="1341360"/>
          <a:ext cx="554364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5436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501300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n mit gemeinsamen und teilweise unterschiedlichen Eigenschaften und Verhalten müssen nicht zur Gänze neu definiert wer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133720"/>
            <a:ext cx="304920" cy="838080"/>
          </a:xfrm>
          <a:prstGeom prst="upArrow">
            <a:avLst>
              <a:gd name="adj1" fmla="val 50000"/>
              <a:gd name="adj2" fmla="val 687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867280" y="3429000"/>
            <a:ext cx="304920" cy="838080"/>
          </a:xfrm>
          <a:prstGeom prst="upArrow">
            <a:avLst>
              <a:gd name="adj1" fmla="val 50000"/>
              <a:gd name="adj2" fmla="val 687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3560" y="2438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eneral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5000" y="350532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pezial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2767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bklassen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tudent, 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9969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perklasse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Person an der W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1773360"/>
          <a:ext cx="3960720" cy="29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773360"/>
                    <a:ext cx="396072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erbung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Tier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41080" y="1828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3400" y="160020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Klassen-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91120" y="3848040"/>
            <a:ext cx="3886200" cy="20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209680" y="1523880"/>
          <a:ext cx="1946520" cy="441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523880"/>
                    <a:ext cx="194652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324480" y="1523880"/>
          <a:ext cx="1827360" cy="140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1523880"/>
                    <a:ext cx="182736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usanne Guth</cp:lastModifiedBy>
  <cp:lastPrinted>2001-09-26T08:38:46Z</cp:lastPrinted>
  <dcterms:modified xsi:type="dcterms:W3CDTF">2003-05-02T13:17:30Z</dcterms:modified>
  <cp:revision>359</cp:revision>
  <dc:subject/>
  <dc:title>Grundlagen der Programmierung - Vererb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susanne.guth@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