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3328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332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38332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5256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5256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332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38332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38332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09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332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38332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3328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38160">
            <a:solidFill>
              <a:srgbClr val="104c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0400" y="6400800"/>
            <a:ext cx="6171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04c88"/>
                </a:solidFill>
                <a:latin typeface="Arial"/>
              </a:rPr>
              <a:t>Grundzüge der Programmierung - Programmcode, © Guth, Kaukal, Klimesch 2000-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4216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810920" y="6261120"/>
            <a:ext cx="13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3516-42F7-48B2-8298-C60F974B849A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8088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104c88"/>
                </a:solidFill>
                <a:latin typeface="Arial"/>
              </a:rPr>
              <a:t>Grundzüge der Programmierung</a:t>
            </a:r>
            <a:endParaRPr b="1" lang="en-US" sz="40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362320"/>
            <a:ext cx="541008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Arial"/>
              </a:rPr>
              <a:t>PROGRAMM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8080" y="1676520"/>
          <a:ext cx="180036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180036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ie Methode „</a:t>
            </a:r>
            <a:r>
              <a:rPr b="1" lang="de-AT" sz="4400" spc="-1" strike="noStrike">
                <a:solidFill>
                  <a:srgbClr val="104c88"/>
                </a:solidFill>
                <a:latin typeface="Courier New"/>
              </a:rPr>
              <a:t>main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“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Methode „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“ ist jene Methode, die zum Programmstart ausgeführt wird. Sie kann wiederum andere Methoden aufruf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(String[]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ar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Methode ''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'' 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7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(=öffentlich, für alle verfügbar) un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(statisch, immer verfügbar und nicht änderbar) definiert und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72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arameter (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String[] args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) un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72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einen Rückgabewert (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engl.: leer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Blöck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In Java wird die Quellcode-Datei in Teile geteilt, die durch öffnende und schließende geschwungene Klammern { } getrennt si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Alles zwischen { und } ist ei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. Damit werden zusammengehörige Anweisungen gruppie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Durch diese Strukturierung wird der Code u.a. leichter lesb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Blöcke können verschachtelt sein und andere Blöcke beinhalten.</a:t>
            </a:r>
            <a:br>
              <a:rPr sz="2200"/>
            </a:b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z.B: 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HelloWorld.ja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äußerer Block für die Klassendefinition, welcher e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neren Block der Main-Methode beinhalt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Ein Block sollte zur besseren Lesbarkeit eingerückt we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as JDK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800100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Java Software Development Kit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(SDK) beinhaltet die Software und Tools, die von Entwicklern benötigt werden, um Quellcode zu kompilieren, zu debuggen und auszufüh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JDK Software und Dokumentation inklud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grundlegende Entwicklungstool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ine große Menge an Klassen-Bibliothek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248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und ist gratis verfüg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705720" y="4876920"/>
            <a:ext cx="1212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Java 2 Platform Standard Edition</a:t>
            </a:r>
            <a:endParaRPr b="1" lang="en-US" sz="36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0960" cy="243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Java 2 Software Development Kit (SD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eit Ende 1998 Ersatz für Java 1.2 und höher (derzeit 1.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http://java.sun.com/j2s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553080" y="3559320"/>
            <a:ext cx="16002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Bestandteile JDK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ompiler (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javac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ppletviewer (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appletviewer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ytecode Interpreter (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62426" b="0"/>
          <a:stretch/>
        </p:blipFill>
        <p:spPr>
          <a:xfrm>
            <a:off x="2438280" y="3244680"/>
            <a:ext cx="2971800" cy="2756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 flipV="1">
            <a:off x="4191120" y="4267080"/>
            <a:ext cx="1447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70800" y="4092480"/>
            <a:ext cx="2279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usführbare Program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572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87280" y="4800600"/>
            <a:ext cx="2010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Header für C und C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4000" y="4473720"/>
            <a:ext cx="2922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eispielprogramme und Appl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4724280"/>
            <a:ext cx="1295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4952880"/>
            <a:ext cx="1447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5080" y="5083200"/>
            <a:ext cx="2477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000" spc="-1" strike="noStrike">
                <a:solidFill>
                  <a:srgbClr val="104c88"/>
                </a:solidFill>
                <a:latin typeface="Arial"/>
              </a:rPr>
              <a:t>Installation und Konfiguration</a:t>
            </a:r>
            <a:endParaRPr b="1" lang="en-US" sz="40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JDK herunterladen und install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auf das bin-Verzeichnis 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et PATH=“C:\....\jdk1.x\bin“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Autoexec.b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CLASSPATH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ist in der aktuellen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Version nicht mehr zu setzen.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Arial"/>
              </a:rPr>
              <a:t>Ausführliche Information zur gerade aktuellen Version liefern die Installationshinweise von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ff0000"/>
                </a:solidFill>
                <a:latin typeface="Arial"/>
              </a:rPr>
              <a:t>(http://java.sun.com)</a:t>
            </a:r>
            <a:r>
              <a:rPr b="0" lang="de-AT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0" y="1981080"/>
            <a:ext cx="1160640" cy="1295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14400" y="579132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un‘s Installationshinweise für Wind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http://java.sun.com/j2se/1.4/install-window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Schritte vom Code zur Programmausführung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Abspeichern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des Codes unter dem Namen der Hauptklasse, Erweiterung “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.java“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.  (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HelloWorld.j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Kompilieren </a:t>
            </a:r>
            <a:br>
              <a:rPr sz="24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javac HelloWorld.java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ytecode-Datei HelloWorld.class wird erzeug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Ausführen</a:t>
            </a:r>
            <a:br>
              <a:rPr sz="24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java Hello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usgabe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&gt; Hello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6530" t="0" r="0" b="0"/>
          <a:stretch/>
        </p:blipFill>
        <p:spPr>
          <a:xfrm>
            <a:off x="3581280" y="3657600"/>
            <a:ext cx="5334120" cy="1728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5240" y="5867280"/>
            <a:ext cx="73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Arial"/>
              </a:rPr>
              <a:t>http://java.sun.com/docs/books/tutorial/getStarted/cupojava/win32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1880" y="533232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S DOS-Fen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457200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ufgab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9880"/>
            <a:ext cx="777096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etzen Sie sich in den Übungsraum PC 6 im UZA II und versuchen Sie die beiden Übungsbeispiele zu implementieren und auszufüh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uchen Sie das jdk-Verzeichnis und setzen Sie die “PATH“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Nach dieser Einheit sollten Sie wissen, ...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welche Programmelemente ein Programm enthält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was Anweisungen sind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wie diese zusammengefasst werden können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wie ein Programm strukturiert wird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und wie Sie Ihr Programm </a:t>
            </a:r>
            <a:r>
              <a:rPr b="0" lang="de-AT" sz="2600" spc="-1" strike="noStrike">
                <a:solidFill>
                  <a:srgbClr val="000000"/>
                </a:solidFill>
                <a:latin typeface="Courier New"/>
              </a:rPr>
              <a:t>HelloWorld</a:t>
            </a: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 erstellen, kompilieren und ausführen könn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nhalt dieser Einhei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3167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Programm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Der erste Programm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Das Java Software Development Kit (SD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Installation von J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Vom Code zum Ausführen des Program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Wiederholung: Java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6477120" cy="45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Write once, run everywhere!“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(unabhängig von Hardware,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etriebssystem etc.): der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rogrammcode wird zu unabhängigem Bytecode kompiliert, der von der Java-Virtual Machine (JVM) des Zielsystems interpretiert und ausgeführt wir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75276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467480" y="2362320"/>
            <a:ext cx="69552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705720" y="1523880"/>
            <a:ext cx="6379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000" spc="-1" strike="noStrike">
                <a:solidFill>
                  <a:srgbClr val="104c88"/>
                </a:solidFill>
                <a:latin typeface="Arial"/>
              </a:rPr>
              <a:t>Wiederholung: Algorithmus</a:t>
            </a:r>
            <a:endParaRPr b="1" lang="en-US" sz="40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Algorithmus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ist eine Arbeitsanleitung zur Lösung eines Problems, die so präzise formuliert ist, dass sie von einem Computer ausgeführt werden kan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r besteht 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4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elementaren Anweis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4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in einer geeigneten Spra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4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die sequentiell (schrittweise) durchgeführt we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 in einer für Menschen verständlichen Sprache  beschriebene Algorithmus wird dann in eine Programmier-sprache (hier: JAVA) transferi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Quelltext (auch Quellcode) bezeichnet einen in einer Programmiersprache codierten Algorith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rogrammelement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Anweis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lementarste ausführbare Programmele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erden mit Semikolon (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''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''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beend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Anweisu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Blö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Reihe von Anwei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irkt nach außen hin wie 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Anwei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erden von geschwungenen Klammern umgren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{ Anweisung;Anweisung;...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Programmelemente / 2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7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87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pezielle Programmelemente der 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K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4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rundlegende Strukturierungseinheit eines objektorientierten Program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4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class HelloWor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Me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4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lock, der über einen Namen aufrufb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4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ann Aufrufparameter bein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4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ann Rückgabewerte bein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4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.B.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String[]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43800" y="1447920"/>
            <a:ext cx="1428840" cy="1447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as erste Programm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class HelloWorld 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public static void main (String[] arg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System.out.println(“Hello world“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llco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rd mit Hilfe eines Editors (WordPad) oder einer Entwicklungsumgebung (JDK – Java Development Kit) geschri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51560" y="42670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nweis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886200" y="3962520"/>
            <a:ext cx="91440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2440" y="1905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eth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52880" y="21337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45080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429000" y="1730520"/>
            <a:ext cx="137160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Java ist case-sensitiv!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chtu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n der Programmiersprache Java haben Texte, die bis auf die Groß- und Kleinschreibung identisch sind, eine unterschiedliche Bedeut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.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HelloWorld &lt;&gt; helloworld &lt;&gt; Helloworld &lt;&gt; helloWorld &lt;&gt;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Anmerk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Großbuchstabe (</a:t>
            </a:r>
            <a:r>
              <a:rPr b="1" i="1" lang="de-AT" sz="1600" spc="-1" strike="noStrike">
                <a:solidFill>
                  <a:srgbClr val="000000"/>
                </a:solidFill>
                <a:latin typeface="Arial"/>
              </a:rPr>
              <a:t>engl.: upper-case</a:t>
            </a: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) Kleinbuchstabe (</a:t>
            </a:r>
            <a:r>
              <a:rPr b="1" i="1" lang="de-AT" sz="1600" spc="-1" strike="noStrike">
                <a:solidFill>
                  <a:srgbClr val="000000"/>
                </a:solidFill>
                <a:latin typeface="Arial"/>
              </a:rPr>
              <a:t>engl.: lower case</a:t>
            </a: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Untersuchung: </a:t>
            </a:r>
            <a:r>
              <a:rPr b="1" lang="de-AT" sz="4400" spc="-1" strike="noStrike">
                <a:solidFill>
                  <a:srgbClr val="104c88"/>
                </a:solidFill>
                <a:latin typeface="Courier New"/>
              </a:rPr>
              <a:t>HelloWorld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class HelloWorld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: Haupt</a:t>
            </a: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klasse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mit dem Namen Hello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Methode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: Haupt</a:t>
            </a: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methode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. Hier startet die Applik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: Anweisung an die Klasse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und die zugehörige Variable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, die Methode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(“print line“) auszuführen.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veranlasst die Ausgabe einer Zeichenkette, die durch ein Zeilensendezeichen abgeschlossen wir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2:38:33Z</dcterms:created>
  <dc:creator>Susanne Guth, Rainer Klimesch, Marion Kaukal</dc:creator>
  <dc:description/>
  <dc:language>en-US</dc:language>
  <cp:lastModifiedBy>Susanne Guth</cp:lastModifiedBy>
  <cp:lastPrinted>2001-09-26T08:48:52Z</cp:lastPrinted>
  <dcterms:modified xsi:type="dcterms:W3CDTF">2003-05-02T13:18:48Z</dcterms:modified>
  <cp:revision>365</cp:revision>
  <dc:subject/>
  <dc:title>Java - Erstes Programmbeispiel "Hello World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nm.wu-wien.ac.at/java/</vt:lpwstr>
  </property>
  <property fmtid="{D5CDD505-2E9C-101B-9397-08002B2CF9AE}" pid="9" name="LinkColor">
    <vt:r8>16711782</vt:r8>
  </property>
  <property fmtid="{D5CDD505-2E9C-101B-9397-08002B2CF9AE}" pid="10" name="MailAddress">
    <vt:lpwstr>susanne.guth@wu-wien.ac.a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NeueMedien\java\FolienSS0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