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09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3360" y="6400800"/>
            <a:ext cx="641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– Hello World (Linux)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34680" y="6261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256-93DF-4F1C-930E-B07EC9FB41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981080"/>
            <a:ext cx="58658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104c88"/>
                </a:solidFill>
                <a:latin typeface="Arial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Anleitung für Linu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752480"/>
          <a:ext cx="16210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1621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61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tarten des Linuxrechner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Linux-Rechner star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inlo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52070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tarten der Textkonso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Textkonsole st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71800" y="2027160"/>
            <a:ext cx="5334120" cy="4267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71800" y="3429000"/>
            <a:ext cx="973080" cy="266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62520" y="2819520"/>
            <a:ext cx="99036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tarten des Editor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ditor starten (z.B.: kwrite + FileName)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kwrite HelloWorld.java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2425680"/>
            <a:ext cx="67820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ogrammie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Programmcode eing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ompilieren und Ausführ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Code kompilieren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c ProgrammCodeFileNam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ByteCode interpretieren 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(=Programm ausführen)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 ProgrammCodeFi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3824280"/>
            <a:ext cx="67816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ortei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e müssen keine Pfade set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hre Dateien liegen in Ihrem WU-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angenehmer Editor mit Syntax-Highlight steht zur Verfüg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e können Erfahrungen mit anderen Betriebssystemen sammel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8:49:09Z</cp:lastPrinted>
  <dcterms:modified xsi:type="dcterms:W3CDTF">2003-05-02T19:18:13Z</dcterms:modified>
  <cp:revision>346</cp:revision>
  <dc:subject/>
  <dc:title>Java - Hello World für Linu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