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5481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091695-D05F-4D9E-98FE-C9BF8FF88517}" type="datetime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4c88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8960" y="471924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396960" y="9433080"/>
            <a:ext cx="339732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FB705F-BFD9-4A82-ADC1-275F2D67886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1924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Was bedeutet zur Laufze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8960" y="471924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8+32+64+1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855-CF58-4157-BCB4-36055159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1CE3-09BF-4CE5-A0B2-0AE8A1C6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9B9-C9BF-433A-AF16-73359177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3AB-A4FB-4D84-A872-F83C6A45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6072-AC5B-4F3D-AADD-2AA2CB69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B13-58B0-46DF-B18C-C32FA0F2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EA2-2D3B-4E55-A7DA-424D69FA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EDE-C2F4-47BB-8C3F-5B59A6AE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46E-F27E-4D77-81B7-7BCC6857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A6AF-F48A-4F3A-AF31-DC7FE529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6FA-D56D-4123-BA5D-6D1E6178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B4F-259C-4D0A-B179-5F342F39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4c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4D41-7B7D-49FE-8A63-B29EC7DB21A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2D97-EEF6-41B8-8E6E-847A4B9F3019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38160">
            <a:solidFill>
              <a:srgbClr val="104c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00800"/>
            <a:ext cx="7315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04c88"/>
                </a:solidFill>
                <a:latin typeface="Arial"/>
              </a:rPr>
              <a:t>Grundzüge der Programmierung – Variablen und Datentypen, © Guth, Kaukal, Klimesch 2000-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46479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VARIABLEN und DATENTYP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90920" y="2590920"/>
            <a:ext cx="5333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104c88"/>
                </a:solidFill>
                <a:latin typeface="Arial"/>
              </a:rPr>
              <a:t>Klassendefinition und Instanziie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Grundzüge der Programmi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520" y="2133720"/>
          <a:ext cx="152856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15285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D793-3295-477B-A9CD-7FB0345607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rimitive Datentyp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752480"/>
            <a:ext cx="7620120" cy="43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Ganze Zahlen</a:t>
            </a: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byte, short, int,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Gleitkomma (Reelle-) Zahlen</a:t>
            </a: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float, d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eichen</a:t>
            </a: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ahrheitswerte</a:t>
            </a: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boolean (true/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 Datentypen und ihre Eigenschaften (Größe, Genauigkeit) hängen nicht vom jeweiligen Computersystem ab, sondern sind in Java einheitlich festgele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484-E01A-45BF-ACF4-A393328666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rimitive Datentypen (forts.)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52280" y="1905120"/>
          <a:ext cx="86868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8686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D30-1BC7-4798-B46F-4D02ACBE19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Ganze Zahlen</a:t>
            </a:r>
            <a:br>
              <a:rPr sz="4400"/>
            </a:br>
            <a:r>
              <a:rPr b="1" lang="de-AT" sz="2400" spc="-1" strike="noStrike">
                <a:solidFill>
                  <a:srgbClr val="104c88"/>
                </a:solidFill>
                <a:latin typeface="Arial"/>
              </a:rPr>
              <a:t>(Primitive Datentypen)</a:t>
            </a:r>
            <a:endParaRPr b="1" lang="en-US" sz="2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atentypen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Operationen: Operanden und Ergebniswert sind ganze Z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+ (Add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- (Subtrak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* Multipl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/ Ganzzahl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% Restbildung (modu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eispiele: 1, 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weitere Operatoren fol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126-1CB8-4471-8FF7-3E5D66ED5A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Gleitkommazahlen</a:t>
            </a:r>
            <a:br>
              <a:rPr sz="4400"/>
            </a:br>
            <a:r>
              <a:rPr b="1" lang="de-AT" sz="2400" spc="-1" strike="noStrike">
                <a:solidFill>
                  <a:srgbClr val="104c88"/>
                </a:solidFill>
                <a:latin typeface="Arial"/>
              </a:rPr>
              <a:t>(Primitive Datentypen)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Datentypen 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float, d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Operationen: Operanden und Ergebniswert sind Gleitkommazah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+ (Add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- (Subtrak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* Multiplik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/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Beispiel: 2.77, 1.0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weitere Operatoren fol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943600" y="3733920"/>
            <a:ext cx="1905120" cy="177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AD35-7918-4F28-B3EE-0317BB948D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Gleitkommazahlen (forts.)</a:t>
            </a:r>
            <a:br>
              <a:rPr sz="4400"/>
            </a:br>
            <a:r>
              <a:rPr b="1" lang="de-AT" sz="2400" spc="-1" strike="noStrike">
                <a:solidFill>
                  <a:srgbClr val="104c88"/>
                </a:solidFill>
                <a:latin typeface="Arial"/>
              </a:rPr>
              <a:t>(Primitive Datentypen)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Arial"/>
              </a:rPr>
              <a:t>Gemischte“ Operationen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st einer der Operanden ein Gleitkommatyp und einer ein Ganzzahltyp, so wird der Ganzzahltyp </a:t>
            </a: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implizit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in einen Gleitkommatyp </a:t>
            </a: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umgewandelt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3.4+4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). Das Ergebnis ist eine Gleitkommazahl (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7.4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317-095F-4596-B4BE-90BBA2E65A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Zeichen</a:t>
            </a:r>
            <a:br>
              <a:rPr sz="4400"/>
            </a:br>
            <a:r>
              <a:rPr b="1" lang="de-AT" sz="2400" spc="-1" strike="noStrike">
                <a:solidFill>
                  <a:srgbClr val="104c88"/>
                </a:solidFill>
                <a:latin typeface="Arial"/>
              </a:rPr>
              <a:t>(Primitive Datentypen)</a:t>
            </a:r>
            <a:endParaRPr b="1" lang="en-US" sz="2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391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atentyp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Operationen: Operanden und Ergebniswert sind Zeichen oder Zeichenk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+ (Verket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‘a‘, ‘z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eitere mögliche Werte für Character-Datentypen auf der nächsten Fo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540-F545-46B8-A801-076CBB4451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Zeichen (forts.)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Tastatur-, Unicode oder Oktal-Zeichen in einfachen Hochko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Tastaturzeichen ‘Z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Unicode-Zeichen ‘\u005A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Oktal-Zeichen ‘\132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onderzeichen (Escape-Sequenz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\b‘ Backsp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\“‘  Doppeltes Hochko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\n‘ linefeed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\\‘ Backs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\r‘ carriage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\‘‘ Einfaches Hochko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\t‘ Tab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C69-E2D9-494E-8966-4462779223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Wahrheitswerte</a:t>
            </a:r>
            <a:br>
              <a:rPr sz="4400"/>
            </a:br>
            <a:r>
              <a:rPr b="1" lang="de-AT" sz="2400" spc="-1" strike="noStrike">
                <a:solidFill>
                  <a:srgbClr val="104c88"/>
                </a:solidFill>
                <a:latin typeface="Arial"/>
              </a:rPr>
              <a:t>(Primitive Datentypen)</a:t>
            </a:r>
            <a:endParaRPr b="1" lang="en-US" sz="2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597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atentyp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Operationen: Vergleiche und logische Operationen, Ergebniswert sind wieder Wahrheitsw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Vergl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a==b </a:t>
            </a: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(gleich: a ist gleich 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a!=b</a:t>
            </a: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 (ungleich: a ist nicht gleich b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ogisch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a &amp;&amp; b</a:t>
            </a: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 (logisches UND: a ist wahr </a:t>
            </a:r>
            <a:r>
              <a:rPr b="0" lang="de-AT" sz="2200" spc="-1" strike="noStrike" u="sng">
                <a:solidFill>
                  <a:srgbClr val="000000"/>
                </a:solidFill>
                <a:uFillTx/>
                <a:latin typeface="Arial"/>
              </a:rPr>
              <a:t>und</a:t>
            </a: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 b ist wah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a || b</a:t>
            </a: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 (logisches ODER: a ist wahr </a:t>
            </a:r>
            <a:r>
              <a:rPr b="0" lang="de-AT" sz="2200" spc="-1" strike="noStrike" u="sng">
                <a:solidFill>
                  <a:srgbClr val="000000"/>
                </a:solidFill>
                <a:uFillTx/>
                <a:latin typeface="Arial"/>
              </a:rPr>
              <a:t>oder</a:t>
            </a: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 b ist wah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! a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  (logisches NICHT: a ist nicht wah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ögliche Werte: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‘true‘, ‘false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866-8F8E-4FE2-9E87-8BAA7A9978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Wah</a:t>
            </a: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r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eitswerte (forts.)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&lt; (klein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&lt;= (kleiner oder glei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== (glei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!= (unglei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&gt;= (größer oder glei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&gt; (größ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0120" y="152280"/>
            <a:ext cx="1218960" cy="1136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14800" y="1600200"/>
            <a:ext cx="4572000" cy="184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ergleich von Integer-Variab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a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b = 2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bool = a &lt;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77720" y="3575160"/>
            <a:ext cx="31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rgebniswert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8960" y="3870360"/>
            <a:ext cx="32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Tahoma"/>
              </a:rPr>
              <a:t>siehe RelationalDemo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4572000"/>
            <a:ext cx="7848720" cy="8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 logische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bool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(1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a) &amp;&amp; (2 &gt;= b)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1000" y="5638680"/>
            <a:ext cx="33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Ergebniswert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008-C2CD-470D-AB28-D8ED2AE0BA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104c88"/>
                </a:solidFill>
                <a:latin typeface="Arial"/>
              </a:rPr>
              <a:t>Deklaration u.  Initialisierung</a:t>
            </a:r>
            <a:br>
              <a:rPr sz="4000"/>
            </a:br>
            <a:r>
              <a:rPr b="1" lang="de-AT" sz="2400" spc="-1" strike="noStrike">
                <a:solidFill>
                  <a:srgbClr val="104c88"/>
                </a:solidFill>
                <a:latin typeface="Arial"/>
              </a:rPr>
              <a:t>Primitive Datentypen</a:t>
            </a:r>
            <a:endParaRPr b="1" lang="en-US" sz="2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07732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k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Courier New"/>
              </a:rPr>
              <a:t>typ nam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.B.: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geha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a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ehrere Variable vom selben Ty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Courier New"/>
              </a:rPr>
              <a:t>typ name1, name2, name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.B.: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gehalt, lohn, provis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ertzu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i="1" lang="de-AT" sz="2400" spc="-1" strike="noStrike">
                <a:solidFill>
                  <a:srgbClr val="000000"/>
                </a:solidFill>
                <a:latin typeface="Courier New"/>
              </a:rPr>
              <a:t>wer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.B.: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gehalt = 3000; provision = 2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an = tru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330-9E00-48BB-99FE-4AE0435759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Inhalt dieser Einhei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35280" y="1700280"/>
            <a:ext cx="698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Variablen (Sinn und Aufga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Gültigkeitsbere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rten von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Primitive Datentypen vs.Objektty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atentypen, Deklaration und Operationen v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byte, short, int, long, float, double, boolean, 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Typenumwandlung (implizit/expliz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ezeich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ommentare im Quell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141300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94B-D8C7-436A-B54E-2E3AACDAB1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klaration mit Initialis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gehalt = 300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rovision = 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= 0.00000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zeichen = ’a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aus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en Wert mehreren Variablen zuwe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a=b=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ugriff auf Variablenw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gehalt = gehalt + provis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ystem.out.println(“Gehalt: “+gehal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104c88"/>
                </a:solidFill>
                <a:latin typeface="Arial"/>
              </a:rPr>
              <a:t>Deklaration u. Initialisierung (forts.)</a:t>
            </a:r>
            <a:br>
              <a:rPr sz="3600"/>
            </a:br>
            <a:r>
              <a:rPr b="1" lang="de-AT" sz="2400" spc="-1" strike="noStrike">
                <a:solidFill>
                  <a:srgbClr val="104c88"/>
                </a:solidFill>
                <a:latin typeface="Arial"/>
              </a:rPr>
              <a:t>Primitive Datentypen</a:t>
            </a:r>
            <a:endParaRPr b="1" lang="en-US" sz="2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293-365A-426A-8650-9CB85A12C1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rimitive Datentypen </a:t>
            </a:r>
            <a:br>
              <a:rPr sz="4400"/>
            </a:br>
            <a:r>
              <a:rPr b="1" lang="de-AT" sz="3600" spc="-1" strike="noStrike">
                <a:solidFill>
                  <a:srgbClr val="104c88"/>
                </a:solidFill>
                <a:latin typeface="Arial"/>
              </a:rPr>
              <a:t>Initialisierung</a:t>
            </a:r>
            <a:endParaRPr b="1" lang="en-US" sz="36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Automatische Initialisierung der primitiven Datenty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Zahlen: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0 bzw. 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Wahrheitswerte: 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Zeichen: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besser: explizite Initialis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provision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B74-A373-4B95-890C-0E6DC47F3B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Datentypen-Beispiel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ArithmeticDemo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ublic static void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main(String[] args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i = </a:t>
            </a:r>
            <a:r>
              <a:rPr b="0" lang="de-AT" sz="2000" spc="-1" strike="noStrike">
                <a:solidFill>
                  <a:srgbClr val="3333cc"/>
                </a:solidFill>
                <a:latin typeface="Courier New"/>
              </a:rPr>
              <a:t>37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j = </a:t>
            </a:r>
            <a:r>
              <a:rPr b="0" lang="de-AT" sz="2000" spc="-1" strike="noStrike">
                <a:solidFill>
                  <a:srgbClr val="3333cc"/>
                </a:solidFill>
                <a:latin typeface="Courier New"/>
              </a:rPr>
              <a:t>42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x = 27.475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y = 7.2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Variablenwerte...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 i = 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+ i);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 j = 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+ j);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 x = 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+ x);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 y = 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+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Addieren...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 i + j = 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+ (i + j));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 x + y = 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+ (x + y));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2438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240" y="2589120"/>
            <a:ext cx="171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ariablen-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eklar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3733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79160" y="3884760"/>
            <a:ext cx="187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usgabe der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ariablenw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5105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7880" y="541512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F60-5686-492D-BCD0-D4B25E25D8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Datentypen-Beispiel Teil2 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58868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Subtrahieren...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); 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 i - j = 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+ (i - j)); 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 x - y = 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+ (x - y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Multiplizieren...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); 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 i * j = 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+ (i * j)); 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 x * y = 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+ (x * y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Dividieren...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); 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 i / j = 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+ (i / j)); 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 x / y = 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+ (x / y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“Restwertbestimmung...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 i % j = 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+ (i % j)); 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 j % i = 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+ (j % i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Vermischte Typen...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); 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 j + y = 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+ (j + y)); System.out.println(</a:t>
            </a:r>
            <a:r>
              <a:rPr b="0" lang="de-AT" sz="2000" spc="-1" strike="noStrike">
                <a:solidFill>
                  <a:srgbClr val="ff0000"/>
                </a:solidFill>
                <a:latin typeface="Courier New"/>
              </a:rPr>
              <a:t>" i * x = "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+ (i * x));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08920" y="19699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84880" y="2050920"/>
            <a:ext cx="15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ubtra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84880" y="273204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84880" y="304164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ultipl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89800" y="3646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66120" y="3727440"/>
            <a:ext cx="11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13480" y="4637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66120" y="4794120"/>
            <a:ext cx="7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13480" y="5475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89800" y="54817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gemischte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tenty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6D0-FB32-4C91-A688-88020D0087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usgabe des Programms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ariablenwerte...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 = 37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 = 42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 = 27.475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y = 7.22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ddieren...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 + j = 79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 + y = 34.695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ubtrahieren...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 - j = -5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 - y = 20.255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ultiplizieren...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 * j = 1554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 * y = 198.37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1828800"/>
            <a:ext cx="2971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idieren...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 / j = 0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 / y = 3.8054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Restwertbestimmung...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 % j = 37 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 % i =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mischte Typen... 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 + y = 49.22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 * x = 1016.5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08440" y="5721480"/>
            <a:ext cx="32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Tahoma"/>
              </a:rPr>
              <a:t>siehe ArithmeticDemo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9D4-A3A3-43F0-8444-E13E5D02E5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104c88"/>
                </a:solidFill>
                <a:latin typeface="Arial"/>
              </a:rPr>
              <a:t>Konstanten </a:t>
            </a:r>
            <a:endParaRPr b="1" lang="en-US" sz="4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onstante ist </a:t>
            </a:r>
            <a:r>
              <a:rPr b="0" lang="de-AT" sz="2400" spc="-1" strike="noStrike" u="sng">
                <a:solidFill>
                  <a:srgbClr val="000000"/>
                </a:solidFill>
                <a:uFillTx/>
                <a:latin typeface="Arial"/>
              </a:rPr>
              <a:t>kein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weiterer Datenty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erte von Konstanten bleiben während des gesamten Programmablaufes gleich. Sie werden mit dem Schlüsselwort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klarie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kla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typ NAME = Wert;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PI = 3.141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Versuch den Wert einer Konstanten zu überschreiben liefert folgenden Fehl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952880"/>
            <a:ext cx="78483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</a:rPr>
              <a:t>A1GetGoing.java:22: cannot assign a value to final variable 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</a:rPr>
              <a:t>PI = 3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</a:rPr>
              <a:t>1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516-8935-4240-95A0-BFCBDE9FF1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248520" y="4038480"/>
            <a:ext cx="1419120" cy="2143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Objekt-Typ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String, Tier, Buch, Bank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Alle als Klassen definierte Ty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Objekt-Datentyp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hre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Eigenschafte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erden in späteren Kapiteln detailliert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vorgestel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42A-F1A1-480A-9E6D-6EC1460507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Typumwandlungen (Casting)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Java ist streng typisiert, Variablen dürfen nur Werte vom deklarierten Typ zugewiesen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Vergleichsoperatoren vergleichen nur Ausdrücke gleichen Ty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ein Casting für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und nicht-primitive Ty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s gibt implizite und explizite Typumwand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kurz =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lang = kurz; </a:t>
            </a:r>
            <a:r>
              <a:rPr b="1" lang="de-AT" sz="2400" spc="-1" strike="noStrike">
                <a:solidFill>
                  <a:srgbClr val="00cc99"/>
                </a:solidFill>
                <a:latin typeface="Courier New"/>
              </a:rPr>
              <a:t>//impliz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lang= (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)kurz; </a:t>
            </a:r>
            <a:r>
              <a:rPr b="1" lang="de-AT" sz="2400" spc="-1" strike="noStrike">
                <a:solidFill>
                  <a:srgbClr val="00cc99"/>
                </a:solidFill>
                <a:latin typeface="Courier New"/>
              </a:rPr>
              <a:t>//expliz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longer = (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)kur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940-D187-48A1-BAA4-A9998B6481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Implizites Casting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n manchen Fällen wird automatisch vom Compiler umgewandelt (</a:t>
            </a: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implizite Typumwandlung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short --&gt; int --&gt;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float --&gt; 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Fixkomma --&gt; Gleitko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char --&gt;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eispiel:   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s = 3;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// s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i = s;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// i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l = i = s;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// l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g = 3 + i;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// g=6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b = ‘a‘;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// b=9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i = ‘z‘-‘a‘;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// i=25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*Ascii-Werte „lateinisch klein a“ =97, z=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4DE-4866-49A9-B53A-159C0A19DA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104c88"/>
                </a:solidFill>
                <a:latin typeface="Arial"/>
              </a:rPr>
              <a:t>Implizite Typvergrößerungen</a:t>
            </a:r>
            <a:endParaRPr b="1" lang="en-US" sz="40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Java nimmt diese Konversionen, falls nötig, bei Zuweisungen, Methoden- und Konstruktoraufrufen und bei der Auswertung von Ausdrücken implizit v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ach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hort, int, long, float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nach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int, long, float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nach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int, long, float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nach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nach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nach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ein Informationsverlu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A93-2C27-4083-A962-584DE3AA66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Variabl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 Objekt speichert seine Zustände in Instanzvariablen, Zwischenergebnisse, etc. in lokalen Variab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e Variable ist eine Dateneinheit von einem bestimmten Datentyp hat und einen N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Jeder Variablen wird ein bestimmter Speicherplatz (RAM) zugewiesen. Dort wird der Wert der Variable gespeiche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r Wert einer Variablen kann während der Laufzeit geänder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r Name ermöglicht den Zugriff auf den Inhalt der Variablen (Abfrage und Änderu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atentyp und Name der Variablen werden zu Beginn der Klassedefinition deklari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F09-B71B-44A5-9443-A235F1B6AD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Explizite Typumwandlung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67616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xplizite Angabe des umzuwandelnden Ty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d = 7.9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i = (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)d;  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/*i =7, da keine </a:t>
            </a:r>
            <a:br>
              <a:rPr sz="2000"/>
            </a:b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Nachkommastellen beim Datentyp int */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zahl = 330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s = (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)zahl; //s=-325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/*Zahl außerhalb des Wertebereic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  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33000 binär = 1000 0000 1110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  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Die erste Ziffer wird nun als Minusz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  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interpretiert und ergibt den Wert -3253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00cc99"/>
                </a:solidFill>
                <a:latin typeface="Courier New"/>
              </a:rPr>
              <a:t>(-32768 + 232)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0000"/>
                </a:solidFill>
                <a:latin typeface="Arial"/>
              </a:rPr>
              <a:t>ACHTUNG! </a:t>
            </a:r>
            <a:br>
              <a:rPr sz="2000"/>
            </a:br>
            <a:r>
              <a:rPr b="0" lang="de-AT" sz="2000" spc="-1" strike="noStrike">
                <a:solidFill>
                  <a:srgbClr val="ff0000"/>
                </a:solidFill>
                <a:latin typeface="Arial"/>
              </a:rPr>
              <a:t>Die Typverkleinerung kann zu falschen Werten führen, wenn der Wertebereich des Zieldatentyps nicht ausreicht, den Wert darzustell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AB1-922C-441C-B531-98F2562F18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104c88"/>
                </a:solidFill>
                <a:latin typeface="Arial"/>
              </a:rPr>
              <a:t>Implizite Typverkleinerungen</a:t>
            </a:r>
            <a:endParaRPr b="1" lang="en-US" sz="40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915920"/>
            <a:ext cx="8458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byte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ach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short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ach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byte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char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ach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byte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ach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byte, short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long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ach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byte, short, char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float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ach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byte, short, char, int,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ach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byte, short, char, int, long,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Typverkleinerungen können zu unvorhersehbarem </a:t>
            </a: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Informationsverlust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n Bezug auf Genauigkeit und Größenordnung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führen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. Daher bricht der Compiler mit Fehlermeldung 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EB3-321F-4180-9054-A2BF3C79B5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Bezeichner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Bezeichner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benennen Klassen, Objekte, Methoden, Variab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beginnen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mit Buchstaben, “_“ oder “$“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nschließend </a:t>
            </a: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folgen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Buchstaben, Ziffern, Unterstrich, Dollar und/oder Unicode-Zeichen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Zur besseren Lesbarkeit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wird eine einheitliche Form der Benennung der Klassen, Objekte, Methoden und Variablen empfoh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javateer" descr=""/>
          <p:cNvPicPr/>
          <p:nvPr/>
        </p:nvPicPr>
        <p:blipFill>
          <a:blip r:embed="rId1"/>
          <a:stretch/>
        </p:blipFill>
        <p:spPr>
          <a:xfrm>
            <a:off x="7315200" y="1600200"/>
            <a:ext cx="1444680" cy="145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A09-6360-4389-91B9-4FD4874865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Bezeichner (forts.)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Klassennamen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:  Der inoffizielle Standard in Java ist, dass man den ersten Buchstaben einer Klasse groß schreibt. Wenn eine Klasse mehrere Wörter beinhaltet, dann wird die Klassenbezeichnung zusammen-geschrieben. Jedes Wort beginnt mit einem Groß-buchstaben. z.B.: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MeineErsteK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Objekt-, Methoden- und Variablennamen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eginnen mit Kleinbuchstaben, Anfang jedes weiteren Wortes wird groß geschrieben. z.B.: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getNameFrom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Konstantennamen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omplett groß z.B.: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MAX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640-BEE7-4FEC-82C9-8BEC4A88A6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Kommentar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eschreibenden Text rund um Code verf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cc99"/>
                </a:solidFill>
                <a:latin typeface="Courier New"/>
              </a:rPr>
              <a:t>//  Text bis zum Zeilenende wird nicht kompili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cc99"/>
                </a:solidFill>
                <a:latin typeface="Courier New"/>
              </a:rPr>
              <a:t>/* ... Text bis zum nächsten */ wird nicht kompili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cc99"/>
                </a:solidFill>
                <a:latin typeface="Courier New"/>
              </a:rPr>
              <a:t>/** ... Text bis zum nächsten */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- diese Form dient der Kennzeichnung von JavaDoc-Kommentaren, die später elegant in HTML-Seiten umgewandelt werden können [Ecke00:122-129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E8E-DA41-49F4-8ED0-D3A94F2FDD0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Exkurs: Unicod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646520" cy="2438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2965320" cy="1366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876920" y="3505320"/>
            <a:ext cx="3863880" cy="1581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090400" y="29862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30280" y="53182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82920" y="5805360"/>
            <a:ext cx="43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ava code:</a:t>
            </a: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char c = ‘\u0060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4F65-1209-4081-B409-C871219CED5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Nach dieser Einheit sollten Sie ...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1856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Gültigkeitsbereiche von Variablen kenn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Die verschiedenen Arten von Variablen kenn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Primitive- und Objekt-Datentypen unterscheiden könn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alle primitiven Datentypen deren Initialisierung und gängigen Operation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Variablen verschiedenen Typs definieren, deren Typ umwandeln, und damit rechnen könn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Die Konventionen zur Bezeichnung von Variablen, Methoden und Klassen kenn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Den Quellcode mit Kommentaren bereichern könn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740720" y="1197000"/>
            <a:ext cx="1125360" cy="115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71F-B386-46A0-93FA-EBD3A808CC6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104c88"/>
                </a:solidFill>
                <a:latin typeface="Arial"/>
              </a:rPr>
              <a:t>Gültigkeit von Variablen</a:t>
            </a:r>
            <a:endParaRPr b="1" lang="en-US" sz="40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AT" sz="3200" spc="-1" strike="noStrike">
                <a:solidFill>
                  <a:srgbClr val="000000"/>
                </a:solidFill>
                <a:latin typeface="Arial"/>
              </a:rPr>
              <a:t>Gültigkeitsbereich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von Variablen bezeichnet jenen Teil eines Programms, in welchem die Variable referenziert (d.h. auf die Variablen zugegriffen) werden dar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Die Referenzierung geschieht durch einfache Angabe ihres Nam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F664-6171-4959-AE4B-DE266B8D2C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rten von Variabl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Instanzvariable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erden mit der Klasse außerhalb der Methoden deklariert. Jede Instanz der Klasse erhält eine eigene Kopie dieser Vari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Lokale Variable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erden innerhalb eines Blockes (Methode, Schleife, ...) deklariert und sind nur in diesem gült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Klassenvariable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erden wie Instanzvariable mit der Klasse deklariert, allerdings gibt es diese Variable in der gesamten Klasse nur ein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5423040"/>
            <a:ext cx="7713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 Instanz einer Klasse enthält eine Referenz auf ihre Instanzvariablen (=Objektvariabl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A6E6-D782-4BE9-AC8B-1A81335A4B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Ort der Variablendeklaratio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Ort der Variablendeklaration und Typisier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Arial"/>
              </a:rPr>
              <a:t>In einem Block: zu Begi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95120" indent="-46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n einer Methode: am Methodenbegi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5120" indent="-46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n einer Klasse: ebenfalls zu Begi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391520" y="4343400"/>
            <a:ext cx="126036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1B0F-3441-498A-9568-1631F35FD8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Datentypen 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s gibt unterschiedliche Kategorien von Da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Ganze Zahlen: 2, 4754, -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Gleitkomma (Reelle-) Zahlen: -3.4, 34.98, 34.83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eichen: ‘a‘, ‘b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ahrheitswerte: Richtig/Fal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eichenketten: “Hello World!“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(werden in Einh.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ethod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handel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Unterschiedliche Kategorien benötigen unterschiedlich viel Speicherpl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ahrheitswerte: 1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SCII-Zeichen: 7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atentypen sind Grund für den Einsatz von Datentyp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Überprüfung sinnvoller Operationen (verhindert Addition “hallo“+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Reservierung passenden Speicherpla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4DC-61C7-4034-A545-57B5B2481E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Datentyp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atentypen definieren die Menge und Art der zulässigen Werte sowie die erlaubten Operatio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Typ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infache We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5040">
              <a:spcBef>
                <a:spcPts val="476"/>
              </a:spcBef>
              <a:buClr>
                <a:srgbClr val="000000"/>
              </a:buClr>
              <a:buFont typeface="Helvetica"/>
              <a:buChar char="–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char, boolean, byte, short, int, long, float, doub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kt-Typ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ferenztypen für “komplexere Wer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50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definierte Java-Klas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String, BufferedReader, URLAddress, Butto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50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m Programmierer definierte Klasse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BankAccount, Tier, Student, Person 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2090-0D52-4AE5-9028-17F0FA75A8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rimitiv- vs. Objekttyp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Primitive Typen (einfache We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Objekt-Typen (komplexe Werte mit evtl. mehreren Werten (Instanzvariablen) und Verhalten (Methode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284720" y="2205000"/>
          <a:ext cx="331308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205000"/>
                    <a:ext cx="331308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908000" y="4073400"/>
          <a:ext cx="6262920" cy="237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073400"/>
                    <a:ext cx="6262920" cy="23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2CD2-5881-41EF-89A0-8195C9635E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2:38:33Z</dcterms:created>
  <dc:creator>Susanne Guth, Rainer Klimesch, Marion Kaukal</dc:creator>
  <dc:description/>
  <dc:language>en-US</dc:language>
  <cp:lastModifiedBy>sguth</cp:lastModifiedBy>
  <cp:lastPrinted>2001-09-26T09:11:15Z</cp:lastPrinted>
  <dcterms:modified xsi:type="dcterms:W3CDTF">2003-05-12T16:19:12Z</dcterms:modified>
  <cp:revision>482</cp:revision>
  <dc:subject/>
  <dc:title>Java - Einführu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nm.wu-wien.ac.at/java/</vt:lpwstr>
  </property>
  <property fmtid="{D5CDD505-2E9C-101B-9397-08002B2CF9AE}" pid="9" name="LinkColor">
    <vt:r8>16711782</vt:r8>
  </property>
  <property fmtid="{D5CDD505-2E9C-101B-9397-08002B2CF9AE}" pid="10" name="MailAddress">
    <vt:lpwstr>susanne.guth@wu-wien.ac.a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NeueMedien\java\FolienSS0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