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9.wmf" ContentType="image/x-wmf"/>
  <Override PartName="/ppt/media/image16.jpeg" ContentType="image/jpeg"/>
  <Override PartName="/ppt/media/image14.wmf" ContentType="image/x-wmf"/>
  <Override PartName="/ppt/media/image1.png" ContentType="image/png"/>
  <Override PartName="/ppt/media/image15.jpeg" ContentType="image/jpeg"/>
  <Override PartName="/ppt/media/image3.wmf" ContentType="image/x-wmf"/>
  <Override PartName="/ppt/media/image4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5.png" ContentType="image/png"/>
  <Override PartName="/ppt/media/image1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8F0A-C554-4515-AA53-A130B0B6C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12C7-0B77-44D0-A12A-2EA139A39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CC0C-4436-46FE-B607-C5B1287A1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8470-8CFD-4726-9D2D-43B10BB0C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3E40-FA5C-4662-B27A-F3550FFD9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14B1-7965-48D5-AD06-9EAC07769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38E6-7877-4BC7-84FD-6DC909089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6F55-8C11-4E4A-8B19-3EA8D5900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A6CF-24FE-4EB6-996A-6701598DB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8354-D2F1-42D5-8F9E-FDD3BB66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CF6B-D67A-47F4-805A-F89F7E00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8632-1D2B-4FEC-861F-2B3FC2320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04c8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116D0-A122-4214-B149-40F9ABCAAC34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1447920"/>
            <a:ext cx="8381880" cy="0"/>
          </a:xfrm>
          <a:prstGeom prst="line">
            <a:avLst/>
          </a:prstGeom>
          <a:ln w="38160">
            <a:solidFill>
              <a:srgbClr val="104c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5400" y="6400800"/>
            <a:ext cx="6411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04c88"/>
                </a:solidFill>
                <a:latin typeface="Arial"/>
              </a:rPr>
              <a:t>Grundzüge der Programmierung - Klassendefinitionen © Guth, Kaukal, Klimesch 2000-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2362320"/>
            <a:ext cx="1904760" cy="1517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9280" y="476280"/>
            <a:ext cx="8964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Grundzüge der Programmieru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90920" y="2362320"/>
            <a:ext cx="53337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600" spc="-1" strike="noStrike">
                <a:solidFill>
                  <a:srgbClr val="104c88"/>
                </a:solidFill>
                <a:latin typeface="Arial"/>
              </a:rPr>
              <a:t>Klassendefinition und Instanziieru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480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KLASSENDEFINITIONEN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2CA1-4F38-4B05-BA8D-EF089BD66F1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Beispielklasse </a:t>
            </a:r>
            <a:r>
              <a:rPr b="1" lang="de-AT" sz="4400" spc="-1" strike="noStrike">
                <a:solidFill>
                  <a:srgbClr val="104c88"/>
                </a:solidFill>
                <a:latin typeface="Courier New"/>
              </a:rPr>
              <a:t>Student</a:t>
            </a: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 </a:t>
            </a:r>
            <a:r>
              <a:rPr b="1" lang="de-AT" sz="3600" spc="-1" strike="noStrike">
                <a:solidFill>
                  <a:srgbClr val="104c88"/>
                </a:solidFill>
                <a:latin typeface="Arial"/>
              </a:rPr>
              <a:t>Klassendeklaration</a:t>
            </a: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6400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Student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 matN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AT" sz="2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 semest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AT" sz="2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 inskribie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54100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(hier: kein Verhalt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5638680" y="3505320"/>
          <a:ext cx="2273400" cy="179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3505320"/>
                    <a:ext cx="2273400" cy="179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2EF2-57A7-481B-A558-52A8543F704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80520" y="1676520"/>
            <a:ext cx="85345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rstellen von Objekten (Klasseninstanz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elle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KlassenName objekt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Klassen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Initialisierungswert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z.B. 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udent josef =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Student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udent franz =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Student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Beispielklasse </a:t>
            </a:r>
            <a:r>
              <a:rPr b="1" lang="de-AT" sz="4400" spc="-1" strike="noStrike">
                <a:solidFill>
                  <a:srgbClr val="104c88"/>
                </a:solidFill>
                <a:latin typeface="Courier New"/>
              </a:rPr>
              <a:t>Student</a:t>
            </a:r>
            <a:br>
              <a:rPr sz="4400"/>
            </a:br>
            <a:r>
              <a:rPr b="1" lang="de-AT" sz="3600" spc="-1" strike="noStrike">
                <a:solidFill>
                  <a:srgbClr val="104c88"/>
                </a:solidFill>
                <a:latin typeface="Arial"/>
              </a:rPr>
              <a:t>Instanzen erzeugen</a:t>
            </a:r>
            <a:endParaRPr b="1" lang="en-US" sz="36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E7E6-2E20-4BFC-9CF8-C349AB47D0F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Beispielklasse </a:t>
            </a:r>
            <a:r>
              <a:rPr b="1" lang="de-AT" sz="4400" spc="-1" strike="noStrike">
                <a:solidFill>
                  <a:srgbClr val="104c88"/>
                </a:solidFill>
                <a:latin typeface="Courier New"/>
              </a:rPr>
              <a:t>Student</a:t>
            </a: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 </a:t>
            </a:r>
            <a:r>
              <a:rPr b="1" lang="de-AT" sz="3600" spc="-1" strike="noStrike">
                <a:solidFill>
                  <a:srgbClr val="104c88"/>
                </a:solidFill>
                <a:latin typeface="Arial"/>
              </a:rPr>
              <a:t>Instanzen erzeugen (forts.)</a:t>
            </a:r>
            <a:endParaRPr b="1" lang="en-US" sz="36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Student josef = </a:t>
            </a:r>
            <a:r>
              <a:rPr b="1" lang="de-AT" sz="28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 Student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Der Name der Klasse ist </a:t>
            </a:r>
            <a:r>
              <a:rPr b="0" lang="de-AT" sz="3000" spc="-1" strike="noStrike">
                <a:solidFill>
                  <a:srgbClr val="000000"/>
                </a:solidFill>
                <a:latin typeface="Courier New"/>
              </a:rPr>
              <a:t>Student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ourier New"/>
              </a:rPr>
              <a:t>josef </a:t>
            </a: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ist der Name eines speziellen Objektes (einer Instanz) der Klasse Stude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Ein neues Objekt wird mit </a:t>
            </a:r>
            <a:r>
              <a:rPr b="0" lang="de-AT" sz="30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 angeleg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Um auf eine </a:t>
            </a:r>
            <a:r>
              <a:rPr b="0" i="1" lang="de-AT" sz="3000" spc="-1" strike="noStrike">
                <a:solidFill>
                  <a:srgbClr val="000000"/>
                </a:solidFill>
                <a:latin typeface="Arial"/>
              </a:rPr>
              <a:t>Instanzvariable</a:t>
            </a: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 zuzugreifen, gibt man zunächst den Objektnamen an, gefolgt von einem Punkt und dem Namen der Variable (z.B. </a:t>
            </a:r>
            <a:r>
              <a:rPr b="0" lang="de-AT" sz="2600" spc="-1" strike="noStrike">
                <a:solidFill>
                  <a:srgbClr val="000000"/>
                </a:solidFill>
                <a:latin typeface="Courier New"/>
              </a:rPr>
              <a:t>josef.matNr</a:t>
            </a: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E40C-0331-4A58-B794-E5EB7F37763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Beispielklasse </a:t>
            </a:r>
            <a:r>
              <a:rPr b="1" lang="de-AT" sz="4400" spc="-1" strike="noStrike">
                <a:solidFill>
                  <a:srgbClr val="104c88"/>
                </a:solidFill>
                <a:latin typeface="Courier New"/>
              </a:rPr>
              <a:t>Student</a:t>
            </a: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3600" spc="-1" strike="noStrike">
                <a:solidFill>
                  <a:srgbClr val="104c88"/>
                </a:solidFill>
                <a:latin typeface="Arial"/>
              </a:rPr>
              <a:t>Zugriff auf Instanzvariablen</a:t>
            </a:r>
            <a:endParaRPr b="1" lang="en-US" sz="36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5345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Instanzvariable zuweisen/zugreif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elle For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objektName.instanzVa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wer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z.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franz.matNr = 9346729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System.out.println(“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MatrikelNr.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: “+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ranz.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matNr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r>
              <a:rPr b="0" i="1" lang="de-A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3ACE-4F9B-4DF2-993D-0644CAD11EA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Beispielklasse </a:t>
            </a:r>
            <a:r>
              <a:rPr b="1" lang="de-AT" sz="4400" spc="-1" strike="noStrike">
                <a:solidFill>
                  <a:srgbClr val="104c88"/>
                </a:solidFill>
                <a:latin typeface="Courier New"/>
              </a:rPr>
              <a:t>Student</a:t>
            </a: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 </a:t>
            </a:r>
            <a:r>
              <a:rPr b="1" lang="de-AT" sz="3600" spc="-1" strike="noStrike">
                <a:solidFill>
                  <a:srgbClr val="104c88"/>
                </a:solidFill>
                <a:latin typeface="Arial"/>
              </a:rPr>
              <a:t>Programmbeispiel</a:t>
            </a:r>
            <a:endParaRPr b="1" lang="en-US" sz="36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 StudierendenVerwaltung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 main(String[] args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Student franz = </a:t>
            </a: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 Studen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franz.matNr=</a:t>
            </a:r>
            <a:r>
              <a:rPr b="0" lang="de-AT" sz="2000" spc="-1" strike="noStrike">
                <a:solidFill>
                  <a:srgbClr val="ff0000"/>
                </a:solidFill>
                <a:latin typeface="Courier New"/>
              </a:rPr>
              <a:t>9876557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franz.semester=</a:t>
            </a:r>
            <a:r>
              <a:rPr b="0" lang="de-AT" sz="2000" spc="-1" strike="noStrike">
                <a:solidFill>
                  <a:srgbClr val="3333cc"/>
                </a:solidFill>
                <a:latin typeface="Courier New"/>
              </a:rPr>
              <a:t>2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franz.inskribiert=</a:t>
            </a: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</a:rPr>
              <a:t>Student josef = </a:t>
            </a:r>
            <a:r>
              <a:rPr b="1" lang="de-AT" sz="18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</a:rPr>
              <a:t> Studen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</a:rPr>
              <a:t>josef.matNr=</a:t>
            </a:r>
            <a:r>
              <a:rPr b="0" lang="de-AT" sz="1800" spc="-1" strike="noStrike">
                <a:solidFill>
                  <a:srgbClr val="ff0000"/>
                </a:solidFill>
                <a:latin typeface="Courier New"/>
              </a:rPr>
              <a:t>977879</a:t>
            </a:r>
            <a:r>
              <a:rPr b="0" lang="de-DE" sz="1800" spc="-1" strike="noStrike">
                <a:solidFill>
                  <a:srgbClr val="ff0000"/>
                </a:solidFill>
                <a:latin typeface="Courier New"/>
              </a:rPr>
              <a:t>7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</a:rPr>
              <a:t>josef.semester=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</a:rPr>
              <a:t>josef.inskribiert=</a:t>
            </a:r>
            <a:r>
              <a:rPr b="1" lang="de-AT" sz="18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324480" y="2666880"/>
            <a:ext cx="1400400" cy="2772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391720" y="5878440"/>
            <a:ext cx="30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siehe auch Students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D66D-AE9C-42C7-BACA-2C4CFC5A214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Klassenvariablen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Klassenvariablen werden von allen Objekten einer Klasse geteilt, d.h. alle Instanzen der Klasse haben Zugriff auf die Klassenvariablen. Sie werden auch </a:t>
            </a:r>
            <a:r>
              <a:rPr b="0" i="1" lang="de-AT" sz="2400" spc="-1" strike="noStrike">
                <a:solidFill>
                  <a:srgbClr val="000000"/>
                </a:solidFill>
                <a:latin typeface="Arial"/>
              </a:rPr>
              <a:t>statische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 Variable genan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Statische Variablen sind auch dann verfügbar, wenn noch keine Instanz der Klasse erzeugt wur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Deklaration:</a:t>
            </a:r>
            <a:br>
              <a:rPr sz="2400"/>
            </a:b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 Type varNam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z.B. innerhalb der Klasse 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Stu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 coun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Student.count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ann z.B. 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die Anzahl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ler erzeugten Objekte der Klasse 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Studen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enthalten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6781680" y="3505320"/>
          <a:ext cx="1816200" cy="16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3505320"/>
                    <a:ext cx="1816200" cy="16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341D-E00B-4033-A52D-FD6BC7204AC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Klassen- vs. Instanzvariablen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10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Student s1 = </a:t>
            </a: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 Student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Student s2 = </a:t>
            </a: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 Student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s1.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matNr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0025102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s2.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matNr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 =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 0025103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s1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s2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 haben jeweils individuelle Instanzvariablen für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matNr, semester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 etc., die individuell geändert werden könn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aber es gibt nur eine gemeinsame Variable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coun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griff auf d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ie Klassenvariable 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Student.count = 2;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 alle = s1.count; </a:t>
            </a:r>
            <a:r>
              <a:rPr b="1" lang="de-DE" sz="2400" spc="-1" strike="noStrike">
                <a:solidFill>
                  <a:srgbClr val="00cc99"/>
                </a:solidFill>
                <a:latin typeface="Courier New"/>
              </a:rPr>
              <a:t>//alle enthält den Wert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Zugriff über den Klassennamen: 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Student.count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 aber auch über Instanznamen 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s1.count 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bzw.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 s2.count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3256-7C8F-4219-AE28-28014C81C60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104c88"/>
                </a:solidFill>
                <a:latin typeface="Arial"/>
              </a:rPr>
              <a:t>Konstanten in Klassen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Konstante können in Klassen gruppiert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 Studiu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static </a:t>
            </a: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final int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 HW = 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static </a:t>
            </a: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final int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 BWL = 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static </a:t>
            </a: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final int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 WIPAED = 3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static </a:t>
            </a: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final int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 VWL = 4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AT" sz="2000" spc="-1" strike="noStrike">
                <a:solidFill>
                  <a:srgbClr val="00cc99"/>
                </a:solidFill>
                <a:latin typeface="Courier New"/>
              </a:rPr>
              <a:t>// Zugriff: Studium.BW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63D3-E09B-4CFF-926C-924E168E226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Arrays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458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10000"/>
                </a:solidFill>
                <a:latin typeface="Arial"/>
              </a:rPr>
              <a:t>Arrays si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1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10000"/>
                </a:solidFill>
                <a:latin typeface="Arial"/>
              </a:rPr>
              <a:t>eine Reihe von Datenelementen oder Objekten </a:t>
            </a:r>
            <a:r>
              <a:rPr b="1" lang="de-AT" sz="2400" spc="-1" strike="noStrike">
                <a:solidFill>
                  <a:srgbClr val="010000"/>
                </a:solidFill>
                <a:latin typeface="Arial"/>
              </a:rPr>
              <a:t>gleichen Datentyp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dessen Länge beim Anlegen fixiert wird, u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auf deren einzelne Elemente mit ihren Integer-Indizes zugegriffen werden kan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Die </a:t>
            </a:r>
            <a:r>
              <a:rPr b="1" lang="de-AT" sz="2400" spc="-1" strike="noStrike">
                <a:solidFill>
                  <a:srgbClr val="000000"/>
                </a:solidFill>
                <a:latin typeface="Arial"/>
              </a:rPr>
              <a:t>Indizes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 eines Arrays sind Integerzahlen von 0 bis (Länge-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Deklaration mittels [] nach dem Datentyp:</a:t>
            </a:r>
            <a:br>
              <a:rPr sz="2400"/>
            </a:br>
            <a:r>
              <a:rPr b="0" lang="de-AT" sz="2200" spc="-1" strike="noStrike">
                <a:solidFill>
                  <a:srgbClr val="000000"/>
                </a:solidFill>
                <a:latin typeface="Courier New"/>
              </a:rPr>
              <a:t>DatenTyp[] variablenName = </a:t>
            </a:r>
            <a:r>
              <a:rPr b="1" lang="de-AT" sz="22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de-AT" sz="2200" spc="-1" strike="noStrike">
                <a:solidFill>
                  <a:srgbClr val="000000"/>
                </a:solidFill>
                <a:latin typeface="Courier New"/>
              </a:rPr>
              <a:t> DatenTyp[</a:t>
            </a:r>
            <a:r>
              <a:rPr b="0" i="1" lang="de-AT" sz="2200" spc="-1" strike="noStrike">
                <a:solidFill>
                  <a:srgbClr val="000000"/>
                </a:solidFill>
                <a:latin typeface="Courier New"/>
              </a:rPr>
              <a:t>länge</a:t>
            </a:r>
            <a:r>
              <a:rPr b="0" lang="de-AT" sz="2200" spc="-1" strike="noStrike">
                <a:solidFill>
                  <a:srgbClr val="000000"/>
                </a:solidFill>
                <a:latin typeface="Courier New"/>
              </a:rPr>
              <a:t>];</a:t>
            </a:r>
            <a:br>
              <a:rPr sz="2200"/>
            </a:br>
            <a:br>
              <a:rPr sz="600"/>
            </a:br>
            <a:r>
              <a:rPr b="0" lang="de-AT" sz="2200" spc="-1" strike="noStrike">
                <a:solidFill>
                  <a:srgbClr val="000000"/>
                </a:solidFill>
                <a:latin typeface="Arial"/>
              </a:rPr>
              <a:t>z.B. ein Array, das alle Buchstaben unseres Alphabets aufnehmen kan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AT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de-AT" sz="2200" spc="-1" strike="noStrike">
                <a:solidFill>
                  <a:srgbClr val="000000"/>
                </a:solidFill>
                <a:latin typeface="Courier New"/>
              </a:rPr>
              <a:t>[] alphabet = </a:t>
            </a:r>
            <a:r>
              <a:rPr b="1" lang="de-AT" sz="22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de-AT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AT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de-AT" sz="2200" spc="-1" strike="noStrike">
                <a:solidFill>
                  <a:srgbClr val="000000"/>
                </a:solidFill>
                <a:latin typeface="Courier New"/>
              </a:rPr>
              <a:t>[26]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41D1-7794-4E97-BCC2-32E5F876BD9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Arrays von prim. Datentypen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280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Deklaration: </a:t>
            </a:r>
            <a:r>
              <a:rPr b="0" i="1" lang="de-AT" sz="2400" spc="-1" strike="noStrike">
                <a:solidFill>
                  <a:srgbClr val="000000"/>
                </a:solidFill>
                <a:latin typeface="Courier New"/>
              </a:rPr>
              <a:t>typ[] nam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[] einkommen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Erzeugung: </a:t>
            </a:r>
            <a:r>
              <a:rPr b="0" i="1" lang="de-AT" sz="2400" spc="-1" strike="noStrike">
                <a:solidFill>
                  <a:srgbClr val="000000"/>
                </a:solidFill>
                <a:latin typeface="Courier New"/>
              </a:rPr>
              <a:t>name = new typ[n];</a:t>
            </a: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einkommen = </a:t>
            </a: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[4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Zuweisung von Werten an einzelne Elemente eines Arrays erfolgt mittels Indizierung auf einzelne Fel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00000"/>
                </a:solidFill>
                <a:latin typeface="Courier New"/>
              </a:rPr>
              <a:t>name[i] = wer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Bsp.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 einkommen[0] = 100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Deklaration, Erzeugung und Zuweisung zugleic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int[] zehner = {10, 20, 30, 40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28C6-5E41-4995-BE9C-7954A548DB7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104c88"/>
                </a:solidFill>
                <a:latin typeface="Arial"/>
              </a:rPr>
              <a:t>Inhalt dieser Einheit</a:t>
            </a:r>
            <a:endParaRPr b="1" lang="en-US" sz="48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2285640"/>
            <a:ext cx="58672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000000"/>
                </a:solidFill>
                <a:latin typeface="Arial"/>
              </a:rPr>
              <a:t>Java-Synt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Klassen defini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Objekte instanzii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Instanzvariable deklari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Klassenvariable deklari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Arr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629400" y="1981080"/>
            <a:ext cx="133344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A496-5FA4-447D-88B6-D06E3AF75720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Arrays von prim. Datentypen 2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Zugriff bzw. Auslesen von Werten einzelner Elemente erfolgt ebenfalls mittels Indizieru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000" spc="-1" strike="noStrike">
                <a:solidFill>
                  <a:srgbClr val="000000"/>
                </a:solidFill>
                <a:latin typeface="Courier New"/>
              </a:rPr>
              <a:t>name[i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Bsp.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 System.out.println(einkommen[2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Die Länge eines Arrays erfährt man mit der Methode length, die jedes Objekt zur Verfügung hat: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</a:rPr>
              <a:t> name.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ourier New"/>
              </a:rPr>
              <a:t>Z.B. int laenge = einkommen.lengt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Beispiel Alphab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[] alphabet = </a:t>
            </a: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[26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alphabet[0] =‘A‘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alphabet[25] =‘Z‘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 i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System.out.println(alphabet[i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5ECD-B6BC-4FF4-BBEF-165DF4B8982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104c88"/>
                </a:solidFill>
                <a:latin typeface="Arial"/>
              </a:rPr>
              <a:t>Visualisierung </a:t>
            </a: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Arrays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458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Primitive Datentype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Arrays von primitiven Datentyp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057400" y="2193840"/>
          <a:ext cx="1398600" cy="123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193840"/>
                    <a:ext cx="139860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1981080" y="4419720"/>
          <a:ext cx="5334120" cy="172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4419720"/>
                    <a:ext cx="5334120" cy="17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3E45-CD70-4F7F-ABD0-5791037B3C6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Arrays von Objekt-Typen 1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Dekla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800" spc="-1" strike="noStrike">
                <a:solidFill>
                  <a:srgbClr val="000000"/>
                </a:solidFill>
                <a:latin typeface="Courier New"/>
              </a:rPr>
              <a:t>ClassName[] name = new ClassName[n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Zugriff auf einzelne Elemente eines Arrays erfolgt mittels Indizierung auf einzelne Felder und Angabe des Variablennamens.</a:t>
            </a:r>
            <a:br>
              <a:rPr sz="2400"/>
            </a:br>
            <a:r>
              <a:rPr b="0" i="1" lang="de-AT" sz="2000" spc="-1" strike="noStrike">
                <a:solidFill>
                  <a:srgbClr val="000000"/>
                </a:solidFill>
                <a:latin typeface="Courier New"/>
              </a:rPr>
              <a:t>ClassName[Feldname].variablenName = W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Arial"/>
              </a:rPr>
              <a:t>z.B. ein Array, das 52 Studenten-Objekte aufnehmen kan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2200" spc="-1" strike="noStrike">
                <a:solidFill>
                  <a:srgbClr val="000000"/>
                </a:solidFill>
                <a:latin typeface="Courier New"/>
              </a:rPr>
              <a:t>Student[] students = new Student[52]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2200" spc="-1" strike="noStrike">
                <a:solidFill>
                  <a:srgbClr val="000000"/>
                </a:solidFill>
                <a:latin typeface="Courier New"/>
              </a:rPr>
              <a:t>students[0].</a:t>
            </a:r>
            <a:r>
              <a:rPr b="0" lang="de-DE" sz="2200" spc="-1" strike="noStrike">
                <a:solidFill>
                  <a:srgbClr val="000000"/>
                </a:solidFill>
                <a:latin typeface="Courier New"/>
              </a:rPr>
              <a:t>semester </a:t>
            </a:r>
            <a:r>
              <a:rPr b="0" lang="de-AT" sz="2200" spc="-1" strike="noStrike">
                <a:solidFill>
                  <a:srgbClr val="000000"/>
                </a:solidFill>
                <a:latin typeface="Courier New"/>
              </a:rPr>
              <a:t>= </a:t>
            </a:r>
            <a:r>
              <a:rPr b="0" lang="de-DE" sz="22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de-AT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2200" spc="-1" strike="noStrike">
                <a:solidFill>
                  <a:srgbClr val="000000"/>
                </a:solidFill>
                <a:latin typeface="Courier New"/>
              </a:rPr>
              <a:t>students[0].matNr=</a:t>
            </a:r>
            <a:r>
              <a:rPr b="0" lang="de-DE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2200" spc="-1" strike="noStrike">
                <a:solidFill>
                  <a:srgbClr val="000000"/>
                </a:solidFill>
                <a:latin typeface="Courier New"/>
              </a:rPr>
              <a:t>9876557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2200" spc="-1" strike="noStrike">
                <a:solidFill>
                  <a:srgbClr val="000000"/>
                </a:solidFill>
                <a:latin typeface="Arial"/>
              </a:rPr>
              <a:t>... bzw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AT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de-AT" sz="2200" spc="-1" strike="noStrike">
                <a:solidFill>
                  <a:srgbClr val="000000"/>
                </a:solidFill>
                <a:latin typeface="Courier New"/>
              </a:rPr>
              <a:t> i = 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2200" spc="-1" strike="noStrike">
                <a:solidFill>
                  <a:srgbClr val="000000"/>
                </a:solidFill>
                <a:latin typeface="Courier New"/>
              </a:rPr>
              <a:t>System.out.println(students[i].</a:t>
            </a:r>
            <a:r>
              <a:rPr b="0" lang="de-DE" sz="2200" spc="-1" strike="noStrike">
                <a:solidFill>
                  <a:srgbClr val="000000"/>
                </a:solidFill>
                <a:latin typeface="Courier New"/>
              </a:rPr>
              <a:t>matNr</a:t>
            </a:r>
            <a:r>
              <a:rPr b="0" lang="de-AT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B8CA-E1CD-4D00-A086-76D78928240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Arrays von Objekt-Typen 2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2280" y="18288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Beispiel StudentsArray.j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Student josef = </a:t>
            </a: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 Student();  </a:t>
            </a:r>
            <a:r>
              <a:rPr b="1" lang="de-AT" sz="2000" spc="-1" strike="noStrike">
                <a:solidFill>
                  <a:srgbClr val="00cc99"/>
                </a:solidFill>
                <a:latin typeface="Courier New"/>
              </a:rPr>
              <a:t>//neues Objek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josef.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matNr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0250312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Student martin = </a:t>
            </a: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 Student(); </a:t>
            </a:r>
            <a:r>
              <a:rPr b="1" lang="de-AT" sz="2000" spc="-1" strike="noStrike">
                <a:solidFill>
                  <a:srgbClr val="00cc99"/>
                </a:solidFill>
                <a:latin typeface="Courier New"/>
              </a:rPr>
              <a:t>//zweites Objek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martin.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matNr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0251999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Student[] klasse = </a:t>
            </a: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 Student[10]; </a:t>
            </a:r>
            <a:r>
              <a:rPr b="1" lang="de-AT" sz="2000" spc="-1" strike="noStrike">
                <a:solidFill>
                  <a:srgbClr val="00cc99"/>
                </a:solidFill>
                <a:latin typeface="Courier New"/>
              </a:rPr>
              <a:t>//Studenten-Arr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klasse[0] = martin; </a:t>
            </a:r>
            <a:r>
              <a:rPr b="1" lang="de-AT" sz="2000" spc="-1" strike="noStrike">
                <a:solidFill>
                  <a:srgbClr val="00cc99"/>
                </a:solidFill>
                <a:latin typeface="Courier New"/>
              </a:rPr>
              <a:t>//erstes Element Objekt mart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klasse[1] = josef; </a:t>
            </a:r>
            <a:r>
              <a:rPr b="1" lang="de-AT" sz="2000" spc="-1" strike="noStrike">
                <a:solidFill>
                  <a:srgbClr val="00cc99"/>
                </a:solidFill>
                <a:latin typeface="Courier New"/>
              </a:rPr>
              <a:t>// zweites Element Objekt jose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System.out.println(klasse[0].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matNr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); </a:t>
            </a:r>
            <a:r>
              <a:rPr b="1" lang="de-AT" sz="1600" spc="-1" strike="noStrike">
                <a:solidFill>
                  <a:srgbClr val="00cc99"/>
                </a:solidFill>
                <a:latin typeface="Courier New"/>
              </a:rPr>
              <a:t>//Zugriff 1. El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49360" y="32767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ourier Neu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8238-BD0F-4403-90DB-D56E8D2FC3D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104c88"/>
                </a:solidFill>
                <a:latin typeface="Arial"/>
              </a:rPr>
              <a:t>Visualisierung </a:t>
            </a: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Arrays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190760" y="1523520"/>
            <a:ext cx="46479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Arrays von Objekt-Datentyp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28600" y="1600200"/>
          <a:ext cx="4419720" cy="234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4419720" cy="234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3657600" y="3733920"/>
          <a:ext cx="4419720" cy="243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3733920"/>
                    <a:ext cx="4419720" cy="24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914400" y="4495680"/>
          <a:ext cx="1558800" cy="1408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14400" y="4495680"/>
                    <a:ext cx="1558800" cy="14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7E3E-492F-466F-A4F3-1A97D6EB636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104c88"/>
                </a:solidFill>
                <a:latin typeface="Arial"/>
              </a:rPr>
              <a:t>Visualisierung </a:t>
            </a: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Arrays</a:t>
            </a:r>
            <a:r>
              <a:rPr b="1" lang="de-DE" sz="4400" spc="-1" strike="noStrike">
                <a:solidFill>
                  <a:srgbClr val="104c88"/>
                </a:solidFill>
                <a:latin typeface="Arial"/>
              </a:rPr>
              <a:t> (forts.)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191120" y="152352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Arrays von Objekt-Datentyp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609480" y="2133720"/>
          <a:ext cx="5867640" cy="370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133720"/>
                    <a:ext cx="5867640" cy="37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21AA-06D8-48A0-8B96-9254AF0615D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Lernkontrolle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Implementieren Sie eine umfangreiche Klasse “Mitarbeiter“. Überlegen Sie sich, welche Variablen für diese Klasse sinnvoll sind und definieren Sie ein Array, in welchem 50 Mitarbeiter gespeichert werden könn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Ihr Programm soll zu bestimmten Feldern einen Teil der gespeicherten Daten ausgeb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477120" y="4932360"/>
            <a:ext cx="1955520" cy="131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13A2-3694-4BCC-81E7-9FE4BD1BC65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Lernkontrolle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Implementieren Sie eine Klasse “</a:t>
            </a: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Lehrveranstaltung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“. Überlegen Sie sich, welche Variablen für diese Klasse sinnvoll si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Erzeugen Sie zwei Objekte dieser Klasse, die zwei der Lehrveranstaltungen repräsentieren, die Sie dieses Semester besuchen. Ihr Programm soll die Bezeichnung und die Nummer dieser Lehrveranstaltung ausgeb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E32E-528B-44E7-807D-BF6DBCAFF28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Nach dieser Einheit sollten Sie wissen, ...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wie man in Java Klassen deklarie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wie man innerhalb einer Klasse Variablen deklariert und diesen primitive Datentypen zuwei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wie man in Java aus vordefinierten Klassen Objekte erzeug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was der Unterschied zwischen Klassen- und Instanzvariablen i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was Arrays sind und wie man mit ihnen umge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7696080" y="1676520"/>
            <a:ext cx="1125720" cy="1155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1EBA-6C96-4AC7-B58A-9549DFAC7EB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Klassen definieren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733920" y="3504960"/>
            <a:ext cx="5029200" cy="243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 KlassenName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variablenDeklaration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methodenDeklaration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1676520"/>
            <a:ext cx="78487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In der Problemanalyse haben Sie die geeigneten Klassen, ihre Eigenschaften und ihr Verhalten festgelegt. Diese implementieren Sie dann im Quellcod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685800" y="3600360"/>
          <a:ext cx="3581280" cy="18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600360"/>
                    <a:ext cx="3581280" cy="18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3048120" y="4495680"/>
            <a:ext cx="609480" cy="30492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0b36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3E71-00B8-434B-8D2F-BBB6A2ED05A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990880" y="1905120"/>
            <a:ext cx="348624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 Poin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 x,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Neue Klasse definieren</a:t>
            </a:r>
            <a:br>
              <a:rPr sz="4400"/>
            </a:br>
            <a:r>
              <a:rPr b="1" lang="de-AT" sz="2400" spc="-1" strike="noStrike">
                <a:solidFill>
                  <a:srgbClr val="104c88"/>
                </a:solidFill>
                <a:latin typeface="Arial"/>
              </a:rPr>
              <a:t>(Bsp. </a:t>
            </a:r>
            <a:r>
              <a:rPr b="1" lang="de-AT" sz="2400" spc="-1" strike="noStrike">
                <a:solidFill>
                  <a:srgbClr val="104c88"/>
                </a:solidFill>
                <a:latin typeface="Courier New"/>
              </a:rPr>
              <a:t>Point</a:t>
            </a:r>
            <a:r>
              <a:rPr b="1" lang="de-AT" sz="2400" spc="-1" strike="noStrike">
                <a:solidFill>
                  <a:srgbClr val="104c88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4419360"/>
            <a:ext cx="85341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Klasse </a:t>
            </a: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 definiert einen Punkte in der Ebe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 besitzt zwei Variable: </a:t>
            </a: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Die Variablen sind vom „primitiven Typ“ </a:t>
            </a: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(reele Zahle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781200" y="22096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0680" y="182880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b368d"/>
                </a:solidFill>
                <a:latin typeface="Arial"/>
              </a:rPr>
              <a:t>Klassen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632280" y="2362320"/>
            <a:ext cx="199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b368d"/>
                </a:solidFill>
                <a:latin typeface="Arial"/>
              </a:rPr>
              <a:t>Name der Klas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438440" y="2590920"/>
            <a:ext cx="219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3880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704880" y="29718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1760" y="2514600"/>
            <a:ext cx="26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b368d"/>
                </a:solidFill>
                <a:latin typeface="Arial"/>
              </a:rPr>
              <a:t>Variablen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633720" y="3200400"/>
            <a:ext cx="233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b368d"/>
                </a:solidFill>
                <a:latin typeface="Arial"/>
              </a:rPr>
              <a:t>Namen der Variabl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200200" y="3352680"/>
            <a:ext cx="142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200560" y="3124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96000" y="3124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8160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28360" y="3581280"/>
            <a:ext cx="25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b368d"/>
                </a:solidFill>
                <a:latin typeface="Arial"/>
              </a:rPr>
              <a:t>Datentyp der Variabl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8A1B-A645-431E-8371-6DFCC80C12C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952880" y="3505320"/>
            <a:ext cx="3486240" cy="167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 Poin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 x,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000" spc="-1" strike="noStrike">
                <a:solidFill>
                  <a:srgbClr val="104c88"/>
                </a:solidFill>
                <a:latin typeface="Arial"/>
              </a:rPr>
              <a:t>Vom Diagramm zum Quellcode</a:t>
            </a: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 </a:t>
            </a:r>
            <a:r>
              <a:rPr b="1" lang="de-AT" sz="3600" spc="-1" strike="noStrike">
                <a:solidFill>
                  <a:srgbClr val="104c88"/>
                </a:solidFill>
                <a:latin typeface="Arial"/>
              </a:rPr>
              <a:t>(Bsp. </a:t>
            </a:r>
            <a:r>
              <a:rPr b="1" lang="de-AT" sz="3600" spc="-1" strike="noStrike">
                <a:solidFill>
                  <a:srgbClr val="104c88"/>
                </a:solidFill>
                <a:latin typeface="Courier New"/>
              </a:rPr>
              <a:t>Point</a:t>
            </a:r>
            <a:r>
              <a:rPr b="1" lang="de-AT" sz="3600" spc="-1" strike="noStrike">
                <a:solidFill>
                  <a:srgbClr val="104c88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104c88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143000" y="2362320"/>
          <a:ext cx="3657600" cy="203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362320"/>
                    <a:ext cx="3657600" cy="203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3581280" y="4114800"/>
            <a:ext cx="1219320" cy="276120"/>
          </a:xfrm>
          <a:prstGeom prst="rightArrow">
            <a:avLst>
              <a:gd name="adj1" fmla="val 50000"/>
              <a:gd name="adj2" fmla="val 110398"/>
            </a:avLst>
          </a:prstGeom>
          <a:solidFill>
            <a:srgbClr val="0b36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Das Klassendiagramm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wird erweitert um Datentypen der Variabl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5410080"/>
            <a:ext cx="80773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Das Klassendiagramm wird in einen kompilierbaren Java-Quellcode umgewandel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D6AA-55E1-43C9-B136-83F6FA975E8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Objekte einer Klasse erzeugen </a:t>
            </a:r>
            <a:br>
              <a:rPr sz="4400"/>
            </a:br>
            <a:r>
              <a:rPr b="1" lang="de-AT" sz="3600" spc="-1" strike="noStrike">
                <a:solidFill>
                  <a:srgbClr val="104c88"/>
                </a:solidFill>
                <a:latin typeface="Arial"/>
              </a:rPr>
              <a:t>(Bsp. </a:t>
            </a:r>
            <a:r>
              <a:rPr b="1" lang="de-AT" sz="3600" spc="-1" strike="noStrike">
                <a:solidFill>
                  <a:srgbClr val="104c88"/>
                </a:solidFill>
                <a:latin typeface="Courier New"/>
              </a:rPr>
              <a:t>Point</a:t>
            </a:r>
            <a:r>
              <a:rPr b="1" lang="de-AT" sz="3600" spc="-1" strike="noStrike">
                <a:solidFill>
                  <a:srgbClr val="104c88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Objekte (Instanzen) einer Klasse werden mit der Methode </a:t>
            </a:r>
            <a:r>
              <a:rPr b="0" lang="de-AT" sz="32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erzeugt (=instantiiert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KlassenName objekt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Klassen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Initialisierungswert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z.B. Instanzen der Klasse 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Point lowerLeft = </a:t>
            </a: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 Point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Point upperRight= </a:t>
            </a: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 Point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Point middlePoint = </a:t>
            </a: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 Point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Jedes erzeugte Objekt ist eindeutig und hat eigene Kopien der Variablen (</a:t>
            </a: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x 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und </a:t>
            </a: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). Sie werden daher auch Instanzvariablen genan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F36E-2783-4470-B2FC-25C1511B95D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Instanzvariablen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Ein Objekt speichert seine Zustände (Eigenschaften) in Instanzvariabl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Alle Objekte einer Klasse haben die selben Instanzvariabl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Eine Variable ist eine Dateneinheit von einem bestimmten Datentyp und hat einen Nam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Datentyp und Name werden in der Klasse deklarie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Der Name ermöglicht den Zugriff auf den Inhalt der Variablen (Abfrage und Änderung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Die Werte der Variablen können während der Laufzeit geändert werd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F065-15BB-4614-A7C1-2C54FAEAF76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667640" y="2492280"/>
            <a:ext cx="1260360" cy="16765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Ort der Instanz-variablendeklaration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0000"/>
                </a:solidFill>
                <a:latin typeface="Arial"/>
              </a:rPr>
              <a:t>Ort der Variablendeklaration und Typisier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In einem Block: zu Begin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In einer Methode: am Methodenbegin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Lokale Variable: gilt nur innerhalb des Block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In einer Klasse: ebenfalls zu Begin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Instanz Variable: gilt innerhalb der Kla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7D25-20C9-4BC7-950C-AA2144FEAC5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Zugriff auf Instanzvariable</a:t>
            </a:r>
            <a:br>
              <a:rPr sz="4400"/>
            </a:br>
            <a:r>
              <a:rPr b="1" lang="de-AT" sz="3600" spc="-1" strike="noStrike">
                <a:solidFill>
                  <a:srgbClr val="104c88"/>
                </a:solidFill>
                <a:latin typeface="Arial"/>
              </a:rPr>
              <a:t>(Bsp. </a:t>
            </a:r>
            <a:r>
              <a:rPr b="1" lang="de-AT" sz="3600" spc="-1" strike="noStrike">
                <a:solidFill>
                  <a:srgbClr val="104c88"/>
                </a:solidFill>
                <a:latin typeface="Courier New"/>
              </a:rPr>
              <a:t>Point</a:t>
            </a:r>
            <a:r>
              <a:rPr b="1" lang="de-AT" sz="3600" spc="-1" strike="noStrike">
                <a:solidFill>
                  <a:srgbClr val="104c88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000000"/>
                </a:solidFill>
                <a:latin typeface="Courier New"/>
              </a:rPr>
              <a:t>ObjektName.Variablen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lowerLeft.x = 0.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lowerLeft.y = 0.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upperRight.x = 1280.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upperRight.y = 1024.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middlePoint.x = 640.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middlePoint.y = 512.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Jedes Objekt (Instanz) hat ein eigenes </a:t>
            </a: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19920" y="4952880"/>
            <a:ext cx="2438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6019920" y="2514240"/>
            <a:ext cx="0" cy="2438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00960" y="5013360"/>
            <a:ext cx="170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lowerLeft </a:t>
            </a:r>
            <a:br>
              <a:rPr sz="2000"/>
            </a:b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(0,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75480" y="3641760"/>
            <a:ext cx="185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middlePoint</a:t>
            </a:r>
            <a:br>
              <a:rPr sz="2000"/>
            </a:b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(640,51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316640" y="1889280"/>
            <a:ext cx="185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upperRight</a:t>
            </a:r>
            <a:br>
              <a:rPr sz="2000"/>
            </a:b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(1280,102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19920" y="4876920"/>
            <a:ext cx="75960" cy="7596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458200" y="2514600"/>
            <a:ext cx="76320" cy="7632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391520" y="3581280"/>
            <a:ext cx="75960" cy="7632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157440" y="2492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605440" y="4724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7283-2661-4D5D-8310-7DD725E00A0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4T12:38:33Z</dcterms:created>
  <dc:creator>Susanne Guth, Rainer Klimesch, Marion Kaukal</dc:creator>
  <dc:description/>
  <dc:language>en-US</dc:language>
  <cp:lastModifiedBy>sguth</cp:lastModifiedBy>
  <cp:lastPrinted>2001-09-26T09:23:35Z</cp:lastPrinted>
  <dcterms:modified xsi:type="dcterms:W3CDTF">2003-05-12T16:19:04Z</dcterms:modified>
  <cp:revision>490</cp:revision>
  <dc:subject/>
  <dc:title>Java - Klassendefinitione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>http://nm.wu-wien.ac.at/java/</vt:lpwstr>
  </property>
  <property fmtid="{D5CDD505-2E9C-101B-9397-08002B2CF9AE}" pid="9" name="LinkColor">
    <vt:r8>16711782</vt:r8>
  </property>
  <property fmtid="{D5CDD505-2E9C-101B-9397-08002B2CF9AE}" pid="10" name="MailAddress">
    <vt:lpwstr>susanne.guth@wu-wien.ac.at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G:\NeueMedien\java\FolienSS01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