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5481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1070FF-7AA5-46BB-8BD7-EE5EC241816D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59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398400" y="9434520"/>
            <a:ext cx="33958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9640A7-3B01-4E0D-A076-306EB7B8EB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~ Einerkomplement ~a entsteht aus a, indem alle Bits von a invertiert wer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(obj instanceof Boolean) retur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(typ) 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ED8-045D-41FA-9A3E-6F4AF1E1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18A-369A-43F4-9E96-A0C54BDB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D1F-FEA8-4E77-A0C4-3300A4B4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7DE-6592-4A06-A15B-D46EA289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AA2-6981-4249-9FA6-46A741E2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2F3-EC36-45F8-AC3F-20D7B301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001-C011-43E7-A85A-E819E0D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2CB-DCA6-4F94-BCE4-87917F0F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D87-291D-45FB-90C5-833CE6C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6F9-DAF4-4C78-949D-A941DE1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CC5-141D-4ED8-B45B-8255471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917-FE27-4DE1-AE1F-96BE7DE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BD42-9006-413C-B213-79A103CE5E4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61360" y="6400800"/>
            <a:ext cx="493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züge der Programmierung – Operatoren  © 2000-2003 Guth, Kaukal, Klime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093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Programmfluss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5120" y="4952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PERAT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905120"/>
          <a:ext cx="15303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15303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0A3-8EE6-49A7-94A2-E589CF6930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nwendbarkeit der Operato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2040" y="1865160"/>
          <a:ext cx="802332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865160"/>
                    <a:ext cx="80233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24B-E03E-4AA8-B5A3-9C9669116E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Zuweisungsoperator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imitive Datenty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uweisung des Wertes entspricht der Kopie des Wertes in die neu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19360" y="32004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 der Zuweisung einer Instanzvariable auf eine andere wird die Referenz der  Instanzvariable überschrieben - beide Instanzvariablen zeigen dann auf das selbe Obje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CHTUNG! Der Zuweisungsoperator (=) hat bei Objekten und Primitiven Datentypen unterschiedliche Funktionswei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E49-4607-4C84-A4F0-9E9810B4F1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primitive Datentypen) 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Operator: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ntax:</a:t>
            </a:r>
            <a:br>
              <a:rPr sz="3200"/>
            </a:br>
            <a:r>
              <a:rPr b="0" i="1" lang="de-AT" sz="3200" spc="-1" strike="noStrike">
                <a:solidFill>
                  <a:srgbClr val="000000"/>
                </a:solidFill>
                <a:latin typeface="Courier New"/>
              </a:rPr>
              <a:t>Operand1 = Operand2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Weist dem Operanden auf der linken Seite den Wert des Operanden auf der rechten Seite 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ariableninitialisierung: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i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rithmetische Operationen: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i = i +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665-0445-4F5F-B436-F899D8758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primitive Datentypen)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imitive Daten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uweisung des Wertes entspricht der Kopie des Wertes in die neu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var2 = var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286000"/>
            <a:ext cx="9144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360" y="175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va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360" y="43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va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581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5 kop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2514600"/>
            <a:ext cx="533520" cy="3352680"/>
          </a:xfrm>
          <a:custGeom>
            <a:avLst/>
            <a:gdLst>
              <a:gd name="textAreaLeft" fmla="*/ 71280 w 533520"/>
              <a:gd name="textAreaRight" fmla="*/ 462240 w 533520"/>
              <a:gd name="textAreaTop" fmla="*/ 586440 h 3352680"/>
              <a:gd name="textAreaBottom" fmla="*/ 243072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4876920"/>
            <a:ext cx="914400" cy="761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8D7-BAB2-426E-B042-00B0ADDD7A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primitive Datentypen) 3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siehe Beispiel Assignmen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nt i1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19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i1 =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nt i2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47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i2 =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1 = i2;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i1 =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1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27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i1 = 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2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88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i2 = 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AE8-A4A7-41CC-96C0-DF33DF8524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Objekt-Datentypen) 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1640" y="18288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s gibt zwei Instanzen (obj1 und obj2) einer Klasse. Jede Instanzvariabl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bjX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zeigt (=referenziert) auf den Speicherplatz, in dem die Daten des Objekts gespeich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nn folgt die Zuweis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bj2 = obj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438280"/>
            <a:ext cx="190512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Zustan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ek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828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267080"/>
            <a:ext cx="190512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Zustan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ek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1952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438280"/>
            <a:ext cx="16002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dres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280" y="3780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64832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267080"/>
            <a:ext cx="16002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dres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1E0-26B8-4258-9A5F-419A505EE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Objekt-Datentypen)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i der Zuweisung wird die bisher gespeicherte Adresse (=Referenz) mit der neuen Referenz überschrieben. Beide Objektvariablen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objX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zeigen nun auf den selben Speicherplatz. Die Speicher-adresse des obj2 ist nicht mehr verfügbar, auf diese Daten kann somit nicht mehr zugegriffen wer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438280"/>
            <a:ext cx="167652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Zustan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ek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267080"/>
            <a:ext cx="1676520" cy="7621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Zustan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ek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281952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438280"/>
            <a:ext cx="16002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dres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280" y="3780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905120" y="304776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267080"/>
            <a:ext cx="16002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dres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20F-3E86-4420-8972-87CCD788D9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Objekt-Datentypen) 3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Änderungen vo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obj2.variablenName1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obj2.variablenName2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ändern den Zustand von obj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438280"/>
            <a:ext cx="190512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Zustan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ek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267080"/>
            <a:ext cx="1905120" cy="7621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Zustan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ek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828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81952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438280"/>
            <a:ext cx="16002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dres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8280" y="3780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3047760"/>
            <a:ext cx="53316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4267080"/>
            <a:ext cx="16002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Adres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609-34C8-4CF9-8070-0CCB0F9681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Objekt-Datentypen) 4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siehe Beispiel Assignmen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Number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Number(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newInt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=newI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974-9C0D-42DD-9A27-90CA7FA2D3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Objekt-Datentypen) 5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siehe Beispiel Assignmen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Number n1 =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Number(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19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);    Number n2 = </a:t>
            </a: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Number(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47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n1 = n2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n1.i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27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n2.i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88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13B-9312-46DB-9149-3B9ED69C3F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ogrammflus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in Progra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erändert seine Umwelt (Zustand der Objekte,  Anzahl der Objekte, ...) durch entsprechende Operationen oder den Aufruf von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b2b2b2"/>
                </a:solidFill>
                <a:latin typeface="Arial"/>
              </a:rPr>
              <a:t>und trifft Entscheidungen durch die Ausführung von Kontrollstruktu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b2b2b2"/>
                </a:solidFill>
                <a:latin typeface="Arial"/>
              </a:rPr>
              <a:t>(control statem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7389360" y="2987640"/>
            <a:ext cx="251460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Operator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6465600" y="477504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Ablauf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steuer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9B9-C271-45C5-99DC-A990170A9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Zuweisungsoperato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Objekt-Datentypen) 6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600200"/>
            <a:ext cx="7162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class Numb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umber(int newIn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=new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umber n1 = new Number(</a:t>
            </a:r>
            <a:r>
              <a:rPr b="1" lang="de-AT" sz="1800" spc="-1" strike="noStrike">
                <a:solidFill>
                  <a:srgbClr val="3333cc"/>
                </a:solidFill>
                <a:latin typeface="Courier New"/>
              </a:rPr>
              <a:t>19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umber n2 = new Number(</a:t>
            </a:r>
            <a:r>
              <a:rPr b="1" lang="de-AT" sz="1800" spc="-1" strike="noStrike">
                <a:solidFill>
                  <a:srgbClr val="3333cc"/>
                </a:solidFill>
                <a:latin typeface="Courier New"/>
              </a:rPr>
              <a:t>47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1 = n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1.i = </a:t>
            </a:r>
            <a:r>
              <a:rPr b="1" lang="de-AT" sz="1800" spc="-1" strike="noStrike">
                <a:solidFill>
                  <a:srgbClr val="3333cc"/>
                </a:solidFill>
                <a:latin typeface="Courier New"/>
              </a:rPr>
              <a:t>27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2.i = </a:t>
            </a:r>
            <a:r>
              <a:rPr b="1" lang="de-AT" sz="1800" spc="-1" strike="noStrike">
                <a:solidFill>
                  <a:srgbClr val="3333cc"/>
                </a:solidFill>
                <a:latin typeface="Courier New"/>
              </a:rPr>
              <a:t>88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"n1.i hat den Wert " + n1.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ystem.out.println("n2.i hat den Wert " + n2.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BCD-882E-44AA-8DFF-9B486FD82D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Vergleichsoperator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(Primitive Datentypen)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6765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iehe Beispiel RelationalDemo2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nt i1 = </a:t>
            </a:r>
            <a:r>
              <a:rPr b="0" lang="de-AT" sz="3200" spc="-1" strike="noStrike">
                <a:solidFill>
                  <a:srgbClr val="3333cc"/>
                </a:solidFill>
                <a:latin typeface="Courier New"/>
              </a:rPr>
              <a:t>19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int i2 = 19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boolean b = i1 == i2; 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b ==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293-9123-48F8-8E87-6FBF90423F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er Vergleichsoperator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(Objekt-Datentypen)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siehe Beispiel RelationalDemo2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Number n1 =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Number(</a:t>
            </a:r>
            <a:r>
              <a:rPr b="0" lang="de-AT" sz="2800" spc="-1" strike="noStrike">
                <a:solidFill>
                  <a:srgbClr val="3333cc"/>
                </a:solidFill>
                <a:latin typeface="Courier New"/>
              </a:rPr>
              <a:t>19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);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Number n2 =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Number(</a:t>
            </a:r>
            <a:r>
              <a:rPr b="0" lang="de-AT" sz="2800" spc="-1" strike="noStrike">
                <a:solidFill>
                  <a:srgbClr val="3333cc"/>
                </a:solidFill>
                <a:latin typeface="Courier New"/>
              </a:rPr>
              <a:t>19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boolean b1 = n1 == n2; </a:t>
            </a: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/ b1 =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boolean b2 = n1.i == n2.i; </a:t>
            </a: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/ b2 =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78C-D462-453E-AC1F-5E00191A7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ogische Operatoren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(Objekt-Datentypen)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76520"/>
            <a:ext cx="8294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8223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Logisches UND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Logischen ODER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x =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norm = (x &gt;= 9 &amp;&amp; x &lt;= 1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 notnorm = !nor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(0&lt;= x &amp;&amp; x &lt;= 10 || 100 &lt;= x 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&amp;&amp; x &lt;= 110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{y = x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D2F-E58E-4538-984A-FCEBBE645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ogische Operato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95240" y="1828800"/>
          <a:ext cx="7275600" cy="38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28800"/>
                    <a:ext cx="72756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63A-13F8-40BC-B6CF-503C8E5E3C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 dieser Einheit sollten Sie ..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genannten Operatoren kenn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Reihenfolge ihrer Ausführung  kenn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unterschiedliche Funktionsweise des Zuweisungsoperators bei Objekt-Datentypen und primitiven Datentypen kenn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unterschiedliche Funktionsweise des Vergleichsoperators bei Objekt-Datentypen und primitiven Datentypen kenn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it den logischen Operatoren umgeh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C3F-A86A-4944-B7B2-23018D360D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52280"/>
            <a:ext cx="77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1844640"/>
            <a:ext cx="6697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Operatoren (unär, binär, ternä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Rangfolge der Opera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Operatoren fü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imitive Datenty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-Datenty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Relationale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Logische Opera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412640" cy="190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CD8-FD4C-4BDB-949A-6C5B43D45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15920" y="4292640"/>
            <a:ext cx="168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72280" y="3213000"/>
            <a:ext cx="1640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Ope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3284640"/>
            <a:ext cx="1640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Ope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perato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bhängig vom Datentyp können bestimmte Operationen vorgenommen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peratoren haben ein oder mehrere Ope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3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Ausführung der Operationen erfolgt nach einer festgelegten Reihenfolge (d.h. einige Operatoren haben Vorrang vor ander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3573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03280" y="3500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11640" y="4076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70B-B67C-4B52-A676-D2745405C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perato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unär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Operatoren (1 Operan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sp.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erhöht den Wert des Operanden um 1,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var++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 oder logisches Nicht ( !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binär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Operatoren (2 Operande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sp.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Addition der beiden Operanden,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var1 + var2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ternärer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Operator (3 Operand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als einziger ternärer Operator in Java erlaubt die verkürzte Implementierung einer if-else-Verzweigung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(i&lt;j)?“true“:“fals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B44-D171-440C-9A2C-0B5EEE777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peratoren im Überblick (Auszug) 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1981080"/>
          <a:ext cx="8229600" cy="401652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4343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weis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/ Subtrak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kation/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krement/ Dek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höht oder erniedrigt den Wert der Variablen um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fert den Rest einer ganzzahligen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&lt;j)?“ja“:“nein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-then-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ziger ternärer Operator in Java. Kurzform der IF-Schle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D52-7D53-46CF-83E8-C108F83227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peratoren im Überblick (Auszug)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752480"/>
          <a:ext cx="8229600" cy="4170600"/>
        </p:xfrm>
        <a:graphic>
          <a:graphicData uri="http://schemas.openxmlformats.org/drawingml/2006/table">
            <a:tbl>
              <a:tblPr/>
              <a:tblGrid>
                <a:gridCol w="1524240"/>
                <a:gridCol w="2109600"/>
                <a:gridCol w="4595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gt;=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gle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ergleich zweier Werte liefert 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der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urüc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gleic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leich, unglei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ergleich zweier Werte liefert 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der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urüc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ches NIC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iert den Wahrheitswert einer Auss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ches 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nüpft zwei Aussagen. Liefert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 beide Aussagen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ches O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nüpft zwei Aussagen. Liefert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 </a:t>
                      </a: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r beiden Aussagen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C3C-B256-4D74-8941-9BB0497F22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Rangfolge der Operatoren in Java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44640" y="545544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676520"/>
          <a:ext cx="281952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2819520" cy="4632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 rot="16200000">
            <a:off x="135360" y="20556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165420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Operatoren oben in der Tabelle werden zuerst ausgewer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en in der gleichen Zeile haben die gleiche Rangfolge und werden von links nach rechts ausgewer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m Ausdruc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 = 6 + 4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ssen Sie jetzt anhand der Tabelle, dass die Division vor der Addition ausgewertet wird, deshalb ergibt sich fü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n Wert von 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3B1-DB87-4568-9253-18E4B4717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kürzte Schreibweis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628640"/>
            <a:ext cx="8062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x+=4; 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x=x+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x=a*-b;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x=a*(-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++a;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a=a+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--a;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3200" spc="-1" strike="noStrike">
                <a:solidFill>
                  <a:srgbClr val="00cc99"/>
                </a:solidFill>
                <a:latin typeface="Courier New"/>
              </a:rPr>
              <a:t>// a=a-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Arial"/>
              </a:rPr>
              <a:t>Achtung!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a++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hat eine andere Funktions-weise als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++a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iehe [Ecke00, 139ff.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m=n++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wie 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m=n; n++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m=++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wie 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n++; m=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DFA-BD7C-4808-9783-829D69F0DB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09:27:48Z</cp:lastPrinted>
  <dcterms:modified xsi:type="dcterms:W3CDTF">2003-05-02T13:27:50Z</dcterms:modified>
  <cp:revision>794</cp:revision>
  <dc:subject/>
  <dc:title>Java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