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9EC-97EF-443D-AA3A-56A6F19C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7DA-0534-412D-9EDD-2090006C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CAE-C0EE-4E66-9B08-FF48F1C5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708-6CCE-4AF8-89C1-B161F78F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233-777C-40D3-A5AD-5BABD441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167-3616-499B-B0BB-8D5BC520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972-3882-44E9-AEB7-6FA982D3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E0F-08F8-42BD-8FEC-2D8768F5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78F-3623-4345-8F18-DCC7AF97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DF7-B247-46F7-A206-5101218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B82-06AD-46B7-8075-A84350D2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D6D-42B7-4633-ADEB-622D8CC7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4B1F-534D-4BA9-A2D1-32A709890FCB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6200" y="6461280"/>
            <a:ext cx="4822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4c88"/>
                </a:solidFill>
                <a:latin typeface="Arial"/>
              </a:rPr>
              <a:t>Grundzüge der Programmierung - Packages, © Guth, Kaukal, Klimesch 2000-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2514600" cy="1785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0040" y="32000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104c88"/>
                </a:solidFill>
                <a:latin typeface="Arial"/>
              </a:rPr>
              <a:t>Wiederverwendung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ACKAGE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rundzüge der Programm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ackages importier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ackages können entweder ausdrücklich (explizit) oder implizit eingebunden wer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mport mit expliziter Importanweisung (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import mypackage.*;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MyClass m =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MyClas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mport mit impliziter Importanweisung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mypackage.MyClass m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mypackage.MyClas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762-7DE9-4094-A576-161B7C9E63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Packages importieren (forts.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inbinden einer Bibliothek in den Programmcode:</a:t>
            </a:r>
            <a:br>
              <a:rPr sz="3200"/>
            </a:br>
            <a:r>
              <a:rPr b="0" lang="de-AT" sz="3200" spc="-1" strike="noStrike">
                <a:solidFill>
                  <a:srgbClr val="0f3c95"/>
                </a:solidFill>
                <a:latin typeface="Courier New"/>
              </a:rPr>
              <a:t>import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package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binden des gesamten Pakets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import java.util.*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binden einzelner Klassen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import java.util.D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0B0-61C0-418B-A395-7EC8A657DD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ackages benenn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s Benennen von Packages basiert auf dem Aufteilen der Klassen in Unterverzeichnisse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(~der Struktur von Dateien in Verzeichniss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s Paket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entspricht auf dem Rechner dem Unterverzeichnis </a:t>
            </a:r>
            <a:r>
              <a:rPr b="0" i="1" lang="de-AT" sz="2800" spc="-1" strike="noStrike">
                <a:solidFill>
                  <a:srgbClr val="000000"/>
                </a:solidFill>
                <a:latin typeface="Courier New"/>
              </a:rPr>
              <a:t>ClassPath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\java\aw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ird etwa das Paket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ava.awt.*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mportiert, so bedeutet das, dass alle Klassen  (Programme) des Unterverzeichnisses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w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importiert werden und damit im eigenen Programm verwendet werd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54A-7BD6-4332-8FAA-FACEA33A78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Eigene Pakete - Bsp1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2000" spc="-1" strike="noStrike">
                <a:solidFill>
                  <a:srgbClr val="008000"/>
                </a:solidFill>
                <a:latin typeface="Courier New"/>
              </a:rPr>
              <a:t>/*Programm PaketinhaltA.java - </a:t>
            </a:r>
            <a:br>
              <a:rPr sz="2000"/>
            </a:br>
            <a:r>
              <a:rPr b="1" lang="de-AT" sz="2400" spc="-1" strike="noStrike">
                <a:solidFill>
                  <a:srgbClr val="008000"/>
                </a:solidFill>
                <a:latin typeface="Courier New"/>
              </a:rPr>
              <a:t>im Verzeichnis meinpaket</a:t>
            </a:r>
            <a:r>
              <a:rPr b="1" lang="de-AT" sz="2000" spc="-1" strike="noStrike">
                <a:solidFill>
                  <a:srgbClr val="008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meinpaket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werBistDu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"Hier ist die Methode 'WerBistDu' “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+"aus dem Paket 'meinpaket'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"Ich stehe in der Klasse A'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"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91320" y="1730520"/>
            <a:ext cx="3352680" cy="192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956-D937-48D4-B792-986B0253FA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Eigene Pakete - Bsp2 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8000"/>
                </a:solidFill>
                <a:latin typeface="Courier New"/>
              </a:rPr>
              <a:t>//Programm PaketinhaltB.java - im Verzeichnis meinpa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ackage meinpak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werBistDu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"Hier ist die Methode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‚werBistDu' "+"aus dem Paket 'meinpaket'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"Ich stehe in der Klass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B'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"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853-FAE1-420F-98B5-CFB7DDAA4D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Eigene Pakete - Bsp3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8000"/>
                </a:solidFill>
                <a:latin typeface="Courier New"/>
              </a:rPr>
              <a:t>/*Programm UnterPaketinhaltC.java - Verzeichnis meinunterpaket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meinpaket.meinunterpaket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werBistDu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"Hier ist die Methode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‚werBistDu' aus dem "+ "Pake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meinpaket.meinunterpaket'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"Ich stehe in der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Klass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"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043-D6A2-4C2F-BFC4-0B2CB3FE5C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ackages - zu beacht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135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Klassen im Package sollten als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deklariert werde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lle nicht als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deklarierten Klassen können nur innerhalb des Packages aufgerufen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Compiler sucht im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lasspath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nach Pake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 Fehler beim Kompilieren von Packages zu vermeiden, kompilieren Sie alle Java-Quellcode Dateien in einem Verzeichnis zeitgleich m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:\..\javac *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Um Packages weltweit eindeutig zu benennen wird der Pfad als verkehrter Domain-Name des Klassenerzeugers gewählt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om.su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37A-146B-4A63-BE22-3BD9FFA926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ackage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5703840" cy="3279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29480" y="414972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(Klasse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0560" y="4581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(Klasse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D33-2C13-437D-B318-1F53798D10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wendung v. Packages - Bsp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431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8000"/>
                </a:solidFill>
                <a:latin typeface="Courier New"/>
              </a:rPr>
              <a:t>/*Programm Pakettest.java. Wenn das Package meinpaket nicht im classpath eingetragen ist muss dieses Programm im gleichen Verzeichnis, wie das Verzeichnis meinpaket stehen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meinpaket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meinpaket.meinunterpake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Pakettest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main(String args[]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de-AT" sz="2000" spc="-1" strike="noStrike">
                <a:solidFill>
                  <a:srgbClr val="008000"/>
                </a:solidFill>
                <a:latin typeface="Courier New"/>
              </a:rPr>
              <a:t>// Objekte deklari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A objectA; B objectB; C object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de-AT" sz="2000" spc="-1" strike="noStrike">
                <a:solidFill>
                  <a:srgbClr val="008000"/>
                </a:solidFill>
                <a:latin typeface="Courier New"/>
              </a:rPr>
              <a:t>// Instanzen der Objekte erzeu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objectA=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A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objectB=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B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objectC=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C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de-AT" sz="2000" spc="-1" strike="noStrike">
                <a:solidFill>
                  <a:srgbClr val="008000"/>
                </a:solidFill>
                <a:latin typeface="Courier New"/>
              </a:rPr>
              <a:t>// Aufruf der Methode 'WerBistDu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objectA.WerBistDu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objectB.WerBistDu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objectC.WerBistDu();}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85D-4E5D-4601-A3C1-7878620240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wendung v. Packages - Bsp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8320" y="1773360"/>
            <a:ext cx="8855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usga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ier ist die Methode „werBistDu“ aus dem Paket „meinpaket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ch stehe in der Klas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ier ist die Methode „werBistDu“ aus dem Paket „meinpaket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ch stehe in der Klas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ier ist die Methode „werBistDu“ aus dem Paket „meinpaket.meinunterpaket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ch stehe in der Klass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3C2-EACC-4EB9-9FE4-6DDBD2C2D7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Inhalt dieser Einhei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80720" y="2285640"/>
            <a:ext cx="6782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ckages (= Klassenbiblioth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ckages er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ckages import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ckages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andard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9840" y="1676520"/>
            <a:ext cx="141264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50F-45DA-49BF-A50F-36588D9C73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Java-Standard-Package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java.lang /*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ird implizit immer importiert (kein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-Anweisung nötig), enthält z.B. Klass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tring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/Aus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java.math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athematische K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ützliche Klassen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Datum, Random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java.net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ür die Kommunikation über Netzwe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java.awt /*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lassen für die Benutzerschnittstelle und Graphikprogrammierung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formation bietet die Spezifikation der Java-AP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F60-C6EB-426A-AE27-7910699531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ackages verwend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s Packag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wird immer implizit import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erwendungsbeispiel: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ystem.out.println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ist eine Klasse im Packag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java.l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ist eine statische Variable in der Klass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ystem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om Typ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rintSt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 der Klass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ist die Methode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rintln(String)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defin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itte unbedingt nachvollziehen auf: http://java.sun.com/j2se/1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/docs/ap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5BC-D75D-4445-BA5C-A42A6908BC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Java API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B2C-3E9A-4857-A00A-CE53833269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91520" y="2362320"/>
            <a:ext cx="1203120" cy="1523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ernkontrol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ie kennen die Möglichkeiten der Verwendung von Packag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Problematik von Namenskonflik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erlegen Sie Ihr Programm zur Umwandlung römischer Zahlen in Package und Programmcode und bringen Sie das Programm zum Lau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reiben Sie ein Programm, das die vergangenen Millisekunden seit dem 1. Januar 1970 (GMT) ausgibt. Benutzen Sie dazu die Klass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s dem Packag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er Java AP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560-429F-418B-B4BC-4CF5E1E33A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Code-Reus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Einbinde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von bereits (selbst-/fremd) programmiertem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Wiederverwendung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von Klassen, mit oder ohne deren Implementierung zu ke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aria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bjekte aus vorhandenen Klassen (Packages)</a:t>
            </a: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 abl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808080"/>
                </a:solidFill>
                <a:latin typeface="Arial"/>
              </a:rPr>
              <a:t>Vererbung (vorhandene Klassen </a:t>
            </a:r>
            <a:r>
              <a:rPr b="1" lang="de-AT" sz="2800" spc="-1" strike="noStrike">
                <a:solidFill>
                  <a:srgbClr val="808080"/>
                </a:solidFill>
                <a:latin typeface="Arial"/>
              </a:rPr>
              <a:t>erweitern</a:t>
            </a:r>
            <a:r>
              <a:rPr b="0" lang="de-AT" sz="2800" spc="-1" strike="noStrike">
                <a:solidFill>
                  <a:srgbClr val="808080"/>
                </a:solidFill>
                <a:latin typeface="Arial"/>
              </a:rPr>
              <a:t> und </a:t>
            </a:r>
            <a:r>
              <a:rPr b="1" lang="de-AT" sz="2800" spc="-1" strike="noStrike">
                <a:solidFill>
                  <a:srgbClr val="808080"/>
                </a:solidFill>
                <a:latin typeface="Arial"/>
              </a:rPr>
              <a:t>spezialisieren</a:t>
            </a:r>
            <a:r>
              <a:rPr b="0" lang="de-AT" sz="28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03A-274D-4C1E-97B2-9FDB90ADA1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lassenbibliothek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Packages sind Bibliotheken mit bereits implementiertem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Packages können in eigenen Programmen verwendet werden kan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Verschiedene, funktional zusammengehörende Klassen werden in Packages integri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Um die im Package implementierten Klassen und deren Methoden verwenden zu können, müssen sie importiert werd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9AF-1267-46E5-9AAB-92559008A9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fügbare Klassenbibliothek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lassen der Java-Plattform werden mit dem JDK ausgeliefert. </a:t>
            </a:r>
            <a:br>
              <a:rPr sz="28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http://java.sun.com/products/jdk/1.3/docs/api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PIs (Application Programming Interface): Gesamtheit zusammengehörender Pakete, definiert die Schnitt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on Dritten programmierte Klassen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(z.B. aus dem 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36A-F6B8-49E5-A86C-F125EDF982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orteile von Package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Verwendung von Packages brin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olgende Vorte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ystematische Ordnung der einzelnen Klassen bei gleichzei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urzem und leicht überschaubarem Programm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s Deklarieren als Package bewirkt, dass alle Methoden und Variablen der Klasse von anderen Klassen des Packages zugreifbar s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DF9-EF2F-47B2-83AB-9185AAF55A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orteile von Package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eitere Vorte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s Deklarieren als Package bewirkt, dass alle Methoden und Variablen der Klasse von anderen Klassen des Packages zugreifbar s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Gleichzeitig bewirkt das Organisieren von Klassen in Packages, dass Klassen aus fremden Packages nicht auf die eigenen Klassen zugreif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ackages ermöglichen überschaubare Namensräume (name spac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06A-042D-4274-BA4D-A630E1F7E0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Namenskonflikt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02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amenskonflikte bei Packages bezeichnen die mehrfache Vergabe gleicher Bezeichner für verschiedene Kl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amenskonflikte bei eigenen Paketen vermeiden, bei fremden durch implizite Angabe des Packages lö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8000" y="4149720"/>
          <a:ext cx="5689800" cy="22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149720"/>
                    <a:ext cx="5689800" cy="22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462-5DDA-4971-9F9C-C4C2C47D8F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ackages erstell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 allen Klassen die zu einem Package gehören, muss der Name des Packages mit </a:t>
            </a:r>
            <a:r>
              <a:rPr b="1" i="1" lang="de-AT" sz="28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AT" sz="2800" spc="-1" strike="noStrike">
                <a:solidFill>
                  <a:srgbClr val="000000"/>
                </a:solidFill>
                <a:latin typeface="Courier New"/>
              </a:rPr>
              <a:t>packageName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angeführ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ekla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mypackag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MyClass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E00-5E7F-4923-B5CC-222B579470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Rainer Klimesch, Marion Kaukal</dc:creator>
  <dc:description/>
  <dc:language>en-US</dc:language>
  <cp:lastModifiedBy>Susanne Guth</cp:lastModifiedBy>
  <cp:lastPrinted>2001-09-26T09:36:57Z</cp:lastPrinted>
  <dcterms:modified xsi:type="dcterms:W3CDTF">2003-05-02T13:25:59Z</dcterms:modified>
  <cp:revision>814</cp:revision>
  <dc:subject/>
  <dc:title>Java - Packa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java@alice.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