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5481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59F20A-1192-43AE-BA10-D264DBD37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40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7880" y="472140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398400" y="9434520"/>
            <a:ext cx="33958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4F5B19-A5F9-4613-B58C-E20E5E4147E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7880" y="472140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&gt;java Kontruktor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SuperKlasse constr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SubKlasse constr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SubSubKlasse constr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7880" y="472140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&gt;java Kontruktor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SuperKlasse constr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SubKlasse constr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SubSubKlasse constr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E57-BC9C-41FA-9326-60C5A90E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0AC-F937-4759-8844-3AA1B8F4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D86-758A-4911-9DE9-EA86E191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293-6B43-4152-8701-0434BA92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4BE-2D4F-4CC2-A0C9-13137AFD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980-C43C-4420-B6BD-B86AFBC6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A02-DC28-4C07-B24F-3B895DAD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EC0-60A5-4F30-A56F-F862865A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FB9-09F7-4B1B-9FE6-7DE4E3EA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6E5-58B8-419F-AC5B-B8D03CD0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937-7B1C-42E7-BD62-07F11B5A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35A-C584-4B91-80F4-E3FB357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97DB-6934-4572-A56E-983B23B05E9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44440" y="6461280"/>
            <a:ext cx="484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4c88"/>
                </a:solidFill>
                <a:latin typeface="Arial"/>
              </a:rPr>
              <a:t>Grundzüge der Programmierung – Vererbung © Guth, Kaukal, Klimesch 2000-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209680" cy="1785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00400" y="2057040"/>
            <a:ext cx="4648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104c88"/>
                </a:solidFill>
                <a:latin typeface="Arial"/>
              </a:rPr>
              <a:t>Wiederverwendung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ERB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6320" y="304920"/>
            <a:ext cx="9296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rundzüge der Programm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761-66B7-4823-BA2C-00C5871FF0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ubklasse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Perso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Spezialisierung erfolgt durch Implementierung der zusätzlichen Eigenschaften und Methoden sowie durch Überschreiben der Methoden.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Person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Lebewesen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tring beruf; </a:t>
            </a: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neu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erson (){...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laufen(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beine){...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essen(){...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radfahren(){...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400-1123-478C-8B25-08F18394E0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ubklasse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Hund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plementierung der 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Hund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. Die Method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aufen(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beine)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 u="sng">
                <a:solidFill>
                  <a:srgbClr val="000000"/>
                </a:solidFill>
                <a:uFillTx/>
                <a:latin typeface="Arial"/>
              </a:rPr>
              <a:t>muss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hier implementiert werd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Hund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Lebewesen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tring rasse; </a:t>
            </a: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neu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Hund (){...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laufen(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beine){...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fressen(){...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bellen(){...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9CB-A728-4867-BAD4-094041CE6C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Fehlerque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Die Methoden der Superklasse bleiben verfügbar, wenn sie mit anderen Parametern überschrieben wurden (entsprich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Method-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Overloadi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[vgl. Ecke00, 286f., Bsp. c06:Hide.java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999-B2C7-4D0E-9466-74E6B80EA3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onstruktoren in Subklass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8591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Konstruktoren der Superklassen müssen immer aufgerufen werden </a:t>
            </a:r>
            <a:br>
              <a:rPr sz="2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(Ausnahme: Konstruktor ohne Argumente)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ava-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CheckingAccount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extends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ccount{</a:t>
            </a:r>
            <a:br>
              <a:rPr sz="24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CheckingAccount (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newNumber,newNumber, newName){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(newNumber,new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 als erste Anweisung im 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1DC-5C89-4F0B-9AD3-13998D9328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Reihenfolge der Initialisierung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6019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im Aufruf des Konstruktor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zw. bei Erzeugen eines neues Objekts, einer abgeleiteten Klasse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wird wie folgt vorgega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1. Überschreiben des benötigten Speicherplatzes mi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2. Aufruf der Konstruktoren aller Superklassen (Top-Dow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3. Initialisierung der Instanzvariablen der Superk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4. Ausführung des Konstruktors der abgeleiteten K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372360" y="1752480"/>
          <a:ext cx="2160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752480"/>
                    <a:ext cx="2160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FBF-AAEA-41F4-B3AD-EC50ED3A9E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: 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Was ist der Output?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perKlas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uperKlasse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ystem.out.println("SuperKlasse construct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bKlass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perKlas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ubKlasse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ystem.out.println("SubKlasse construct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bSubKlass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bKlas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ubSubKlasse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ystem.out.println("SubSubKlasse construct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KonstruktorDem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ubSubKlasse s =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bSubKlas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D8B-350A-46A7-BAC8-9BD9A18695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ufruf von Konstrukto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0000"/>
                </a:solidFill>
                <a:latin typeface="Arial"/>
              </a:rPr>
              <a:t>ACHTUNG!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Konstruktoren der Superklasse müssen immer explizit (mit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(..)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) aufgerufen wer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snahme: Konstruktoren ohne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Aufruf des Konstruktors der Superklasse ist die erste Anweisung im Konstruktor der Subk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Hund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Hund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E6D-2E4A-4C82-A667-962B24E6CD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super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können generell Methoden von Superklassen aufgerufen werden. 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Hund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void bellen(String lau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ystem.out.println(la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chäferhund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Hund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void bellen(String lau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tring newLaut = laut + lau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uper.bellen(newLa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70D-1CD4-4B57-A4DC-449DE7A8E0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: 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onstruktoren mit Parameter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perKlas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ring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uperKlasse(String firs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 = firs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ystem.out.println("SuperKlasse Konstruktor wurd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ufgerufen und Instanzvariable f mit " + f + "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elegt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bKlass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perKlas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ubKlasse(String first, String secon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uper(fir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 = secon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ystem.out.println("SubKlasse Konstruktor wurd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ufgerufen und Instanzvariable s mit " + s + "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elegt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B2A-77C5-4BA5-9E04-11EC7F833F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: 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onstruktoren mit Parameter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bSubKlasse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SubKlas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tring 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ubSubKlasse(String first, String second, String thir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first, seco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t = thi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ystem.out.println("SubSubKlasse Konstruktor wurd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ufgerufen und Instanzvariable t mit " + t + "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belegt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KonstruktorTes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ubSubKlasse s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SubSubKlasse("First","Second","Third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3F9-040E-4CCF-B1E3-9DE7D7DDC7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6520" y="1599840"/>
            <a:ext cx="617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Syntax: Vererbung in 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uperklassen - Sub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onstruktorenaufruf in Sub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bs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th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th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141264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FA1-929A-4892-957A-7E2902C84A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Fehlerquelle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0000"/>
                </a:solidFill>
                <a:latin typeface="Arial"/>
              </a:rPr>
              <a:t>ACHTUNG: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er Aufruf dynamisch gebundener Methoden in Konstruktoren vor der vollständigen Initialisierung führt zu Fehlern (vgl. c07:PolyConstructors.java [Ecke00]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ösu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 Konstruktor keine oder nur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deklarierte Methoden aufruf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1A3-41B2-4453-9C7B-7AE8E704CE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bstrakte Method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strakte Methoden dienen zur Erzeugung eines einheitlichen Interface (Methodenname und Parameterliste) für alle abgeleiteten Subklasse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ur dieses einheitliche Interface wird in der Superklasse defin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Kennzeichnung einer Methode als abstrakt erzwingt ihre Implementierung in den  Sub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 abstrakte (d.h. nicht vollständig implementierte) Methode darf nie aufgerufen wer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Java-Syntax der Deklaration abstrakter Methoden: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bstract 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methodenName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(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A13-4ECF-4EEA-8502-73505569BA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bstrakte Klass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oll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eine Instanzen einer Klasse geben, und/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 einheitliches Interface (Methoden und Parameterliste) für alle abgeleiteten Subklassen definiert werd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nn wird die Klasse als abstrakte Klasse defin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 mindestens einer Methode wird nur die Schnittstelle definiert, ihre Implementierung erfolgt in den Subklass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AC9-85BE-4FA3-A418-AFFB4101C6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bstrakte Klassen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Kennzeichnung einer Klasse als abstrakt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verhinder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, dass Instanzen dieser Klasse erzeugt werden könn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 Klasse mit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bstrakt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Methoden muss als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bstrakte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Klasse definier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lle abstrakten Methoden müssen in den Subklassen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implementier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werden (außer die Subklasse ist selbst wieder eine abstrakte Klass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icht alle Methoden einer abstrakten Klasse müssen abstrakt definier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Java-Syntax der Klassendeklaration: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bstract class </a:t>
            </a: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KlassenName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Siehe Beispiel Account.java  (abstrakte Klas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3E5-3B6C-463E-8BDE-3ABF97C25B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Abstrakte Superklasse </a:t>
            </a:r>
            <a:r>
              <a:rPr b="1" lang="de-AT" sz="4000" spc="-1" strike="noStrike">
                <a:solidFill>
                  <a:srgbClr val="104c88"/>
                </a:solidFill>
                <a:latin typeface="Courier New"/>
              </a:rPr>
              <a:t>Lebewesen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ebewes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wird als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deklariert, die Method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auf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muss in allen direkten Subklassen implementiert wer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abstract class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Lebewesen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rotected String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rotected in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alter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Lebewesen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(in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){...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chlafen()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{...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abstract void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laufen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(in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beine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 to be implemented in the SUB-class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639-71CC-4DA9-9F54-116D48E013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final + primitive Typ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Der Wert der „Variablen“ ist konstant.</a:t>
            </a:r>
            <a:br>
              <a:rPr sz="3200"/>
            </a:br>
            <a:br>
              <a:rPr sz="12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final int I = 0;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++;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Anweisung nicht möglich</a:t>
            </a:r>
            <a:br>
              <a:rPr sz="2400"/>
            </a:b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Der Wert von i kann nicht verändert werden</a:t>
            </a:r>
            <a:r>
              <a:rPr b="0" i="1" lang="de-AT" sz="2400" spc="-1" strike="noStrike">
                <a:solidFill>
                  <a:srgbClr val="00cc99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Fehlermeldung des Compilers: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Test.java:4: Can't assign a value to a final variable: I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            I++;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            ^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1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C4B-2E08-4685-BE2E-CACC232A41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final + ObjektTyp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Die Referenz ist konstant. </a:t>
            </a:r>
            <a:br>
              <a:rPr sz="32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final Number N1 = new Number(19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umber n2 = new Number(4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1 = n2;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cc99"/>
                </a:solidFill>
                <a:latin typeface="Courier New"/>
              </a:rPr>
              <a:t>/*Anweisung nicht möglich. Der Variablen n1 kann keine neue Referenz zugewiesen werden.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cc99"/>
                </a:solidFill>
                <a:latin typeface="Courier New"/>
              </a:rPr>
              <a:t>Assignment.java:26: cannot assign a value to final variable 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cc99"/>
                </a:solidFill>
                <a:latin typeface="Courier New"/>
              </a:rPr>
              <a:t>                </a:t>
            </a:r>
            <a:r>
              <a:rPr b="1" lang="de-DE" sz="1800" spc="-1" strike="noStrike">
                <a:solidFill>
                  <a:srgbClr val="00cc99"/>
                </a:solidFill>
                <a:latin typeface="Courier New"/>
              </a:rPr>
              <a:t>N</a:t>
            </a:r>
            <a:r>
              <a:rPr b="1" lang="de-AT" sz="1800" spc="-1" strike="noStrike">
                <a:solidFill>
                  <a:srgbClr val="00cc99"/>
                </a:solidFill>
                <a:latin typeface="Courier New"/>
              </a:rPr>
              <a:t>1 =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cc99"/>
                </a:solidFill>
                <a:latin typeface="Courier New"/>
              </a:rPr>
              <a:t>                </a:t>
            </a:r>
            <a:r>
              <a:rPr b="1" lang="de-AT" sz="1800" spc="-1" strike="noStrike">
                <a:solidFill>
                  <a:srgbClr val="00cc99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cc99"/>
                </a:solidFill>
                <a:latin typeface="Courier New"/>
              </a:rPr>
              <a:t>1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1.i = n2.i;//Anweisung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D92-09AC-43D6-AB60-36AB814887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final + methodenParameter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Parameter ist in der Methode nicht veränderba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deposit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(final doubl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VALUE = VALUE * 2;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*Anweisung nicht möglich. Der Variablen VALUE kann kein neuer Wert zugewiesen werden.*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balance+= VALUE;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Anweisung möglich</a:t>
            </a:r>
            <a:br>
              <a:rPr sz="24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60A-75B7-492B-9AE3-280C42B092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final + methode 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s Überschreiben der Methode wird verhindert (Gründe: Effizienzsteigerung oder Veränderung verhinder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+ Methode entspricht impliziten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Überschriben einer als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deklarierten Methode (mit gleichen Parametern) erzeugt eine neue, gleichnamige Meth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16A-1E7F-48B9-9737-8022180906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final + Klass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e Vererbung dieser Klasse ist nicht möglich. Damit soll die Sicherheit oder Effizienz gesteigert werden. Die Methoden einer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definierten Klasse sind implizit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definiert.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final 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FinalClass{}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ubClasse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FinalClass{}</a:t>
            </a:r>
            <a:br>
              <a:rPr sz="2400"/>
            </a:b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Anweisung nicht mögli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ehlermeldung des Compilers:</a:t>
            </a:r>
            <a:br>
              <a:rPr sz="28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Test.java:12: Can't subclass final classes: class Number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 class Test extends Number{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                     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5F3-957E-4DE1-B1F4-7BF2EE82C8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Code-Reuse (</a:t>
            </a: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Wh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inbinden von bereits (selbst-/fremd) programmiertem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Wiederverwendung von Klassen, ohne deren Implementierung zu k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ari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808080"/>
                </a:solidFill>
                <a:latin typeface="Arial"/>
              </a:rPr>
              <a:t>Ableiten</a:t>
            </a:r>
            <a:r>
              <a:rPr b="0" lang="de-AT" sz="2800" spc="-1" strike="noStrike">
                <a:solidFill>
                  <a:srgbClr val="808080"/>
                </a:solidFill>
                <a:latin typeface="Arial"/>
              </a:rPr>
              <a:t> von Objekten aus vorhandenen 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Vererbung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(Klassen erweitern und spezialisi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DAF-B4C3-47DE-8A48-2DDC3AA02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ernkontro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Analysieren Sie das Beispiel c06:PlaceSetting.java von Bruce Eck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estimmen Sie den Bildschirm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ergleichen Sie Ihr Ergebnis mit dem tatsächlichen Ergeb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Ändern Sie das Programm zum besseren Verständnis so ab, dass auch der Integerwert i ausgegeben w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C0E-8391-4352-8E61-BA0492E3EA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ernkontrolle</a:t>
            </a: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/Üb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Implementieren Sie zum Beispiel ATM3 die notwendige Klasse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CheckingAccount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s ist der Unterschied zwischen „überschreiben“ von Methoden und „überladen“ von Metho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exercise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1682640" cy="147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2A6-D480-42E1-B0C5-026029006C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erbung (Wh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rbung bedeutet, dass eine Klasse B (Subklasse) übe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genschaf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da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hal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r Klasse A (Superklasse) verfügen kan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Klasse B (Subklasse) kann das geerbte Verhalt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definieren (überschreibe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/oder um zusätzliche Attribute und Oper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weiter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eichnungen fü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lgemeiner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lassen: Basisklasse, Superklasse oder Generalisierung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eichnung fü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zieller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lassen: abgeleitete Klasse, Subklasse oder Spezialisi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081-8E90-41C8-9F1A-567CDB7CDB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Vererbung in Java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de-AT" sz="30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0" lang="de-AT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3000" spc="-1" strike="noStrike">
                <a:solidFill>
                  <a:srgbClr val="000000"/>
                </a:solidFill>
                <a:latin typeface="Courier New"/>
              </a:rPr>
              <a:t>extends </a:t>
            </a:r>
            <a:r>
              <a:rPr b="0" lang="de-AT" sz="3000" spc="-1" strike="noStrike">
                <a:solidFill>
                  <a:srgbClr val="000000"/>
                </a:solidFill>
                <a:latin typeface="Courier New"/>
              </a:rPr>
              <a:t>Superclass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de-AT" sz="3000" spc="-1" strike="noStrike">
                <a:solidFill>
                  <a:srgbClr val="000000"/>
                </a:solidFill>
                <a:latin typeface="Courier New"/>
              </a:rPr>
              <a:t>Variablen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de-AT" sz="3000" spc="-1" strike="noStrike">
                <a:solidFill>
                  <a:srgbClr val="000000"/>
                </a:solidFill>
                <a:latin typeface="Courier New"/>
              </a:rPr>
              <a:t>Methoden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364-2ACC-4D5A-86F8-3376816E0E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hierarchie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Lebewesen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7480" y="40384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b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520" y="19051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per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33720" y="1600200"/>
          <a:ext cx="7467480" cy="43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746748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1FF-DA87-4D2D-87C4-0E13FE79C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uperklasse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Lebewes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Gemeinsamkeiten aller Lebewesen werden in der Super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ebewes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beschrie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Lebewesen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rotected String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rotected in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alter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Lebewesen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(in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){...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chlafen()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{...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laufen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(in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beine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) {...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6BC-EA68-496A-88C9-B5AE1F5C16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erbung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Lebewesen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ebewes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definiert ein allgemeines  Lebewes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beschreibt einen und erbt alle Eigenschaften und Methoden der 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ebewes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ava-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Person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extends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Lebewesen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* zusätzliche Variable und Methoden definieren,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 überschreiben bestehender Meth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D70-63DB-4A71-8DFF-802081263B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Überschreiben von Method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schreiben einer Metho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geänderte Implementierung einer Methode mit gleichem Namen und gleichen Übergabeparametern in einer Subklas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upe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print() { System.out.println(„print() in class Super“)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extends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print() { System.out.println(„print() in class Sub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print(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wird in der Klass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„überschrieben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EF1-6E72-441E-8486-9D27CE313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guth</cp:lastModifiedBy>
  <cp:lastPrinted>2001-09-26T09:37:12Z</cp:lastPrinted>
  <dcterms:modified xsi:type="dcterms:W3CDTF">2003-05-28T16:25:55Z</dcterms:modified>
  <cp:revision>883</cp:revision>
  <dc:subject/>
  <dc:title>Java - Einführu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java@alice.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