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F69-716C-4FF9-B702-6843C783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014-B055-4638-AF19-3CBAC066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5CC-0284-4E8D-BC79-D900F9AB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B5D-C1F0-4D55-A83A-B3D81E2E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8C4-720B-4792-B2E3-F97A1B73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3A6-0B08-4BCD-8457-DC71ADDD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050-BA68-44EF-8A87-0E82DF23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2F7-4A7E-4B0F-81E7-74D9EE95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729-BF4C-4EC4-93AE-D3200FD0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36A-9267-48CD-AADF-EAE96EE0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3AD-870F-4589-8D6E-12C83DB9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552-7598-479A-B264-4CA2DEF3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6316-DD70-4AA2-91EA-03CB481ECA78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8840" y="6461280"/>
            <a:ext cx="5382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4c88"/>
                </a:solidFill>
                <a:latin typeface="Arial"/>
              </a:rPr>
              <a:t>Grundzüge der Programmierung – Wiederverwendung  © Guth, Kaukal, Klimesch 2000-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2514600" cy="17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32004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104c88"/>
                </a:solidFill>
                <a:latin typeface="Arial"/>
              </a:rPr>
              <a:t>Wiederverwendung</a:t>
            </a:r>
            <a:br>
              <a:rPr sz="36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OLYMORP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rundzüge der Programm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D67-D4EB-46C0-AC6C-0B683F04C8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olymorphie 2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ird auch 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dynamic binding, late binding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run-time-binding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genannt. (Programmcode der Methode wird an den Methodenaufruf gebund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elche Methode aufgerufen wird, kann erst zur Laufzeit (run-time) bestimmt werden, weil erst dann die aktuelle Objektklasse bekannt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olymorphie funktioniert nur im Zusammenhang mit 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Vererbung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4FF-A1AF-48BB-8BFB-C97DDD8B56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olymorphie 3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olymorphismus durch Typ-Konversion und -Erweiterung: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 Funktion (oder ein Operator, oder eine Methode), an die Argumente mit abweichenden Typen übergeben werden, konvertiert diese in die erwarteten Ty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Reiner Polymorphismus durch virtuelle Funktionen: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 Klasse (ist gleichzeitig ein Typ) kann Subtyp von einer anderen Klasse sein. Die Methoden der Basisklasse sind gleichzeitig für den Subtyp anwendbar. Der Subtyp kann eine unterschiedliche Implementieru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Überschreibung)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Methode besitzen. Die Auswahl der entsprechenden Methode erfolgt zur Laufzeit unter Berücksichtigung des Objek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0E4-B395-42B4-86AC-D68BF68E32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olymorphie Def.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"Calling a Java/virtual method using a reference 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generalized superclass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of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real objec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invoke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ethod in the </a:t>
            </a: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actual objec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(the more specific subclas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using a </a:t>
            </a: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bottom-up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searching mechanism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768-2F58-48E4-9F83-4D35CD12C5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lassenhierarchie 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. Account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1840" y="37339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3960" y="20574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uper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2852640"/>
            <a:ext cx="205740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ouble getBalance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posit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withDraw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1600200"/>
            <a:ext cx="206676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1905120"/>
            <a:ext cx="206676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t number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ouble balance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ring name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free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5305320"/>
            <a:ext cx="274320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ing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check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checkAuthorization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rep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ring getWrongPin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32360" y="4292640"/>
            <a:ext cx="274320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ing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4597560"/>
            <a:ext cx="2743200" cy="733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t pin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t wrongPinCount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ouble maxOver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4870440"/>
            <a:ext cx="2743200" cy="733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avings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check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checkAutho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4292640"/>
            <a:ext cx="274320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avings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4597560"/>
            <a:ext cx="274320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ring pass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0" idx="0"/>
            <a:endCxn id="83" idx="2"/>
          </p:cNvCxnSpPr>
          <p:nvPr/>
        </p:nvCxnSpPr>
        <p:spPr>
          <a:xfrm flipH="1" flipV="1" rot="5400000">
            <a:off x="3474000" y="3318120"/>
            <a:ext cx="275400" cy="1674000"/>
          </a:xfrm>
          <a:prstGeom prst="bentConnector3">
            <a:avLst>
              <a:gd name="adj1" fmla="val 496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0"/>
            <a:endCxn id="83" idx="2"/>
          </p:cNvCxnSpPr>
          <p:nvPr/>
        </p:nvCxnSpPr>
        <p:spPr>
          <a:xfrm flipV="1" rot="16200000">
            <a:off x="5238000" y="3226680"/>
            <a:ext cx="275400" cy="1856520"/>
          </a:xfrm>
          <a:prstGeom prst="bentConnector3">
            <a:avLst>
              <a:gd name="adj1" fmla="val 496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435-B8CE-424A-A290-1B4E93D502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olymorphie 1 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 Account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2612880"/>
            <a:ext cx="243828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ccount()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getBalanc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depos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withDraw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4699080"/>
            <a:ext cx="3200400" cy="45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Savings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5638680"/>
            <a:ext cx="320040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avingsAccount()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he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: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avingsAccoun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SavingsAccount =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SavingsAccount(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double d =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aSavingsAccount.getBalanc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ührt die Method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getBalance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Superklass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ccount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7" idx="0"/>
            <a:endCxn id="96" idx="2"/>
          </p:cNvCxnSpPr>
          <p:nvPr/>
        </p:nvCxnSpPr>
        <p:spPr>
          <a:xfrm flipV="1">
            <a:off x="7391160" y="4203000"/>
            <a:ext cx="1080" cy="48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791320" y="5181480"/>
            <a:ext cx="3200400" cy="48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2133720"/>
            <a:ext cx="243828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9E9-373A-4AC7-9366-792CB42B90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olymorphie 2 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 Account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18240" y="1676520"/>
            <a:ext cx="2057400" cy="45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18240" y="2612880"/>
            <a:ext cx="205740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ccount()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depos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withDraw()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he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4508640"/>
            <a:ext cx="3429000" cy="45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hecking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5423040"/>
            <a:ext cx="342900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heckingAccount()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he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0"/>
            <a:endCxn id="105" idx="2"/>
          </p:cNvCxnSpPr>
          <p:nvPr/>
        </p:nvCxnSpPr>
        <p:spPr>
          <a:xfrm flipV="1">
            <a:off x="7365600" y="4203000"/>
            <a:ext cx="2818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50920" y="1752480"/>
            <a:ext cx="622620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heckingAccoun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CheckingAccount</a:t>
            </a:r>
            <a:r>
              <a:rPr b="0" lang="de-AT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=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CheckingAccount(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double d =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aCheckingAccount.withDraw(5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ührt die Method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withDraw()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Superklasse Account aus,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se ruft die Method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heck()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Subklasse CheckingAccount au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siehe Accoun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18240" y="2133720"/>
            <a:ext cx="205740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4965840"/>
            <a:ext cx="3429000" cy="48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D3B-6500-475B-BF14-7029D1A224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Upcasting Def. 1 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 Account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Upcasting erlaubt die Verwendung eines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bjekts einer Subklasse als Objekt seiner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uperk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stanzen vom Datentyp Subklasse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önnen dabei einer Variable vom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tentyp Superklasse zugewiesen werden.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  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ccount a =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CheckingAccount();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heckingAccount ca1 =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CheckingAccount();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Account a = ca1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*Hier wird die Instanz der Klasse CheckingAccount zur Klasse Account upgecastet.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1752480"/>
            <a:ext cx="213048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2819520"/>
            <a:ext cx="2895480" cy="45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Savings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5" idx="0"/>
            <a:endCxn id="114" idx="2"/>
          </p:cNvCxnSpPr>
          <p:nvPr/>
        </p:nvCxnSpPr>
        <p:spPr>
          <a:xfrm flipH="1" flipV="1">
            <a:off x="7617600" y="2247840"/>
            <a:ext cx="2520" cy="559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E65-0629-4D00-A486-0AE10F7C0F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Upcasting Def. 2 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 Account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bjekte der Subklassen können auch dann als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arameter einer Methode übergeben werden,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enn der definierte Datentyp eine Superklasse ist.</a:t>
            </a:r>
            <a:br>
              <a:rPr sz="2400"/>
            </a:br>
            <a:br>
              <a:rPr sz="1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ethodendeklaration: 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Kundenbetreuer {</a:t>
            </a:r>
            <a:br>
              <a:rPr sz="2400"/>
            </a:br>
            <a:r>
              <a:rPr b="0" lang="de-AT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0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anlageberatung(Account a){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0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(a.getBalance() &gt; 1000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0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0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siehe Bankfiliale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1752480"/>
            <a:ext cx="129528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048120"/>
            <a:ext cx="220968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Savings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0" idx="0"/>
            <a:endCxn id="119" idx="2"/>
          </p:cNvCxnSpPr>
          <p:nvPr/>
        </p:nvCxnSpPr>
        <p:spPr>
          <a:xfrm flipV="1">
            <a:off x="7962480" y="2157120"/>
            <a:ext cx="1080" cy="87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534-2ED2-4EC4-94B9-ECC921342C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Upcasting Def. 3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 Account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bjekte der Subklassen als Parameter übergeben.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ethodenaufruf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Kundenbetreuer k1 =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Kundenbetreuer(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heckingAccount ca1 =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CheckingAccount(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k1.anlageberatung(ca1); </a:t>
            </a:r>
            <a:br>
              <a:rPr sz="2400"/>
            </a:br>
            <a:r>
              <a:rPr b="0" lang="de-AT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ccount a =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SavingsAccount(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); </a:t>
            </a:r>
            <a:br>
              <a:rPr sz="2400"/>
            </a:br>
            <a:r>
              <a:rPr b="0" lang="de-AT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k1.anlageberatung(a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811-6DC5-42CA-A616-E906ED9774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Upcasting Def. 4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 Account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bjekte der Subklassen können auch in Datenstrukturen gespeichert werden, die für Instanzen der Superklasse definiert sind.</a:t>
            </a:r>
            <a:br>
              <a:rPr sz="2400"/>
            </a:br>
            <a:br>
              <a:rPr sz="14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ccount[] kunden =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Account[3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kunden[0] =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SavingsAccount(...); kunden[1] =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CheckingAccount(...); </a:t>
            </a:r>
            <a:br>
              <a:rPr sz="28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k1.anlageberatung(kunden[0]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k1.anlageberatung(kunden[1]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z.B.: Bankfiliale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CF6-F783-4B3F-BE28-1240752AAC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Inhalt dieser Einhei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23720" y="2286000"/>
            <a:ext cx="548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olymorph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p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Polymor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lymophie The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124308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DB5-A187-415F-B171-1035B02546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Upcasting &amp; Polymorphie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 Account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828800"/>
            <a:ext cx="5181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: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ccount a =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CheckingAccou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bool b = a.check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ührt die Method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heck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der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lass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heckingAccount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932360" y="1676520"/>
            <a:ext cx="3982680" cy="4669920"/>
            <a:chOff x="4932360" y="1676520"/>
            <a:chExt cx="3982680" cy="4669920"/>
          </a:xfrm>
        </p:grpSpPr>
        <p:sp>
          <p:nvSpPr>
            <p:cNvPr id="129" name=""/>
            <p:cNvSpPr/>
            <p:nvPr/>
          </p:nvSpPr>
          <p:spPr>
            <a:xfrm>
              <a:off x="5468400" y="1676520"/>
              <a:ext cx="2833920" cy="52056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800" spc="-1" strike="noStrike">
                  <a:solidFill>
                    <a:srgbClr val="000000"/>
                  </a:solidFill>
                  <a:latin typeface="Courier New"/>
                </a:rPr>
                <a:t>Accou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68400" y="2166120"/>
              <a:ext cx="2833920" cy="180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800" spc="-1" strike="noStrike">
                  <a:solidFill>
                    <a:srgbClr val="000000"/>
                  </a:solidFill>
                  <a:latin typeface="Courier New"/>
                </a:rPr>
                <a:t>Account()</a:t>
              </a:r>
              <a:br>
                <a:rPr sz="2800"/>
              </a:br>
              <a:r>
                <a:rPr b="0" lang="de-AT" sz="2800" spc="-1" strike="noStrike">
                  <a:solidFill>
                    <a:srgbClr val="000000"/>
                  </a:solidFill>
                  <a:latin typeface="Courier New"/>
                </a:rPr>
                <a:t>getBalance(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800" spc="-1" strike="noStrike">
                  <a:solidFill>
                    <a:srgbClr val="000000"/>
                  </a:solidFill>
                  <a:latin typeface="Courier New"/>
                </a:rPr>
                <a:t>deposit(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800" spc="-1" strike="noStrike">
                  <a:solidFill>
                    <a:srgbClr val="000000"/>
                  </a:solidFill>
                  <a:latin typeface="Courier New"/>
                </a:rPr>
                <a:t>check(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32360" y="4485240"/>
              <a:ext cx="3982680" cy="52056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800" spc="-1" strike="noStrike">
                  <a:solidFill>
                    <a:srgbClr val="000000"/>
                  </a:solidFill>
                  <a:latin typeface="Courier New"/>
                </a:rPr>
                <a:t>CheckingAccou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32360" y="4975200"/>
              <a:ext cx="3982680" cy="947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800" spc="-1" strike="noStrike">
                  <a:solidFill>
                    <a:srgbClr val="000000"/>
                  </a:solidFill>
                  <a:latin typeface="Courier New"/>
                </a:rPr>
                <a:t>CheckingAccount()</a:t>
              </a:r>
              <a:br>
                <a:rPr sz="2800"/>
              </a:br>
              <a:r>
                <a:rPr b="0" lang="de-AT" sz="2800" spc="-1" strike="noStrike">
                  <a:solidFill>
                    <a:srgbClr val="000000"/>
                  </a:solidFill>
                  <a:latin typeface="Courier New"/>
                </a:rPr>
                <a:t>check(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1" idx="0"/>
              <a:endCxn id="130" idx="2"/>
            </p:cNvCxnSpPr>
            <p:nvPr/>
          </p:nvCxnSpPr>
          <p:spPr>
            <a:xfrm flipH="1" flipV="1">
              <a:off x="6885000" y="3860280"/>
              <a:ext cx="38880" cy="611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4932360" y="5864040"/>
              <a:ext cx="3982680" cy="482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68400" y="3852000"/>
              <a:ext cx="2833920" cy="483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673-D16C-4D8A-9462-08F62CF316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Upcasting 1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 Animal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z.B. Hierarchie Animal/Mammal/Cat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lle haben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eat()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cod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at simon =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new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at();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nimal creature = simon; </a:t>
            </a:r>
            <a:br>
              <a:rPr sz="2800"/>
            </a:br>
            <a:r>
              <a:rPr b="0" lang="de-AT" sz="2800" spc="-1" strike="noStrike">
                <a:solidFill>
                  <a:srgbClr val="00cc99"/>
                </a:solidFill>
                <a:latin typeface="Courier New"/>
              </a:rPr>
              <a:t>//upcasting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reature.eat(); </a:t>
            </a:r>
            <a:br>
              <a:rPr sz="2800"/>
            </a:br>
            <a:r>
              <a:rPr b="0" lang="de-AT" sz="2800" spc="-1" strike="noStrike">
                <a:solidFill>
                  <a:srgbClr val="00cc99"/>
                </a:solidFill>
                <a:latin typeface="Courier New"/>
              </a:rPr>
              <a:t>//polymorph, dh. eigentlich </a:t>
            </a:r>
            <a:br>
              <a:rPr sz="2800"/>
            </a:br>
            <a:r>
              <a:rPr b="0" lang="de-AT" sz="2800" spc="-1" strike="noStrike">
                <a:solidFill>
                  <a:srgbClr val="00cc99"/>
                </a:solidFill>
                <a:latin typeface="Courier New"/>
              </a:rPr>
              <a:t>//wird Cat.eat() aufgeruf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53360" y="1676520"/>
            <a:ext cx="1560600" cy="5205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A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53360" y="2209680"/>
            <a:ext cx="15606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ea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35720" y="3252960"/>
            <a:ext cx="1579680" cy="5205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Mam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35720" y="3786120"/>
            <a:ext cx="157968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ea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0" idx="0"/>
            <a:endCxn id="139" idx="2"/>
          </p:cNvCxnSpPr>
          <p:nvPr/>
        </p:nvCxnSpPr>
        <p:spPr>
          <a:xfrm flipV="1">
            <a:off x="8126280" y="2766600"/>
            <a:ext cx="8640" cy="473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335720" y="5018040"/>
            <a:ext cx="1579680" cy="5205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35720" y="5551560"/>
            <a:ext cx="157968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ea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3" idx="0"/>
            <a:endCxn id="141" idx="2"/>
          </p:cNvCxnSpPr>
          <p:nvPr/>
        </p:nvCxnSpPr>
        <p:spPr>
          <a:xfrm flipV="1">
            <a:off x="8125920" y="4342680"/>
            <a:ext cx="1080" cy="662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8E2-457D-4811-A93F-CA7A4004B3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Upcasting 2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 Animal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z.B. Methode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feed()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einer anderen K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void feed(Animal a ){</a:t>
            </a:r>
            <a:br>
              <a:rPr sz="2800"/>
            </a:b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 a.eat();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Dog rover = new Dog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Cat simon = new Ca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feed(rover); </a:t>
            </a:r>
            <a:r>
              <a:rPr b="0" lang="de-AT" sz="2800" spc="-1" strike="noStrike">
                <a:solidFill>
                  <a:srgbClr val="3333cc"/>
                </a:solidFill>
                <a:latin typeface="Courier New"/>
              </a:rPr>
              <a:t>//Dog.eat()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feed(simon); </a:t>
            </a:r>
            <a:r>
              <a:rPr b="0" lang="de-AT" sz="2800" spc="-1" strike="noStrike">
                <a:solidFill>
                  <a:srgbClr val="3333cc"/>
                </a:solidFill>
                <a:latin typeface="Courier New"/>
              </a:rPr>
              <a:t>//Cat.ea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91240" y="1676520"/>
            <a:ext cx="1560600" cy="5205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A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91240" y="2209680"/>
            <a:ext cx="15606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ea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73960" y="3252960"/>
            <a:ext cx="1579320" cy="5205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Mam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73960" y="3786120"/>
            <a:ext cx="157932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ea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0"/>
            <a:endCxn id="149" idx="2"/>
          </p:cNvCxnSpPr>
          <p:nvPr/>
        </p:nvCxnSpPr>
        <p:spPr>
          <a:xfrm flipV="1">
            <a:off x="7364520" y="2766600"/>
            <a:ext cx="8640" cy="473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5943600" y="5029200"/>
            <a:ext cx="1371600" cy="5205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562720"/>
            <a:ext cx="13716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ea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0"/>
            <a:endCxn id="151" idx="2"/>
          </p:cNvCxnSpPr>
          <p:nvPr/>
        </p:nvCxnSpPr>
        <p:spPr>
          <a:xfrm flipV="1">
            <a:off x="6629400" y="4343040"/>
            <a:ext cx="735840" cy="67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696080" y="5029200"/>
            <a:ext cx="1274760" cy="5205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D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562720"/>
            <a:ext cx="127476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ea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6" idx="0"/>
            <a:endCxn id="151" idx="2"/>
          </p:cNvCxnSpPr>
          <p:nvPr/>
        </p:nvCxnSpPr>
        <p:spPr>
          <a:xfrm flipH="1" flipV="1">
            <a:off x="7364160" y="4343040"/>
            <a:ext cx="970560" cy="67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F4E-D73B-461E-A5A3-A15FCD641F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Fehlerquel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0000"/>
                </a:solidFill>
                <a:latin typeface="Arial"/>
              </a:rPr>
              <a:t>ACHTUNG: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Das „Überschreiben“ einer Methode mit anderen Parametern führt zu Overloading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class Cat {...</a:t>
            </a:r>
            <a:br>
              <a:rPr sz="2800"/>
            </a:b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 void eat(CatFood food)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feed(simon);</a:t>
            </a:r>
            <a:br>
              <a:rPr sz="2800"/>
            </a:br>
            <a:r>
              <a:rPr b="0" lang="de-AT" sz="2800" spc="-1" strike="noStrike">
                <a:solidFill>
                  <a:srgbClr val="3333cc"/>
                </a:solidFill>
                <a:latin typeface="Courier New"/>
              </a:rPr>
              <a:t>//führt nicht zum </a:t>
            </a:r>
            <a:br>
              <a:rPr sz="2800"/>
            </a:br>
            <a:r>
              <a:rPr b="0" lang="de-AT" sz="2800" spc="-1" strike="noStrike">
                <a:solidFill>
                  <a:srgbClr val="3333cc"/>
                </a:solidFill>
                <a:latin typeface="Courier New"/>
              </a:rPr>
              <a:t>//Aufruf von Cat.eat(..)</a:t>
            </a:r>
            <a:br>
              <a:rPr sz="2800"/>
            </a:br>
            <a:br>
              <a:rPr sz="14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gl. auch c07:WindError.java [Ecke00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53360" y="1676520"/>
            <a:ext cx="1560600" cy="5205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A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53360" y="2209680"/>
            <a:ext cx="15606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ea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35720" y="3252960"/>
            <a:ext cx="1579680" cy="5205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Mam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35720" y="3786120"/>
            <a:ext cx="157968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ea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3" idx="0"/>
            <a:endCxn id="162" idx="2"/>
          </p:cNvCxnSpPr>
          <p:nvPr/>
        </p:nvCxnSpPr>
        <p:spPr>
          <a:xfrm flipV="1">
            <a:off x="8126280" y="2766600"/>
            <a:ext cx="8640" cy="473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796000" y="4653000"/>
            <a:ext cx="3200400" cy="5205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6000" y="5197320"/>
            <a:ext cx="32004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eat(CatFood 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0"/>
            <a:endCxn id="164" idx="2"/>
          </p:cNvCxnSpPr>
          <p:nvPr/>
        </p:nvCxnSpPr>
        <p:spPr>
          <a:xfrm flipV="1">
            <a:off x="7396200" y="4342680"/>
            <a:ext cx="730800" cy="297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C93-A5E8-483F-BE5E-E38A2950A6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523880" cy="19306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ernkontrol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nalysieren Sie das Beispiel c07: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Sandwich.java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aus [Ecke0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stimmen Sie den Bildschirm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ergleichen Sie Ihr Ergebnis mit dem tatsächlichen Ergebn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erbessern Sie die Superklass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und ihre Subklassen. Nutzen Sie dazu die Kenntnisse aller bisherigen Einhei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308-4406-431E-B0F4-EE3EC7C1B8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Upcasting Def. 1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. Shape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Upcasting erlaubt die Verwendung eines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bjekts einer Subklasse als Objekt seiner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uperk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stanzen vom Datentyp Subklasse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önnen dabei einer Variablen vom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tentyp Superklasse zugewiesen werden.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Shape c1 = new Circ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Od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ircle c = new Circ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Shape c1 =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*Hier wird die Instanz der Klasse Circle zur Klasse Shape upgecastet.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859280" y="1447920"/>
          <a:ext cx="428472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47920"/>
                    <a:ext cx="428472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6BC-2A7C-4599-AF97-C0557A978E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Upcasting 2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. Shape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bjekte der Subklassen können auch dann als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arameter einer Methode übergeben werden,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enn der definierte Datentyp eine Superklasse ist.</a:t>
            </a:r>
            <a:br>
              <a:rPr sz="2800"/>
            </a:br>
            <a:br>
              <a:rPr sz="16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ethodendeklaration (in der Klasse Shape): 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rintColour(Shape s){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...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ircle c =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Circ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rintColour(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92800" y="3048120"/>
          <a:ext cx="3751200" cy="32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3048120"/>
                    <a:ext cx="3751200" cy="32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B88-A38F-4CF6-BCB1-912D5B7E36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Upcasting &amp; Polymorphie 1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. Shape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752480"/>
            <a:ext cx="6400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z.B.: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Shape s = </a:t>
            </a:r>
            <a:br>
              <a:rPr sz="2800"/>
            </a:b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new Circl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s.draw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ührt die Method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der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lass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ircle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76720" y="1371600"/>
          <a:ext cx="548640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371600"/>
                    <a:ext cx="54864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70E-D847-4508-8093-E095CEEDB7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Upcasting &amp; Polymorphie 2 </a:t>
            </a: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. Shape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600200"/>
            <a:ext cx="6248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ircle c =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Circle(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rintColour(c);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ührt die Method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rintColour()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Superklasse Shape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.draw(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ruft die Method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draw()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Subklasse Circle au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62520" y="1523880"/>
          <a:ext cx="518148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523880"/>
                    <a:ext cx="518148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E8F-187C-46E7-BB82-FEB1D0958E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Polymorphie 1 </a:t>
            </a:r>
            <a:br>
              <a:rPr sz="4400"/>
            </a:br>
            <a:r>
              <a:rPr b="1" lang="de-DE" sz="2800" spc="-1" strike="noStrike">
                <a:solidFill>
                  <a:srgbClr val="104c88"/>
                </a:solidFill>
                <a:latin typeface="Arial"/>
              </a:rPr>
              <a:t>Bsp. Shape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38080" y="1676520"/>
          <a:ext cx="7520040" cy="44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520040" cy="44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C5B-2194-4A6B-91D6-C84A77342A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Polymorphie 2</a:t>
            </a:r>
            <a:br>
              <a:rPr sz="4400"/>
            </a:br>
            <a:r>
              <a:rPr b="1" lang="de-DE" sz="2800" spc="-1" strike="noStrike">
                <a:solidFill>
                  <a:srgbClr val="104c88"/>
                </a:solidFill>
                <a:latin typeface="Arial"/>
              </a:rPr>
              <a:t>Bsp. Shape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600200"/>
            <a:ext cx="76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UseShapes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hape randShape(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swit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(Math.random() * 3)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defaul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a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: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ircle()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a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: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quar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a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: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riangle(); }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String[] args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ape[] s =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hape[9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// Fill up the array with shapes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 i &lt; s.length; i++) s[i] = randShap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// Make polymorphic method calls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 = 0; i &lt; s.length; i++) s[i].draw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140360" y="5229360"/>
          <a:ext cx="4732200" cy="12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5229360"/>
                    <a:ext cx="473220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C1F-0C96-492D-8D1F-90AA9A64AE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olymorphie 1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(deutsch: Vielgestal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ontextabhängige Interpretation von Operatoren, Funktionen und Method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yntaktisch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gleiche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Nachrichten (an Objekte verschiedener Klassen) rufen semantisch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ähnliche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Methoden au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erschiedene Unterklassen verstehen die gleiche Botschaft und reagieren artgerecht, aber möglicherweise unterschied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olymorphie erlaubt die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schnelle Erweiterung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neuer Funktionalitäten durch Implementierung von Subklassen, ohne, dass der restliche Programmcode geändert werden mu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7BB-5595-4017-81BF-54F5BC58A6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Rainer Klimesch, Marion Kaukal</dc:creator>
  <dc:description/>
  <dc:language>en-US</dc:language>
  <cp:lastModifiedBy>sguth</cp:lastModifiedBy>
  <cp:lastPrinted>2001-09-26T09:37:23Z</cp:lastPrinted>
  <dcterms:modified xsi:type="dcterms:W3CDTF">2003-06-02T16:21:11Z</dcterms:modified>
  <cp:revision>945</cp:revision>
  <dc:subject/>
  <dc:title>Java - Einführu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java@alice.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