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179-E3B5-4213-8C39-8288A81C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C23-D4C0-46D5-9DDF-E7642643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58E-D02C-4B80-867E-239A609F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E21-8C28-4992-B009-F66B98AE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C9B-A3B9-48F4-834A-A0A5D85B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CBB-5AD3-41D1-BB31-5FEF3C39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932-73CF-4E42-9206-9947C38B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36D-6153-40AB-92A9-9424B0CA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32D-C7AF-41D9-9ED1-726DCF3A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03F-6787-41F9-9AE7-5494D038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2BCD-2F56-4EC8-8F09-856A8696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4C4-8795-4386-8308-D82CEF2A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4c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9976-EC8C-4974-B01D-44BA85073493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38160">
            <a:solidFill>
              <a:srgbClr val="104c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6440" y="6461280"/>
            <a:ext cx="4787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4c88"/>
                </a:solidFill>
                <a:latin typeface="Arial"/>
              </a:rPr>
              <a:t>Grundzüge der Programmierung - Interfaces © Guth, Kaukal, Klimesch 2000-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Vererbung von mehreren Interfaces"/>
          <p:cNvPicPr/>
          <p:nvPr/>
        </p:nvPicPr>
        <p:blipFill>
          <a:blip r:embed="rId1"/>
          <a:stretch/>
        </p:blipFill>
        <p:spPr>
          <a:xfrm>
            <a:off x="468360" y="3789360"/>
            <a:ext cx="4032360" cy="1994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514600" cy="1785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35280" y="37256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104c88"/>
                </a:solidFill>
                <a:latin typeface="Arial"/>
              </a:rPr>
              <a:t>Wiederverwendung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 INTERFACES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57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Grundzüge der Programmi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513B-26E1-41F8-A2FC-ECE34F78D5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Interfac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n Java ist die Möglichkeit, zu einer oder mehreren Klassen eine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Schnittstell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u definieren und anzuwe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in Interface ist ähnlich wie eine abstrakte Klasse, enthält jedoch keine Implementieru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in Interface definie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Namen von Methoden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ren Parameter Listen (Parameter Typen und Namen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ren Rückgabewertty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Namen der Variablen (sind implizit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2D1-8F23-4A45-B17B-3E803647BF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Interface - Vererbung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Java-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AnInterface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800"/>
            </a:b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AClass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implements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AnInterface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2820960"/>
            <a:ext cx="302580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An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4103640"/>
            <a:ext cx="287496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A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0"/>
            <a:endCxn id="51" idx="2"/>
          </p:cNvCxnSpPr>
          <p:nvPr/>
        </p:nvCxnSpPr>
        <p:spPr>
          <a:xfrm flipH="1" flipV="1">
            <a:off x="7303320" y="3377880"/>
            <a:ext cx="2520" cy="713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FF2-8154-47A5-9671-E652453003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Interface - Syntax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Java-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chnittstellenname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cc99"/>
                </a:solidFill>
                <a:latin typeface="Courier New"/>
              </a:rPr>
              <a:t>// Variablen- bz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cc99"/>
                </a:solidFill>
                <a:latin typeface="Courier New"/>
              </a:rPr>
              <a:t>// Methodenparameterdefinitione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    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nwend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mplements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chnittstellenname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de-DE" sz="2400" spc="-1" strike="noStrike">
                <a:solidFill>
                  <a:srgbClr val="00cc99"/>
                </a:solidFill>
                <a:latin typeface="Courier New"/>
              </a:rPr>
              <a:t>// Klassenvariablendefinitionen</a:t>
            </a:r>
            <a:br>
              <a:rPr sz="2400"/>
            </a:br>
            <a:r>
              <a:rPr b="1" lang="de-DE" sz="2400" spc="-1" strike="noStrike">
                <a:solidFill>
                  <a:srgbClr val="00cc99"/>
                </a:solidFill>
                <a:latin typeface="Courier New"/>
              </a:rPr>
              <a:t>    // konkrete Methodenimplem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BA82-8EDB-4F90-AC1C-857A63E205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Interface </a:t>
            </a:r>
            <a:br>
              <a:rPr sz="4400"/>
            </a:br>
            <a:r>
              <a:rPr b="1" lang="de-DE" sz="2400" spc="-1" strike="noStrike">
                <a:solidFill>
                  <a:srgbClr val="104c88"/>
                </a:solidFill>
                <a:latin typeface="Arial"/>
              </a:rPr>
              <a:t>Beispiel-Code</a:t>
            </a:r>
            <a:endParaRPr b="1" lang="en-US" sz="2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interface AnInterfaceName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double final PI = 3.1415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de-AT" sz="2800" spc="-1" strike="noStrike">
                <a:solidFill>
                  <a:srgbClr val="00cc99"/>
                </a:solidFill>
                <a:latin typeface="Courier New"/>
              </a:rPr>
              <a:t>//static &amp;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void doSomething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800" spc="-1" strike="noStrike">
                <a:solidFill>
                  <a:srgbClr val="00cc99"/>
                </a:solidFill>
                <a:latin typeface="Courier New"/>
              </a:rPr>
              <a:t>//automatisch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cc99"/>
                </a:solidFill>
                <a:latin typeface="Courier New"/>
              </a:rPr>
              <a:t>  </a:t>
            </a:r>
            <a:r>
              <a:rPr b="1" lang="de-AT" sz="2800" spc="-1" strike="noStrike">
                <a:solidFill>
                  <a:srgbClr val="00cc99"/>
                </a:solidFill>
                <a:latin typeface="Courier New"/>
              </a:rPr>
              <a:t>//keine Implement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int doSomethingEls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3E25-3321-48F9-A9B1-BA0A8BFA90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67652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e Subklasse kann von beliebig vielen Interfaces und maximal einer (abstrakten) Klasse er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it Interfaces ist eine „Art“ Mehrfachvererbung mögli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AnInterface1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AnInterface2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SuperClass {...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InheritAll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SuperClass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mplements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AnInterface1, AnInterface2 {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Interfaces Implementier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CF8-1441-406E-9C28-2951BADDAF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Interfaces Implementier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InheritAll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SuperClass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implements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AnInterface1, AnInterface2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191120"/>
            <a:ext cx="251136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Inheri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2133720"/>
            <a:ext cx="241776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AnInterfac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2133720"/>
            <a:ext cx="243864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AnInterfac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133720"/>
            <a:ext cx="205740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2" idx="0"/>
            <a:endCxn id="65" idx="2"/>
          </p:cNvCxnSpPr>
          <p:nvPr/>
        </p:nvCxnSpPr>
        <p:spPr>
          <a:xfrm flipH="1" flipV="1" rot="5400000">
            <a:off x="786600" y="3402360"/>
            <a:ext cx="154980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0"/>
            <a:endCxn id="63" idx="2"/>
          </p:cNvCxnSpPr>
          <p:nvPr/>
        </p:nvCxnSpPr>
        <p:spPr>
          <a:xfrm flipH="1" flipV="1" rot="5400000">
            <a:off x="3810600" y="378000"/>
            <a:ext cx="1549800" cy="60505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2" idx="0"/>
            <a:endCxn id="64" idx="2"/>
          </p:cNvCxnSpPr>
          <p:nvPr/>
        </p:nvCxnSpPr>
        <p:spPr>
          <a:xfrm flipH="1" flipV="1" rot="5400000">
            <a:off x="2405880" y="1783080"/>
            <a:ext cx="1549800" cy="32407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FFAA-2E23-45A1-89FC-735D5CE290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Interface Beispiel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MyInterface1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print1();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MyInterface2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print2();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MySuperClass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String s = “http://nm.wu-wien.ac.at";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MySubClass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MySuperClass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implement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MyInterface1, MyInterface2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print1(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ystem.out.println(s);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print2() {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System.out.println(“http://nm.wu-wien.ac.at/java/");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B84-F3F1-418B-B453-E2795BE258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72200" y="4952880"/>
            <a:ext cx="1103400" cy="1397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nwendung/Lernkontroll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MyClass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public static void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main(String[] args) {  MySubClass object =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MySubClas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object.print1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object.print2(); 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ie kennen Eigenschaften und Zweck von Interfaces 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können diese implementi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463-6CD5-4672-B8FF-45221D0885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2:38:33Z</dcterms:created>
  <dc:creator>Susanne Guth, Rainer Klimesch, Marion Kaukal</dc:creator>
  <dc:description/>
  <dc:language>en-US</dc:language>
  <cp:lastModifiedBy>Susanne Guth</cp:lastModifiedBy>
  <cp:lastPrinted>2001-09-26T09:37:38Z</cp:lastPrinted>
  <dcterms:modified xsi:type="dcterms:W3CDTF">2003-05-02T13:23:00Z</dcterms:modified>
  <cp:revision>890</cp:revision>
  <dc:subject/>
  <dc:title>Java - Einführu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nm.wu-wien.ac.at/java/</vt:lpwstr>
  </property>
  <property fmtid="{D5CDD505-2E9C-101B-9397-08002B2CF9AE}" pid="9" name="LinkColor">
    <vt:r8>16711782</vt:r8>
  </property>
  <property fmtid="{D5CDD505-2E9C-101B-9397-08002B2CF9AE}" pid="10" name="MailAddress">
    <vt:lpwstr>java@alice.wu-wien.ac.a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NeueMedien\java\FolienSS0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