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06D-B254-409C-959F-3BA40C3E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4F7-ED45-4797-9E41-0DD4D847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399-EB6D-41F7-AD3D-66882F0C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826-72FA-4E3E-B592-958C6B6D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68F-5B40-4C5A-8048-F3CB8F63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A67-DDF1-4AFA-AA7E-F4174CCA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E2B-A58A-4D64-BE7D-44440DBD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609-A325-4F03-AE2B-A1D33B7A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8F2-D431-40FB-A293-1ECA53CA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3EF-8EA3-42E9-A5E1-AFD0A50E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510-2F0C-4D69-A239-4F63D34E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3B3-D641-4B44-8566-5244EF80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c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64E9-C3E4-4039-B230-1ADC639A71D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104c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8040" y="6477120"/>
            <a:ext cx="4778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4c88"/>
                </a:solidFill>
                <a:latin typeface="Arial"/>
              </a:rPr>
              <a:t>Grundzüge der Programmierung - Container © Guth, Kaukal, Klimesch 2000-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4080" y="457164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CONTAINER</a:t>
            </a:r>
            <a:br>
              <a:rPr sz="4400"/>
            </a:b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(COLLECTIONS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Grundzüge der Programm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0240" y="22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Java Logo"/>
          <p:cNvPicPr/>
          <p:nvPr/>
        </p:nvPicPr>
        <p:blipFill>
          <a:blip r:embed="rId1"/>
          <a:stretch/>
        </p:blipFill>
        <p:spPr>
          <a:xfrm>
            <a:off x="990720" y="1828800"/>
            <a:ext cx="2268360" cy="23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58B-7B73-4671-AB8C-A9B8D98EA2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Klassenhierarchie 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. Account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1840" y="37339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3960" y="20574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uper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590920"/>
            <a:ext cx="205740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ouble getBalance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eposit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withDraw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600200"/>
            <a:ext cx="205740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1905120"/>
            <a:ext cx="205740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t number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ouble balance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ring name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free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5540400"/>
            <a:ext cx="274320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ing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check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checkAuthorization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rep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ring getWrongPin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4527720"/>
            <a:ext cx="274320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Checking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4832280"/>
            <a:ext cx="2743200" cy="733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t pin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int wrongPinCount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double maxOver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27480"/>
            <a:ext cx="2743200" cy="733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avings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check</a:t>
            </a:r>
            <a:br>
              <a:rPr sz="1400"/>
            </a:b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boolean checkAutho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549680"/>
            <a:ext cx="2743200" cy="30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avings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854600"/>
            <a:ext cx="2743200" cy="30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String pass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0" idx="0"/>
            <a:endCxn id="73" idx="2"/>
          </p:cNvCxnSpPr>
          <p:nvPr/>
        </p:nvCxnSpPr>
        <p:spPr>
          <a:xfrm flipH="1" flipV="1" rot="5400000">
            <a:off x="3241440" y="3332880"/>
            <a:ext cx="794520" cy="1639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7" idx="0"/>
            <a:endCxn id="73" idx="2"/>
          </p:cNvCxnSpPr>
          <p:nvPr/>
        </p:nvCxnSpPr>
        <p:spPr>
          <a:xfrm flipV="1" rot="16200000">
            <a:off x="5042880" y="3169800"/>
            <a:ext cx="772560" cy="19436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E8D-324F-4AB5-95B0-3CCC57129F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aufzeitfehler</a:t>
            </a:r>
            <a:br>
              <a:rPr sz="28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Bsp. Account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er Aufruf einer Methode, die für die Klasse nicht definiert ist, führt zu einem Laufzeitfehler und somit zum Abbruch des Program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Account c = new CheckingAccount(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Account s = new SavingsAccount(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.repeat() </a:t>
            </a:r>
            <a:r>
              <a:rPr b="1" lang="de-AT" sz="2000" spc="-1" strike="noStrike">
                <a:solidFill>
                  <a:srgbClr val="339966"/>
                </a:solidFill>
                <a:latin typeface="Courier New"/>
              </a:rPr>
              <a:t>/*run-time-error: Methode nur für </a:t>
            </a:r>
            <a:br>
              <a:rPr sz="2000"/>
            </a:br>
            <a:r>
              <a:rPr b="1" lang="de-AT" sz="2000" spc="-1" strike="noStrike">
                <a:solidFill>
                  <a:srgbClr val="339966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9966"/>
                </a:solidFill>
                <a:latin typeface="Courier New"/>
              </a:rPr>
              <a:t> CheckingAccount implementiert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s.getWrongPinStatus() </a:t>
            </a:r>
            <a:r>
              <a:rPr b="1" lang="de-AT" sz="2000" spc="-1" strike="noStrike">
                <a:solidFill>
                  <a:srgbClr val="339966"/>
                </a:solidFill>
                <a:latin typeface="Courier New"/>
              </a:rPr>
              <a:t>/*run-time-error: Methode nur</a:t>
            </a:r>
            <a:br>
              <a:rPr sz="2000"/>
            </a:br>
            <a:r>
              <a:rPr b="1" lang="de-AT" sz="2000" spc="-1" strike="noStrike">
                <a:solidFill>
                  <a:srgbClr val="339966"/>
                </a:solidFill>
                <a:latin typeface="Courier New"/>
              </a:rPr>
              <a:t>	</a:t>
            </a:r>
            <a:r>
              <a:rPr b="1" lang="de-AT" sz="2000" spc="-1" strike="noStrike">
                <a:solidFill>
                  <a:srgbClr val="339966"/>
                </a:solidFill>
                <a:latin typeface="Courier New"/>
              </a:rPr>
              <a:t>für CheckingAccount implementiert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F3D-2CC1-4783-BCDC-43AA4AB272E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Collection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Auszug aus den Methoden des Interface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add(Object o) </a:t>
            </a:r>
            <a:br>
              <a:rPr sz="28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Fügt das Objek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hinzu und liefer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zw.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, je nachdem, ob das Objekt erfolgreich hinzugefügt werden kon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clear() </a:t>
            </a:r>
            <a:br>
              <a:rPr sz="28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cht alle Elemente im Contai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contains(Object o) </a:t>
            </a:r>
            <a:br>
              <a:rPr sz="28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iefer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, wenn das Objek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m Container enthalten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Iterator iterator() </a:t>
            </a:r>
            <a:br>
              <a:rPr sz="28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iefert ein Objekt zum Zugriff auf die Elemente des Contai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remove(Object o) </a:t>
            </a:r>
            <a:br>
              <a:rPr sz="28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iefert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, wenn das Objekt o im Container gelöscht werden kon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size() </a:t>
            </a:r>
            <a:br>
              <a:rPr sz="28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iefert die Anzahl der Ele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E7A-E578-4DE2-9B4B-796483EFF9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Collection</a:t>
            </a: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s</a:t>
            </a:r>
            <a:br>
              <a:rPr sz="4400"/>
            </a:b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Auszug aus den Methoden de</a:t>
            </a:r>
            <a:r>
              <a:rPr b="1" lang="de-DE" sz="2800" spc="-1" strike="noStrike">
                <a:solidFill>
                  <a:srgbClr val="104c88"/>
                </a:solidFill>
                <a:latin typeface="Arial"/>
              </a:rPr>
              <a:t>r</a:t>
            </a: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104c88"/>
                </a:solidFill>
                <a:latin typeface="Arial"/>
              </a:rPr>
              <a:t>Klasse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Klass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inhaltet ausschließlich Methoden, die mit Collections (also auch Listen) arbeiten beziehungsweise  Collections zurückliefer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static voi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List lis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 der Klasse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Sortiert Liste in aufsteigender Reihenfol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static void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copy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(List dest, List src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piert alle Elemente der ersten Liste in die zweite Li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766-B050-45A8-9695-10E3B98034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terator</a:t>
            </a:r>
            <a:br>
              <a:rPr sz="2800"/>
            </a:br>
            <a:r>
              <a:rPr b="1" lang="de-DE" sz="2800" spc="-1" strike="noStrike">
                <a:solidFill>
                  <a:srgbClr val="104c88"/>
                </a:solidFill>
                <a:latin typeface="Arial"/>
              </a:rPr>
              <a:t>Alle </a:t>
            </a: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Methoden des Interface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Interfac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terato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nhaltet Methoden, die das referenzieren von Objekten in einer Collection ermöglichen. Der Iterator ist der „Index“ von Col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hasNext()</a:t>
            </a:r>
            <a:br>
              <a:rPr sz="24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iefert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, wenn es weitere Elemente im Container gibt - bei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liefert der Aufruf von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next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Object next() </a:t>
            </a:r>
            <a:br>
              <a:rPr sz="24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iefert das nächste El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remove() </a:t>
            </a:r>
            <a:br>
              <a:rPr sz="24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öscht das aktuelle Element der Col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9EC-B906-48D5-BA6F-16FCB81E98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is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(interface):</a:t>
            </a:r>
            <a:br>
              <a:rPr sz="28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ethoden zum Einfügen von Elementen in der Mitte einer Li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ichtige Implementieru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ArrayList: </a:t>
            </a:r>
            <a:br>
              <a:rPr sz="24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iste als Array implementiert, schneller Zugriff au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timmt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Elemente (durch Indizierung und direkten Zugriff) aber sehr langsam beim Einfügen und Lö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LinkedList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(Verkettete Liste): </a:t>
            </a:r>
            <a:br>
              <a:rPr sz="24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chnel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mächtiger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eim Einfüg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z.B. durch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addLast(..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addFirst(..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und Lösch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z.B. durch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moveLast(..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moveFirst(..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, aber langsamer Zugriff au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timmte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Elemente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l: „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ntlanghangeln“ der Lis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662-D53B-456D-A921-FFB3C4EEE6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rrayList/LinkedLis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4005360"/>
          <a:ext cx="8064360" cy="17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05360"/>
                    <a:ext cx="806436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916360" y="1916280"/>
          <a:ext cx="2952720" cy="15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1916280"/>
                    <a:ext cx="295272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338-CD7C-40B0-B6AF-FBE4D59625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ist - Hierarchi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600200"/>
            <a:ext cx="2590560" cy="520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124080"/>
            <a:ext cx="2514600" cy="520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 flipV="1">
            <a:off x="6400440" y="2133000"/>
            <a:ext cx="1080" cy="99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6553080" y="4495680"/>
            <a:ext cx="236232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495680"/>
            <a:ext cx="236196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4" idx="0"/>
            <a:endCxn id="101" idx="2"/>
          </p:cNvCxnSpPr>
          <p:nvPr/>
        </p:nvCxnSpPr>
        <p:spPr>
          <a:xfrm flipH="1" flipV="1" rot="5400000">
            <a:off x="5009040" y="3129120"/>
            <a:ext cx="802440" cy="1905480"/>
          </a:xfrm>
          <a:prstGeom prst="bentConnector3">
            <a:avLst>
              <a:gd name="adj1" fmla="val 498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3" idx="0"/>
            <a:endCxn id="101" idx="2"/>
          </p:cNvCxnSpPr>
          <p:nvPr/>
        </p:nvCxnSpPr>
        <p:spPr>
          <a:xfrm flipV="1" rot="16200000">
            <a:off x="6647040" y="3395520"/>
            <a:ext cx="802440" cy="1372320"/>
          </a:xfrm>
          <a:prstGeom prst="bentConnector3">
            <a:avLst>
              <a:gd name="adj1" fmla="val 498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09480" y="1687680"/>
            <a:ext cx="2971800" cy="520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124080"/>
            <a:ext cx="2824200" cy="520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urier New"/>
              </a:rPr>
              <a:t>ListIt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8" idx="0"/>
            <a:endCxn id="107" idx="2"/>
          </p:cNvCxnSpPr>
          <p:nvPr/>
        </p:nvCxnSpPr>
        <p:spPr>
          <a:xfrm flipH="1" flipV="1">
            <a:off x="2094840" y="2244240"/>
            <a:ext cx="3960" cy="867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 flipH="1">
            <a:off x="3580920" y="3428640"/>
            <a:ext cx="144864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11" name=""/>
          <p:cNvSpPr/>
          <p:nvPr/>
        </p:nvSpPr>
        <p:spPr>
          <a:xfrm>
            <a:off x="612720" y="518148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(Änderung der Struktur in folgenden JDKs möglich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6019920"/>
            <a:ext cx="1600200" cy="3988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019920"/>
            <a:ext cx="1295280" cy="39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044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BAB-1633-452F-9E8C-A40BBAEB6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ArrayList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r>
              <a:rPr b="1" lang="de-AT" sz="1600" spc="-1" strike="noStrike">
                <a:solidFill>
                  <a:srgbClr val="104c88"/>
                </a:solidFill>
                <a:latin typeface="Arial"/>
              </a:rPr>
              <a:t>(Beispiel)</a:t>
            </a:r>
            <a:endParaRPr b="1" lang="en-US" sz="1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java.io.*;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java.util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ArrayListSimp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main (String args[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rrayList fileArr =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ile dir =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File("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ring[] files = dir.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i = 0; i &lt; files.length; i+=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ileArr.add(files[i]);}</a:t>
            </a:r>
            <a:r>
              <a:rPr b="1" lang="de-DE" sz="1800" spc="-1" strike="noStrike">
                <a:solidFill>
                  <a:srgbClr val="00cc99"/>
                </a:solidFill>
                <a:latin typeface="Courier New"/>
              </a:rPr>
              <a:t>//Füllen der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ollections.sort(fileAr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terator i = fileArr.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(i.hasNext()){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cc99"/>
                </a:solidFill>
                <a:latin typeface="Courier New"/>
              </a:rPr>
              <a:t>//Durchlauf durch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ystem.out.println((String)i.nex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.remov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}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Arial"/>
              </a:rPr>
              <a:t>siehe Array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ListSimple</a:t>
            </a:r>
            <a:r>
              <a:rPr b="0" i="1" lang="de-AT" sz="1800" spc="-1" strike="noStrike">
                <a:solidFill>
                  <a:srgbClr val="000000"/>
                </a:solidFill>
                <a:latin typeface="Arial"/>
              </a:rPr>
              <a:t>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FBC-7C83-4973-AF89-6305035A64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Courier New"/>
              </a:rPr>
              <a:t>Linked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List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r>
              <a:rPr b="1" lang="de-AT" sz="1600" spc="-1" strike="noStrike">
                <a:solidFill>
                  <a:srgbClr val="104c88"/>
                </a:solidFill>
                <a:latin typeface="Arial"/>
              </a:rPr>
              <a:t>(Beispiel)</a:t>
            </a:r>
            <a:endParaRPr b="1" lang="en-US" sz="1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java.io.*;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java.util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LinkedListSimp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main (String args[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LinkedList fileArr =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LinkedLis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1800" spc="-1" strike="noStrike">
                <a:solidFill>
                  <a:srgbClr val="339966"/>
                </a:solidFill>
                <a:latin typeface="Courier New"/>
              </a:rPr>
              <a:t>/* Nur bei der Erzeugung der Instanz fileinfo ist </a:t>
            </a:r>
            <a:r>
              <a:rPr b="1" lang="de-DE" sz="1800" spc="-1" strike="noStrike">
                <a:solidFill>
                  <a:srgbClr val="339966"/>
                </a:solidFill>
                <a:latin typeface="Courier New"/>
              </a:rPr>
              <a:t>	</a:t>
            </a:r>
            <a:r>
              <a:rPr b="1" lang="de-AT" sz="1800" spc="-1" strike="noStrike">
                <a:solidFill>
                  <a:srgbClr val="339966"/>
                </a:solidFill>
                <a:latin typeface="Courier New"/>
              </a:rPr>
              <a:t>eine Änderung des Programmcodes notwendig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ile dir =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File("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tring[] files = dir.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i = 0; i &lt; files.length; i+=2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fileArr.add(files[i]);}</a:t>
            </a:r>
            <a:r>
              <a:rPr b="1" lang="de-DE" sz="1800" spc="-1" strike="noStrike">
                <a:solidFill>
                  <a:srgbClr val="00cc99"/>
                </a:solidFill>
                <a:latin typeface="Courier New"/>
              </a:rPr>
              <a:t>//Füllen der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ollections.sort(fileAr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terator i = fileArr.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(i.hasNext()){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cc99"/>
                </a:solidFill>
                <a:latin typeface="Courier New"/>
              </a:rPr>
              <a:t>//Durchlauf durch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ystem.out.println((String)i.nex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.remov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}}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de-AT" sz="1800" spc="-1" strike="noStrike">
                <a:solidFill>
                  <a:srgbClr val="000000"/>
                </a:solidFill>
                <a:latin typeface="Arial"/>
              </a:rPr>
              <a:t>sieh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LinkedListSimple</a:t>
            </a:r>
            <a:r>
              <a:rPr b="0" i="1" lang="de-AT" sz="1800" spc="-1" strike="noStrike">
                <a:solidFill>
                  <a:srgbClr val="000000"/>
                </a:solidFill>
                <a:latin typeface="Arial"/>
              </a:rPr>
              <a:t>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292-A1AD-4495-873B-38769F246A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Inhalt dieser Einheit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33360" y="198072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tenstrukturen, um eine Vielzahl v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bjekten zu verwal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Containerklas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11876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8ED-7DCB-455C-90E5-0BE8D9F157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Set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Courier New"/>
              </a:rPr>
              <a:t>(Interface)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ann keine zwei gleichen Objekte ent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mplementieru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HashSet: </a:t>
            </a:r>
            <a:br>
              <a:rPr sz="24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peichert die Elemente in einer Hash-Tabelle (relativ schneller Zugriff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s gibt keine Garantie für die Reihenfolge der Elemente im Hash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reeSet: </a:t>
            </a:r>
            <a:br>
              <a:rPr sz="24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peichert die Elemente in einem Baum, die Elemente werden dabei sortiert eingefüg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zeitintensiv!)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Elemente werden somit garantiert in aufsteigender Reihenfolge abgespeich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231-405A-4FAD-9D87-C8F1E87555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Hash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Set</a:t>
            </a: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, TreeSet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(</a:t>
            </a:r>
            <a:r>
              <a:rPr b="1" lang="de-DE" sz="2400" spc="-1" strike="noStrike">
                <a:solidFill>
                  <a:srgbClr val="104c88"/>
                </a:solidFill>
                <a:latin typeface="Arial"/>
              </a:rPr>
              <a:t>Beispiel</a:t>
            </a: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java.io.*;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java.util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SetDem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Set elapsed(Set set, 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MA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i = MAX; i &gt;= 0; i -= 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j = (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) (Math.random() * 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Integer(j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ystem.out.print(j + " ");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ystem.out.println("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set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et setHash, setTre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etHash = elapsed(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HashSet()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ystem.out.println("HashSet:\t" + setHas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etTree = elapsed(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TreeSet()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ystem.out.println("TreeSet:\t" + setTre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32080" y="6248520"/>
            <a:ext cx="24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Arial"/>
              </a:rPr>
              <a:t>Siehe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7/SetDemo</a:t>
            </a:r>
            <a:r>
              <a:rPr b="0" i="1" lang="de-AT" sz="1800" spc="-1" strike="noStrike">
                <a:solidFill>
                  <a:srgbClr val="000000"/>
                </a:solidFill>
                <a:latin typeface="Arial"/>
              </a:rPr>
              <a:t>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8DB-D4EC-49C3-8068-21689B88FE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Hash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Set</a:t>
            </a: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, TreeSet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(</a:t>
            </a:r>
            <a:r>
              <a:rPr b="1" lang="de-DE" sz="2400" spc="-1" strike="noStrike">
                <a:solidFill>
                  <a:srgbClr val="104c88"/>
                </a:solidFill>
                <a:latin typeface="Arial"/>
              </a:rPr>
              <a:t>Beispiel- Output</a:t>
            </a: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5 4 2 4 4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Hashset: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[5, 4, 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5 4 2 4 4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TreeSet:  [2, 4, 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O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7 3 5 5 4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Hashset:  [7, 5, 4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8 6 8 3 6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TreeSet:  [2, 3, 6, 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67A-0E3E-4A1E-B5C0-631CBB9017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Map</a:t>
            </a:r>
            <a:br>
              <a:rPr sz="4400"/>
            </a:br>
            <a:r>
              <a:rPr b="1" lang="de-DE" sz="2000" spc="-1" strike="noStrike">
                <a:solidFill>
                  <a:srgbClr val="104c88"/>
                </a:solidFill>
                <a:latin typeface="Arial"/>
              </a:rPr>
              <a:t>(</a:t>
            </a:r>
            <a:r>
              <a:rPr b="1" lang="de-DE" sz="2000" spc="-1" strike="noStrike">
                <a:solidFill>
                  <a:srgbClr val="104c88"/>
                </a:solidFill>
                <a:latin typeface="Courier New"/>
              </a:rPr>
              <a:t>interface</a:t>
            </a:r>
            <a:r>
              <a:rPr b="1" lang="de-DE" sz="2000" spc="-1" strike="noStrike">
                <a:solidFill>
                  <a:srgbClr val="104c88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Verwaltet Schlüssel-Objekt-Pa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ann ebenfalls nicht zwei gleiche Paare enthalten. Ermöglicht Suche und Einfügen neuer Elemente in konstanter Ze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e Implementier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unsortiert, konstante Zugriffszei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sortiert, konstante Zugriffszei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uf die Objekte i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Map wird durch den eindeutigen Schlüssel zugegriffen (z.B. Name – Telefonnu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12000" y="4292640"/>
            <a:ext cx="1675800" cy="2133360"/>
            <a:chOff x="6012000" y="4292640"/>
            <a:chExt cx="1675800" cy="2133360"/>
          </a:xfrm>
        </p:grpSpPr>
        <p:grpSp>
          <p:nvGrpSpPr>
            <p:cNvPr id="129" name=""/>
            <p:cNvGrpSpPr/>
            <p:nvPr/>
          </p:nvGrpSpPr>
          <p:grpSpPr>
            <a:xfrm>
              <a:off x="6012000" y="4292640"/>
              <a:ext cx="1675800" cy="533160"/>
              <a:chOff x="6012000" y="4292640"/>
              <a:chExt cx="1675800" cy="533160"/>
            </a:xfrm>
          </p:grpSpPr>
          <p:sp>
            <p:nvSpPr>
              <p:cNvPr id="130" name=""/>
              <p:cNvSpPr/>
              <p:nvPr/>
            </p:nvSpPr>
            <p:spPr>
              <a:xfrm>
                <a:off x="6012000" y="4292640"/>
                <a:ext cx="1675800" cy="533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91920" y="4352760"/>
                <a:ext cx="74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000" spc="-1" strike="noStrike">
                    <a:solidFill>
                      <a:srgbClr val="000000"/>
                    </a:solidFill>
                    <a:latin typeface="Arial"/>
                  </a:rPr>
                  <a:t>486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012000" y="5892840"/>
              <a:ext cx="1675800" cy="533160"/>
              <a:chOff x="6012000" y="5892840"/>
              <a:chExt cx="1675800" cy="533160"/>
            </a:xfrm>
          </p:grpSpPr>
          <p:sp>
            <p:nvSpPr>
              <p:cNvPr id="133" name=""/>
              <p:cNvSpPr/>
              <p:nvPr/>
            </p:nvSpPr>
            <p:spPr>
              <a:xfrm>
                <a:off x="6012000" y="5892840"/>
                <a:ext cx="1675800" cy="533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92640" y="5952960"/>
                <a:ext cx="43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012000" y="5359320"/>
              <a:ext cx="1675800" cy="533160"/>
              <a:chOff x="6012000" y="5359320"/>
              <a:chExt cx="1675800" cy="533160"/>
            </a:xfrm>
          </p:grpSpPr>
          <p:sp>
            <p:nvSpPr>
              <p:cNvPr id="136" name=""/>
              <p:cNvSpPr/>
              <p:nvPr/>
            </p:nvSpPr>
            <p:spPr>
              <a:xfrm>
                <a:off x="6012000" y="5359320"/>
                <a:ext cx="1675800" cy="533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91920" y="5419440"/>
                <a:ext cx="74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000" spc="-1" strike="noStrike">
                    <a:solidFill>
                      <a:srgbClr val="000000"/>
                    </a:solidFill>
                    <a:latin typeface="Arial"/>
                  </a:rPr>
                  <a:t>486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012000" y="4825800"/>
              <a:ext cx="1675800" cy="533160"/>
              <a:chOff x="6012000" y="4825800"/>
              <a:chExt cx="1675800" cy="533160"/>
            </a:xfrm>
          </p:grpSpPr>
          <p:sp>
            <p:nvSpPr>
              <p:cNvPr id="139" name=""/>
              <p:cNvSpPr/>
              <p:nvPr/>
            </p:nvSpPr>
            <p:spPr>
              <a:xfrm>
                <a:off x="6012000" y="4825800"/>
                <a:ext cx="1675800" cy="533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91920" y="4885920"/>
                <a:ext cx="74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000" spc="-1" strike="noStrike">
                    <a:solidFill>
                      <a:srgbClr val="000000"/>
                    </a:solidFill>
                    <a:latin typeface="Arial"/>
                  </a:rPr>
                  <a:t>486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1691280" y="53737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me(Ö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3"/>
            <a:endCxn id="139" idx="1"/>
          </p:cNvCxnSpPr>
          <p:nvPr/>
        </p:nvCxnSpPr>
        <p:spPr>
          <a:xfrm flipV="1">
            <a:off x="3103200" y="5092200"/>
            <a:ext cx="2896200" cy="480240"/>
          </a:xfrm>
          <a:prstGeom prst="curvedConnector5">
            <a:avLst>
              <a:gd name="adj1" fmla="val 50211"/>
              <a:gd name="adj2" fmla="val 49962"/>
              <a:gd name="adj3" fmla="val 502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F90-9D29-4197-BD17-F43104FECD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Map</a:t>
            </a:r>
            <a:br>
              <a:rPr sz="2800"/>
            </a:br>
            <a:r>
              <a:rPr b="1" lang="de-DE" sz="2800" spc="-1" strike="noStrike">
                <a:solidFill>
                  <a:srgbClr val="104c88"/>
                </a:solidFill>
                <a:latin typeface="Arial"/>
              </a:rPr>
              <a:t>ausgewählte </a:t>
            </a:r>
            <a:r>
              <a:rPr b="1" lang="de-AT" sz="2800" spc="-1" strike="noStrike">
                <a:solidFill>
                  <a:srgbClr val="104c88"/>
                </a:solidFill>
                <a:latin typeface="Arial"/>
              </a:rPr>
              <a:t>Methoden des Interface</a:t>
            </a:r>
            <a:endParaRPr b="1" lang="en-US" sz="28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Interfac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Map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nhaltet Methoden, die das Speichen, Auslesen und Administrieren von Objekten in Maps vereinfacht. Zum Beispie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put(Object key, Object value) 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immt einen Eintrag (mi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Schlüssel, und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Wert) in der aktuellen Map v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Object key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iefer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as Object zurück, das mit dem Schlüssel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 der Map abgelegt wu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entrySet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br>
              <a:rPr sz="24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iefer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Attribut/Wert-Paare der Map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ib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urück, wenn die Map leer ist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572-F4B4-4F20-89DF-CA1CA8A3E5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104c88"/>
                </a:solidFill>
                <a:latin typeface="Arial"/>
              </a:rPr>
              <a:t>Tree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Map</a:t>
            </a:r>
            <a:br>
              <a:rPr sz="4400"/>
            </a:br>
            <a:r>
              <a:rPr b="1" lang="de-DE" sz="2000" spc="-1" strike="noStrike">
                <a:solidFill>
                  <a:srgbClr val="104c88"/>
                </a:solidFill>
                <a:latin typeface="Arial"/>
              </a:rPr>
              <a:t>(Beispiel)</a:t>
            </a:r>
            <a:endParaRPr b="1" lang="en-US" sz="20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67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java.util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MapDem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//mai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main(String args[]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Map calendar =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TreeMap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calendar.put("Halloween", "10/31/3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calendar.entrySe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ystem.out.println("Halloween ist am: "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+calendar.get("Halloween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62920" y="1752480"/>
            <a:ext cx="1675800" cy="2133360"/>
            <a:chOff x="7162920" y="1752480"/>
            <a:chExt cx="1675800" cy="2133360"/>
          </a:xfrm>
        </p:grpSpPr>
        <p:grpSp>
          <p:nvGrpSpPr>
            <p:cNvPr id="148" name=""/>
            <p:cNvGrpSpPr/>
            <p:nvPr/>
          </p:nvGrpSpPr>
          <p:grpSpPr>
            <a:xfrm>
              <a:off x="7162920" y="1752480"/>
              <a:ext cx="1675800" cy="533160"/>
              <a:chOff x="7162920" y="1752480"/>
              <a:chExt cx="1675800" cy="533160"/>
            </a:xfrm>
          </p:grpSpPr>
          <p:sp>
            <p:nvSpPr>
              <p:cNvPr id="149" name=""/>
              <p:cNvSpPr/>
              <p:nvPr/>
            </p:nvSpPr>
            <p:spPr>
              <a:xfrm>
                <a:off x="7162920" y="1752480"/>
                <a:ext cx="1675800" cy="533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42480" y="1812600"/>
                <a:ext cx="1828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7162920" y="3352680"/>
              <a:ext cx="1675800" cy="533160"/>
              <a:chOff x="7162920" y="3352680"/>
              <a:chExt cx="1675800" cy="533160"/>
            </a:xfrm>
          </p:grpSpPr>
          <p:sp>
            <p:nvSpPr>
              <p:cNvPr id="152" name=""/>
              <p:cNvSpPr/>
              <p:nvPr/>
            </p:nvSpPr>
            <p:spPr>
              <a:xfrm>
                <a:off x="7162920" y="3352680"/>
                <a:ext cx="1675800" cy="533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43560" y="3412800"/>
                <a:ext cx="43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162920" y="2819160"/>
              <a:ext cx="1675800" cy="533160"/>
              <a:chOff x="7162920" y="2819160"/>
              <a:chExt cx="1675800" cy="533160"/>
            </a:xfrm>
          </p:grpSpPr>
          <p:sp>
            <p:nvSpPr>
              <p:cNvPr id="155" name=""/>
              <p:cNvSpPr/>
              <p:nvPr/>
            </p:nvSpPr>
            <p:spPr>
              <a:xfrm>
                <a:off x="7162920" y="2819160"/>
                <a:ext cx="1675800" cy="533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42480" y="2879280"/>
                <a:ext cx="1828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162920" y="2285640"/>
              <a:ext cx="1675800" cy="533160"/>
              <a:chOff x="7162920" y="2285640"/>
              <a:chExt cx="1675800" cy="533160"/>
            </a:xfrm>
          </p:grpSpPr>
          <p:sp>
            <p:nvSpPr>
              <p:cNvPr id="158" name=""/>
              <p:cNvSpPr/>
              <p:nvPr/>
            </p:nvSpPr>
            <p:spPr>
              <a:xfrm>
                <a:off x="7162920" y="2285640"/>
                <a:ext cx="1675800" cy="533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242120" y="234576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10/31/0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4649400" y="17524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3"/>
            <a:endCxn id="158" idx="1"/>
          </p:cNvCxnSpPr>
          <p:nvPr/>
        </p:nvCxnSpPr>
        <p:spPr>
          <a:xfrm>
            <a:off x="6021000" y="1950840"/>
            <a:ext cx="1129320" cy="602280"/>
          </a:xfrm>
          <a:prstGeom prst="curvedConnector5">
            <a:avLst>
              <a:gd name="adj1" fmla="val 50478"/>
              <a:gd name="adj2" fmla="val 50000"/>
              <a:gd name="adj3" fmla="val 504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4955400" y="5867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Arial"/>
              </a:rPr>
              <a:t>sieh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7/MapDemo</a:t>
            </a:r>
            <a:r>
              <a:rPr b="0" i="1" lang="de-AT" sz="1800" spc="-1" strike="noStrike">
                <a:solidFill>
                  <a:srgbClr val="000000"/>
                </a:solidFill>
                <a:latin typeface="Arial"/>
              </a:rPr>
              <a:t>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35C-01A4-4BB7-9B31-B6A7329C68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Lernkontrolle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ie kennen die verschiedenen Möglichkeiten, 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erschiedene oder gleiche Objek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stimmter oder unbestimmter Anzahl verwalten zu kö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owie die einzelnen Vor- und Nachte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ie können Objek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einfüg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ortier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löschen 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u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400800" y="4267080"/>
            <a:ext cx="1523880" cy="19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3C9-5588-4117-B1D6-661866A46C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Array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Wiederholung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10000"/>
                </a:solidFill>
                <a:latin typeface="Arial"/>
              </a:rPr>
              <a:t>Ein Array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10000"/>
                </a:solidFill>
                <a:latin typeface="Arial"/>
              </a:rPr>
              <a:t>eine Reihe von Datenelementen oder Objekten </a:t>
            </a:r>
            <a:r>
              <a:rPr b="1" lang="de-AT" sz="2400" spc="-1" strike="noStrike">
                <a:solidFill>
                  <a:srgbClr val="010000"/>
                </a:solidFill>
                <a:latin typeface="Arial"/>
              </a:rPr>
              <a:t>gleichen Datenty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ssen Länge beim Anlegen fixiert wird,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uf deren einzelne Elemente mit ihren Integer-Indizes zugegriffen werd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Indizes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eines Arrays sind Integerzahlen von 0 bis (Länge-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klaration mittels [] nach dem Datentyp:</a:t>
            </a:r>
            <a:br>
              <a:rPr sz="2400"/>
            </a:br>
            <a:r>
              <a:rPr b="0" i="1" lang="de-AT" sz="2200" spc="-1" strike="noStrike">
                <a:solidFill>
                  <a:srgbClr val="000000"/>
                </a:solidFill>
                <a:latin typeface="Courier New"/>
              </a:rPr>
              <a:t>DatenTyp[] variablenName = </a:t>
            </a:r>
            <a:r>
              <a:rPr b="1" i="1" lang="de-AT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i="1" lang="de-AT" sz="2200" spc="-1" strike="noStrike">
                <a:solidFill>
                  <a:srgbClr val="000000"/>
                </a:solidFill>
                <a:latin typeface="Courier New"/>
              </a:rPr>
              <a:t> DatenTyp[laenge];</a:t>
            </a:r>
            <a:br>
              <a:rPr sz="2200"/>
            </a:br>
            <a:br>
              <a:rPr sz="600"/>
            </a:br>
            <a:r>
              <a:rPr b="0" i="1" lang="de-AT" sz="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00400" y="5791320"/>
          <a:ext cx="4297320" cy="33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5791320"/>
                    <a:ext cx="42973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676520" y="563868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590920" y="60195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6400" y="62485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Courier New"/>
              </a:rPr>
              <a:t>l=lae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5D1-5EB0-45E1-A92A-9D1A130030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Methoden der Klasse </a:t>
            </a: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Arrays</a:t>
            </a: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 </a:t>
            </a: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(Auszug)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Klass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m Package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java.util.*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tellt Funktionalitäten für das Arbeiten mit Arrays zur Verfüg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binarySearch(Object[] a, Object key)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Sucht im sortierten Array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nach dem Element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unter Verwendung der binären Suchmethode und liefert den Index des gefundenen Objektes bzw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bei Misserfol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 equals(Object[] a, Object[] a2)</a:t>
            </a:r>
            <a:br>
              <a:rPr sz="24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iefert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, wenn die Arrays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a2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identisch s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voi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fill(Object[] a, Object val)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eist allen Elementen des Array a das Objekt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z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tatic void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sort(Object[] a)</a:t>
            </a:r>
            <a:br>
              <a:rPr sz="20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Sortiert das Array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in aufsteigend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ischer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Reihenfolge (</a:t>
            </a: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dazu muss zu allen Elementen das ‚</a:t>
            </a:r>
            <a:r>
              <a:rPr b="0" i="1" lang="de-AT" sz="12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i="1" lang="de-AT" sz="1200" spc="-1" strike="noStrike">
                <a:solidFill>
                  <a:srgbClr val="000000"/>
                </a:solidFill>
                <a:latin typeface="Arial"/>
              </a:rPr>
              <a:t>‘ Interface  implementiert sein (siehe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[Ecke00, 431ff. - c09-CompType.java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40B-4BAF-489D-8052-D858A60AB8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Courier New"/>
              </a:rPr>
              <a:t>Arrays</a:t>
            </a:r>
            <a:br>
              <a:rPr sz="4400"/>
            </a:br>
            <a:r>
              <a:rPr b="1" lang="de-AT" sz="1600" spc="-1" strike="noStrike">
                <a:solidFill>
                  <a:srgbClr val="104c88"/>
                </a:solidFill>
                <a:latin typeface="Arial"/>
              </a:rPr>
              <a:t>(Beispiel)</a:t>
            </a:r>
            <a:endParaRPr b="1" lang="en-US" sz="16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üllen, Sortieren und Ausgeben eines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java.util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ArraySimp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printArray(Object[] ar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i = 0; i &lt; arr.length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arr[i]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main (String args[]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File dir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File("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[] files = dir.lis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rintArray(file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rrays.sort(file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rintArray(file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rrays.fill(files, "-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rintArray(file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}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siehe Arra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C7B-E42F-446B-8754-A718273427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Verwalten von Objekten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erwaltung von Daten in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orteil: einfach zu implementieren, sehr schnell, Klasse </a:t>
            </a:r>
            <a:r>
              <a:rPr b="0" lang="de-AT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erleichtert die Verwaltung eines Arra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, random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achteil: vorbestimmte Anzahl von Elementen und mühsames Einsortieren neuer Ele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Gesucht: </a:t>
            </a:r>
            <a:br>
              <a:rPr sz="28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eeignete Datenstrukturen zum Speicher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uslesen, Manipulieren und Handling von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iner beliebigen Anzahl von Objek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3E1-3830-49E0-8188-609F4A118D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Container (Collections)</a:t>
            </a:r>
            <a:endParaRPr b="1" lang="en-US" sz="4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tainer bieten ein Konzept, welches Objekte zu Grupp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zusammenfas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z.B. eine Klasse (Gruppe von Studenten), ein Postfach (Gruppe von Emails) oder ein Telefonverzeichnis ( Gruppe von Name-Telefonnummer- Paare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it einem Containerobjekt können Instanzen </a:t>
            </a:r>
            <a:r>
              <a:rPr b="1" i="1" lang="de-AT" sz="2400" spc="-1" strike="noStrike">
                <a:solidFill>
                  <a:srgbClr val="000000"/>
                </a:solidFill>
                <a:latin typeface="Arial"/>
              </a:rPr>
              <a:t>beliebiger Klass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verwalte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pezielle Typinformation der einzelnen Objekte </a:t>
            </a:r>
            <a:r>
              <a:rPr b="1" i="1" lang="de-AT" sz="2400" spc="-1" strike="noStrike">
                <a:solidFill>
                  <a:srgbClr val="000000"/>
                </a:solidFill>
                <a:latin typeface="Arial"/>
              </a:rPr>
              <a:t>geht dabei verlor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Um die Instanzen verwenden zu können, müssen auf den entsprechenden Datentyp </a:t>
            </a:r>
            <a:r>
              <a:rPr b="1" i="1" lang="de-AT" sz="2400" spc="-1" strike="noStrike">
                <a:solidFill>
                  <a:srgbClr val="000000"/>
                </a:solidFill>
                <a:latin typeface="Arial"/>
              </a:rPr>
              <a:t>umgewandel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werden (Casting). (Wiwi-Student </a:t>
            </a: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Stud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C8A-EBAC-4704-A8F8-D4804F75D4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Containerklassen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(Interfaces)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llections (Gruppe von Objekte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ist: Beliebige Elemente werden in einer bestimmten Reihenfolge verwal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et: Kann kein Element mehrmals enthal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a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enge von Schlüssel-Objekt Paaren, (Assoziationen zu Objekten, z.B. Name-Telefonn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Die Typ-Information geht bei der Verwendung von Containerklassen verlo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39F-74BC-4F66-9E86-8D4DE28171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104c88"/>
                </a:solidFill>
                <a:latin typeface="Arial"/>
              </a:rPr>
              <a:t>Typ-Information</a:t>
            </a:r>
            <a:br>
              <a:rPr sz="4400"/>
            </a:br>
            <a:r>
              <a:rPr b="1" lang="de-AT" sz="2400" spc="-1" strike="noStrike">
                <a:solidFill>
                  <a:srgbClr val="104c88"/>
                </a:solidFill>
                <a:latin typeface="Arial"/>
              </a:rPr>
              <a:t>Fehlerquelle</a:t>
            </a:r>
            <a:endParaRPr b="1" lang="en-US" sz="2400" spc="-1" strike="noStrike">
              <a:solidFill>
                <a:srgbClr val="104c8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cc0000"/>
                </a:solidFill>
                <a:latin typeface="Arial"/>
              </a:rPr>
              <a:t>Achtung Fehlerquel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Bei der Ausführung von Methoden wird es 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Abstürzen kommen, wen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Instanzen verschiedener Klassen verwaltet werd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und eine Methode aufgerufen wird, die weder in der Klasse selbst noch in einer Superklasse implementiert i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oder eine Methode des Objekts aufgerufen wird ohne dieses Objekt vorher entsprechend umzuwandel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626-CBE1-4662-9F6E-9DF4DFFA89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38:33Z</dcterms:created>
  <dc:creator>Susanne Guth, Rainer Klimesch, Marion Kaukal</dc:creator>
  <dc:description/>
  <dc:language>en-US</dc:language>
  <cp:lastModifiedBy>Susanne Guth</cp:lastModifiedBy>
  <cp:lastPrinted>2001-09-26T10:00:59Z</cp:lastPrinted>
  <dcterms:modified xsi:type="dcterms:W3CDTF">2003-06-05T09:34:47Z</dcterms:modified>
  <cp:revision>1080</cp:revision>
  <dc:subject/>
  <dc:title>Java - Einführu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nm.wu-wien.ac.at/java/</vt:lpwstr>
  </property>
  <property fmtid="{D5CDD505-2E9C-101B-9397-08002B2CF9AE}" pid="9" name="LinkColor">
    <vt:r8>16711782</vt:r8>
  </property>
  <property fmtid="{D5CDD505-2E9C-101B-9397-08002B2CF9AE}" pid="10" name="MailAddress">
    <vt:lpwstr>java@alice.wu-wien.ac.a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NeueMedien\java\FolienSS01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