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7D7-B496-45E5-8263-592F4017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E9E-804A-492B-B8D4-6DC6A6E2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ADF-8E09-4CC9-A26B-DBD09750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3B1-18DA-49BC-AEED-51F4746B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6E5-642D-4C1A-B588-E4189CB4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0D2-3483-4272-A956-8E35893B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020-D88C-47AC-8C18-0770DF7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4A2-F39D-4703-99DB-0F80ACCE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BE9-4297-4FA1-8536-E0964E3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7FB-3741-4C10-8DD0-B325BF5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932-540C-4692-A6C8-59EFB327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5CB-5B40-4E98-9DAB-537D033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83D-1142-407F-9855-16F4189F3BD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720" y="6461280"/>
            <a:ext cx="474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lagen der Programmierung – Applets  © Guth, Kaukal, Klimesch 2000-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PPLET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lagen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455920" cy="28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BB2-417D-4CE1-924F-03D509DF65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Appletaufruf 3</a:t>
            </a:r>
            <a:br>
              <a:rPr sz="4400"/>
            </a:b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(Netscape + Microsoft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html&gt;&lt;head&gt;&lt;title&gt;Applet1&lt;/title&gt;&lt;/head&gt;&lt;hr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OBJECT classid="clsid:8AD9C840-044E-11D1-B3E9-00805F499D93" width="100" height="50" align="baseline" codebase="http://java.sun.com/products/plugin/1.2.2/jinstall-1_2_2-win.cab#Version=1,2,2,0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ARAM NAME="code" VALUE=„HelloApplet.class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ARAM NAME="codebase" VALUE=".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ARAM NAME="type" VALUE="application/x-java-applet;version=1.2.2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COMME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EMBED type= "application/x-java-applet;version=1.2.2" width="200" height="200" align="baseline" code=„HelloApplet.class" codebase="." pluginspage="http://java.sun.com/products/plugin/1.2/plugin-install.html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NOEMBED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COMMENT&gt; No Java 2 support for APPLET!! &lt;/NOEMBED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EMBED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OBJECT&gt; &lt;hr&gt;&lt;/body&gt;&lt;/html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5B8-F3AA-468E-92F6-C880F53C3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Methoden der Klasse JApple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nit()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rd automatisch zur Initialisierung des Applet aufgerufen. Diese Methode wird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mm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überschri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tart ()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rd aufgerufen, sobald das Applet im Browser sichtbar wird, um alle normalen Operationen zu star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top()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rd aufgerufen, sobald das Applet im Browser nicht mehr sichtbar ist, um alle Operationen einzustellen und Rechenleistung zu sp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destroy()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ibt nicht mehr benötigte Ressourcen frei, wenn das Applet nicht mehr verwende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EFE-649B-4F56-B252-38AEF742D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67360" y="2432160"/>
            <a:ext cx="4076640" cy="3892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Java Applet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erste Applet (HelloApplet.ja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class HelloApplet extends JApplet{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public void init() {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getContentPane().add(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 new JLabel("Mein erstes Applet!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CA2-793A-46B4-AB88-1883F6083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Graphik-Programmierung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UI: Graphical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heck-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dio-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ava.awt  (abstract window toolk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avax.s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 Folgenden mit Java Applets geze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63A-BCFB-489A-B13A-D0F4495F4F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aphische Element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asis-Ele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ext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ntainer verwalten mehrere E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alog, Frame, Ap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oolBar, Panel, Scroll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587760" cy="317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1DC-8B5A-4751-AD4E-620DD706E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wing-Klass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v. Methoden zur Manip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etBackGround(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etFont(F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setSize(int, int)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27C-D711-4FC1-849E-6474E25FD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waltung der Komponent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Klasse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Applet, JFrame, JWindow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Dialog,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ben u.a. von der Klasse Container. Instanzen dieser Klassen können in einer Container-Variablen verschiedene graphische Elemente (z.B.: Menüs, Buttons, etc.) verwalten.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ontainer cp = getContentPane(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der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Frame myframe = new JFrame(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p = myframe.getContentPan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Hinzufügen von Komponenten:</a:t>
            </a:r>
            <a:br>
              <a:rPr sz="1800"/>
            </a:b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cp.add(newElement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5BE-1B3D-4E03-8E96-0EE8C54688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eue Komponent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abels als Instanzen der Klasse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Label: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Label labelInfo =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new JLabel(“Text");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p.add(labelInfo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der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p.add(new JLabel(“Text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uttons als Instanzen der Klasse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Button: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JButton buttonOK = new JButton("OK"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p.add(buttonOK);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der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p.add(new JButton("Cancel")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9D2-D7D8-47AA-B866-F62EE65C9A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952720" cy="1905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Neue Komponenten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class HelloApplet2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extends JApple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JButton buttonO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new JButton("O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Container c = getContentPa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.setLayout(new FlowLayou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.add(new JLabel("Applet!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.add(buttonO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c.add(new JButton("Cancel")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iehe HelloApplet2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130-2DBF-473C-AC0C-470CE3FE63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Das Event Modell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lle Komponenten können ein Ereignis der Klassen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ctionEvent, AdjustmentEvent, ...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auslösen (z.B. Klick, Curser, Enter, Scrollen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s wird von “Listener” der Klassen  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ctionListener, AdjustmentListener, ...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empfangen, die dann entsprechend darauf reagier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gl. [Ecke00, 723f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BE0-34E3-4B4E-A058-BF118BE905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Java-Apple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Java-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cherheitskonzep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eth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betten in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1872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570-F748-4B67-90D4-59661C31A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vents implementieren 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protected static final String OK = "OK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protected static final String 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ANCEL = "Cancel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uttonOK = new JButton("OK");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uttonOK.setActionCommand(OK);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//Listen for actions on buttons</a:t>
            </a:r>
            <a:br>
              <a:rPr sz="28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uttonOK.addActionListener(th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c.add(buttonOK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iehe HelloApplet3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08944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56E-78A9-47C6-AE54-D6BFB7E3D8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vents implementieren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public void actionPerformed(ActionEvent e) {</a:t>
            </a:r>
            <a:br>
              <a:rPr sz="2400"/>
            </a:b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if (e.getActionCommand().equals(OK))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label.setText(„OK gedrückt!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label.setText(„CANCEL gedrückt!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iehe HelloApplet3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3352680" cy="22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544-55CB-463B-B75D-20A8B895F4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Events implementieren 3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5400000">
            <a:off x="2266920" y="-286200"/>
            <a:ext cx="4496040" cy="857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public class HelloApplet3 extends JApplet 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mplements ActionListener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protected JButton buttonOK = new JButton("OK"),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buttonCancel = new JButton("Cancel"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protected JLabel label = new JLabel("Applet mit Leben!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protected static final String OK = "OK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protected static final String CANCEL = "Cancel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Container c = getContentPan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c.setLayout(new FlowLayout()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buttonOK = new JButton("OK"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buttonOK.setActionCommand(OK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//Listen for actions-buttons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buttonOK.addActionListener(this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buttonCancel = new JButton("Cancel"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buttonCancel.setActionCommand(CANCEL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buttonCancel.addActionListener(this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c.add(label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c.add(buttonOK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c.add(buttonCancel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public void actionPerformed(ActionEvent e) {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if (e.getActionCommand().equals(CANCEL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label.setText("Cancel gedrückt!"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label.setText("OK gedrückt!");</a:t>
            </a:r>
            <a:br>
              <a:rPr sz="1200"/>
            </a:b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                                          </a:t>
            </a:r>
            <a:r>
              <a:rPr b="0" i="1" lang="de-AT" sz="1600" spc="-1" strike="noStrike">
                <a:solidFill>
                  <a:srgbClr val="000000"/>
                </a:solidFill>
                <a:latin typeface="Arial"/>
              </a:rPr>
              <a:t>siehe HelloApplet3.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258-FC0A-4D39-9810-7CF4C4D035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mplementieren Sie ein Java-Applet, in dem zu einer angegebenen Zahl über Klick eines Button verschiedene Umrechnungen (Grad Celsius - Fahrenheit, km - Meilen, ...) durchgeführt werden kön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Versuchen Sie, die Zahl mittels </a:t>
            </a:r>
            <a:r>
              <a:rPr b="0" lang="de-AT" sz="3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veränderbar zu ma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vgl. HelloApplet4.java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576440" cy="200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256-3714-401A-89BB-0F14019EFD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Java Applets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pplets laufen im Web-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eine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icherheit durch beschränkte Zugriffsrech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plizierte Zugriffsrege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ängere Ladezeiten (alle Klassen müssen über das Netz geladen werd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Java-Klasse </a:t>
            </a: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J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BCC-1642-4FD7-8CC8-73FF31077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Sicherheitskonzept ‚Sandbox‘ (Java 1.0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98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514600"/>
          <a:ext cx="80769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769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6FB-4AD7-4917-8390-F8067AC6FA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Sicherheitskonzept</a:t>
            </a:r>
            <a:br>
              <a:rPr sz="4400"/>
            </a:b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Java 1.1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098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2590920"/>
          <a:ext cx="8182080" cy="26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820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87D-3AB7-428D-B9EA-EDAAF3991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Sicherheitskonzept</a:t>
            </a:r>
            <a:br>
              <a:rPr sz="4400"/>
            </a:b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Java 1.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098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552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447920"/>
          <a:ext cx="76392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6392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552-7B98-4E1F-9603-912229C409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pplets - Besonderheit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usführung von App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 einem Java-fähigen Web-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ppletviewer (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appletviewer HelloApplet.jav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 der Kommandozeile [Eck00, 700-7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pplets brauchen keine Main-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lle Klassen eines Applets werden meist in ein Archiv gepac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rstellen von Applets mit JApplet, JLabel, JXxx (bezeichnet Swing-Komponenten aus dem Package javax.s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0C5-C8E5-4B2F-8347-2C1989A88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Appletaufruf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ppletaufruf muss in eine HTML-Seite eingebettet s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 Browser sieht der HTML-Code für den Appletaufruf anders a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pplets können lokal aufgerufen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Pfad des Class-Files (des Applets) muss sich im CLASSPATH oder aktuellen Verzeichnis befinden. Oft befindet es sich an der selben Stelle, wie die aufrufende HTML-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55D-1170-4328-8364-EA423466B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Appletaufruf 2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ava Applets müssen in HTML-Code eingebette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&lt;HTML&gt;&lt;HEAD&gt;&lt;TITLE&gt; A Simple Program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&lt;/HEAD&gt;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Here is the output of my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PPLET CODE="HelloWorld.class" WIDTH=150 HEIGHT=25&gt;&lt;/APPL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siehe auch http://java.sun.com/openstudio/guid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EEC-AAA9-4614-98BB-0C6202D30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Marion Kaukal, Rainer Klimesch</dc:creator>
  <dc:description/>
  <dc:language>en-US</dc:language>
  <cp:lastModifiedBy>sguth</cp:lastModifiedBy>
  <cp:lastPrinted>2001-09-26T10:00:44Z</cp:lastPrinted>
  <dcterms:modified xsi:type="dcterms:W3CDTF">2002-02-27T18:54:50Z</dcterms:modified>
  <cp:revision>1019</cp:revision>
  <dc:subject/>
  <dc:title>Java - Appl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