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voltage.wav" ContentType="audio/x-wav"/>
  <Override PartName="/ppt/media/image6.png" ContentType="image/png"/>
  <Override PartName="/ppt/media/image13.jpeg" ContentType="image/jpeg"/>
  <Override PartName="/ppt/media/explode.wav" ContentType="audio/x-wav"/>
  <Override PartName="/ppt/media/image14.gif" ContentType="image/gif"/>
  <Override PartName="/ppt/media/chimes.wav" ContentType="audio/x-wav"/>
  <Override PartName="/ppt/media/image15.wmf" ContentType="image/x-wmf"/>
  <Override PartName="/ppt/media/image1.jpeg" ContentType="image/jpeg"/>
  <Override PartName="/ppt/media/Windows%20XP%20Ringin.wav" ContentType="audio/x-wav"/>
  <Override PartName="/ppt/media/image10.png" ContentType="image/png"/>
  <Override PartName="/ppt/media/image2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106-F6AB-47E1-8A01-AD19F5FD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DF3-F3E0-41FD-B036-F188F4FF6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2454-582F-4B4D-AC08-95FA5ABE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D6C1-FC10-41F7-AB67-166E6FD21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3465-9AA0-4DF3-A04D-0FAE2CB16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4475-120D-4702-91BB-581FA5EEB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A95B3-7174-420B-B46D-DD2F31DEA6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C9377-7BB7-42B4-A8E8-B9CBB64841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68B4A-DE40-4445-AB02-9BA65E9F84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7C5B-D1AC-4156-AABD-54645B6150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2407-C51A-4384-B3BE-DE4BD4E46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1395-F08A-488A-B2EE-6D73BF054A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94520-6D85-4951-8867-1D95C35773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4BA93-BF70-497F-8B9E-01EDE41A7E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F8346-4483-438E-9BAD-5E1E76C99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D72EC-F839-4876-A44A-2D9F268C2E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9EE0-159B-4FA3-8499-12FAC9592E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4807A-76C0-4017-9026-84A119CD4A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E4B25-CE9E-45A3-A6BD-CA9B600F5D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15427-F0BB-4175-82A2-B8EDF0E668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DEDF0-40E2-441E-9362-3DB746DB9E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F3CC5-4C75-4C04-B777-0A2748AB1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415E-AD77-486E-99BB-107CDBB6E1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D87DB-0952-4B51-BCAD-A7AB964BC7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6CE22-4FAF-4309-BDDA-3349EDC28C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E8930-34BB-4384-9AA1-760003BAF1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A9C87-2CAB-412C-BB7D-6814B9645A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C3774-B385-4481-8487-5EAD91463B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EA59B-6B1A-4F75-989B-D794BF8170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849A9-4390-4751-83F7-E590C88532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2833E-D8C7-48BF-8831-0632732CEA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C7785-7B24-48EC-9CC3-C7C51C7279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347A-BC3E-4C01-AFFB-B4AE818034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F1E0-C84E-40E3-9095-BCF92FCDA3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E141-1791-4F51-BC3E-7242B718C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E4ED-62BA-49F9-896A-3C1AD2941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AEFB-5230-4AC0-803A-2F83383C6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EDB7-3755-43D1-9A32-E785919ED5F2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761760" y="6221520"/>
            <a:ext cx="36255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181120" y="6221520"/>
            <a:ext cx="2057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November 1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695600"/>
            <a:ext cx="0" cy="10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51620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4304880"/>
            <a:ext cx="0" cy="85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28800" y="137160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 type="sldNum" idx="5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D7D6-C9DE-4F50-B84E-98E2DD0B5D3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       |      IBM 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D78-412F-44E0-B269-BD4EB44F320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67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audio" Target="../media/explode.wav"/><Relationship Id="rId4" Type="http://schemas.openxmlformats.org/officeDocument/2006/relationships/audio" Target="../media/Windows%20XP%20Ringin.wav"/><Relationship Id="rId5" Type="http://schemas.openxmlformats.org/officeDocument/2006/relationships/audio" Target="../media/Windows%20XP%20Ringin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10.png"/><Relationship Id="rId25" Type="http://schemas.openxmlformats.org/officeDocument/2006/relationships/image" Target="../media/image12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6157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esentation is designed to be self-runn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 F5 to start it, and then just sit back and enjoy!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(Run time is about 4 minutes 30 second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47F15F-28C6-4069-873F-562D85F2BC9B}" type="datetime1">
              <a:rPr lang="en-US"/>
              <a:t>07/31/26</a:t>
            </a:fld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16000" y="2286000"/>
            <a:ext cx="419076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Run commands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parallel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dsh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166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182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7148520" y="1265400"/>
            <a:ext cx="664560" cy="4429080"/>
            <a:chOff x="7148520" y="1265400"/>
            <a:chExt cx="664560" cy="4429080"/>
          </a:xfrm>
        </p:grpSpPr>
        <p:sp>
          <p:nvSpPr>
            <p:cNvPr id="1189" name=""/>
            <p:cNvSpPr/>
            <p:nvPr/>
          </p:nvSpPr>
          <p:spPr>
            <a:xfrm>
              <a:off x="7173720" y="12654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61120" y="26114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8520" y="54180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156440" y="1278000"/>
            <a:ext cx="800280" cy="4386240"/>
            <a:chOff x="7156440" y="1278000"/>
            <a:chExt cx="800280" cy="4386240"/>
          </a:xfrm>
        </p:grpSpPr>
        <p:sp>
          <p:nvSpPr>
            <p:cNvPr id="1193" name=""/>
            <p:cNvSpPr/>
            <p:nvPr/>
          </p:nvSpPr>
          <p:spPr>
            <a:xfrm>
              <a:off x="7156800" y="2637000"/>
              <a:ext cx="79956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21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6440" y="1278000"/>
              <a:ext cx="80028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19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64720" y="5418000"/>
              <a:ext cx="72936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8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753160" y="1397160"/>
            <a:ext cx="1359000" cy="4127400"/>
            <a:chOff x="5753160" y="1397160"/>
            <a:chExt cx="1359000" cy="4127400"/>
          </a:xfrm>
        </p:grpSpPr>
        <p:sp>
          <p:nvSpPr>
            <p:cNvPr id="1197" name=""/>
            <p:cNvSpPr/>
            <p:nvPr/>
          </p:nvSpPr>
          <p:spPr>
            <a:xfrm>
              <a:off x="5753160" y="345420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86680" y="13971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520" y="13971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311880" y="27306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11880" y="41148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61120" y="55245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4807800" y="3017880"/>
            <a:ext cx="10494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1: up 19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2: up 21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n: up 8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849920" y="333540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h -a up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EAC0-C8FA-4ED2-8E59-637A22A8A74B}" type="slidenum">
              <a:t>10</a:t>
            </a:fld>
          </a:p>
        </p:txBody>
      </p:sp>
    </p:spTree>
  </p:cSld>
  <p:transition spd="slow" advTm="0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3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grpSp>
          <p:nvGrpSpPr>
            <p:cNvPr id="1206" name=""/>
            <p:cNvGrpSpPr/>
            <p:nvPr/>
          </p:nvGrpSpPr>
          <p:grpSpPr>
            <a:xfrm>
              <a:off x="5778360" y="1409760"/>
              <a:ext cx="1333800" cy="4127400"/>
              <a:chOff x="5778360" y="1409760"/>
              <a:chExt cx="1333800" cy="4127400"/>
            </a:xfrm>
          </p:grpSpPr>
          <p:sp>
            <p:nvSpPr>
              <p:cNvPr id="1207" name=""/>
              <p:cNvSpPr/>
              <p:nvPr/>
            </p:nvSpPr>
            <p:spPr>
              <a:xfrm>
                <a:off x="5778360" y="3467160"/>
                <a:ext cx="52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299280" y="1422360"/>
                <a:ext cx="0" cy="41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299280" y="2743200"/>
                <a:ext cx="79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311880" y="140976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311880" y="412740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311880" y="553716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5364000" y="3238560"/>
              <a:ext cx="318960" cy="404640"/>
              <a:chOff x="5364000" y="3238560"/>
              <a:chExt cx="318960" cy="404640"/>
            </a:xfrm>
          </p:grpSpPr>
          <p:sp>
            <p:nvSpPr>
              <p:cNvPr id="1223" name=""/>
              <p:cNvSpPr/>
              <p:nvPr/>
            </p:nvSpPr>
            <p:spPr>
              <a:xfrm flipH="1">
                <a:off x="5364000" y="32446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46520" y="324792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64000" y="32385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6840" y="336708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4000" y="364320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76600" y="326052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02240" y="337176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5765760" y="1409760"/>
            <a:ext cx="1359000" cy="4127400"/>
            <a:chOff x="5765760" y="1409760"/>
            <a:chExt cx="1359000" cy="4127400"/>
          </a:xfrm>
        </p:grpSpPr>
        <p:sp>
          <p:nvSpPr>
            <p:cNvPr id="1231" name=""/>
            <p:cNvSpPr/>
            <p:nvPr/>
          </p:nvSpPr>
          <p:spPr>
            <a:xfrm>
              <a:off x="57657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992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611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244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244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737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165240" y="1968480"/>
            <a:ext cx="4190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ynchronize files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cfmupdaten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167600" y="1206360"/>
            <a:ext cx="344160" cy="4545000"/>
            <a:chOff x="7167600" y="1206360"/>
            <a:chExt cx="344160" cy="4545000"/>
          </a:xfrm>
        </p:grpSpPr>
        <p:grpSp>
          <p:nvGrpSpPr>
            <p:cNvPr id="1241" name=""/>
            <p:cNvGrpSpPr/>
            <p:nvPr/>
          </p:nvGrpSpPr>
          <p:grpSpPr>
            <a:xfrm>
              <a:off x="7192800" y="1206360"/>
              <a:ext cx="318960" cy="405000"/>
              <a:chOff x="7192800" y="1206360"/>
              <a:chExt cx="318960" cy="405000"/>
            </a:xfrm>
          </p:grpSpPr>
          <p:sp>
            <p:nvSpPr>
              <p:cNvPr id="1242" name=""/>
              <p:cNvSpPr/>
              <p:nvPr/>
            </p:nvSpPr>
            <p:spPr>
              <a:xfrm flipH="1">
                <a:off x="7192800" y="121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75320" y="1216080"/>
                <a:ext cx="123840" cy="11916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192800" y="1206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05640" y="1335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92800" y="161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205400" y="1228680"/>
                <a:ext cx="162000" cy="3729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31040" y="1339920"/>
                <a:ext cx="166680" cy="261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7192800" y="2565360"/>
              <a:ext cx="318960" cy="405000"/>
              <a:chOff x="7192800" y="2565360"/>
              <a:chExt cx="318960" cy="405000"/>
            </a:xfrm>
          </p:grpSpPr>
          <p:sp>
            <p:nvSpPr>
              <p:cNvPr id="1250" name=""/>
              <p:cNvSpPr/>
              <p:nvPr/>
            </p:nvSpPr>
            <p:spPr>
              <a:xfrm flipH="1">
                <a:off x="7192800" y="2571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375320" y="2575080"/>
                <a:ext cx="123840" cy="11916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92800" y="2565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05640" y="2694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192800" y="2970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205400" y="2587680"/>
                <a:ext cx="162000" cy="3729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31040" y="2698920"/>
                <a:ext cx="166680" cy="261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7167600" y="5346720"/>
              <a:ext cx="318960" cy="404640"/>
              <a:chOff x="7167600" y="5346720"/>
              <a:chExt cx="318960" cy="404640"/>
            </a:xfrm>
          </p:grpSpPr>
          <p:sp>
            <p:nvSpPr>
              <p:cNvPr id="1258" name=""/>
              <p:cNvSpPr/>
              <p:nvPr/>
            </p:nvSpPr>
            <p:spPr>
              <a:xfrm flipH="1">
                <a:off x="7167600" y="535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350120" y="535608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167600" y="534672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80440" y="547524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167600" y="575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180200" y="536868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305840" y="547992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6FC9-C961-48B8-8A2E-4338AF59782C}" type="slidenum">
              <a:t>11</a:t>
            </a:fld>
          </a:p>
        </p:txBody>
      </p:sp>
    </p:spTree>
  </p:cSld>
  <p:transition spd="slow" advTm="0"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203040" y="1676520"/>
            <a:ext cx="4191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Install and maintain application software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smsupdatenod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269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08560" y="334008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7162920" y="1231920"/>
            <a:ext cx="431640" cy="4457520"/>
            <a:chOff x="7162920" y="1231920"/>
            <a:chExt cx="431640" cy="4457520"/>
          </a:xfrm>
        </p:grpSpPr>
        <p:sp>
          <p:nvSpPr>
            <p:cNvPr id="1286" name=""/>
            <p:cNvSpPr/>
            <p:nvPr/>
          </p:nvSpPr>
          <p:spPr>
            <a:xfrm>
              <a:off x="7188120" y="123192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75520" y="260352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62920" y="5384880"/>
              <a:ext cx="406440" cy="30456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290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330B-2BA3-4BB0-AD06-C37FEB8491E9}" type="slidenum">
              <a:t>12</a:t>
            </a:fld>
          </a:p>
        </p:txBody>
      </p:sp>
    </p:spTree>
  </p:cSld>
  <p:transition spd="slow" advTm="0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3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177840" y="2019240"/>
            <a:ext cx="41911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et up node monitoring and automated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respons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startcondresp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300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 rot="1189200">
            <a:off x="4804920" y="2887560"/>
            <a:ext cx="1047960" cy="106200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7340760" y="2387520"/>
            <a:ext cx="711000" cy="685800"/>
          </a:xfrm>
          <a:custGeom>
            <a:avLst/>
            <a:gdLst>
              <a:gd name="textAreaLeft" fmla="*/ 293040 w 711000"/>
              <a:gd name="textAreaRight" fmla="*/ 417960 w 71100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448240" y="2743200"/>
            <a:ext cx="2234880" cy="752400"/>
            <a:chOff x="5448240" y="2743200"/>
            <a:chExt cx="2234880" cy="752400"/>
          </a:xfrm>
        </p:grpSpPr>
        <p:sp>
          <p:nvSpPr>
            <p:cNvPr id="1319" name=""/>
            <p:cNvSpPr/>
            <p:nvPr/>
          </p:nvSpPr>
          <p:spPr>
            <a:xfrm flipH="1">
              <a:off x="6270120" y="2743200"/>
              <a:ext cx="1413000" cy="3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99280" y="2755800"/>
              <a:ext cx="0" cy="739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448240" y="3467160"/>
              <a:ext cx="85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3319560" y="4281480"/>
            <a:ext cx="1234800" cy="17114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5346720" y="3467160"/>
            <a:ext cx="0" cy="1628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4660920" y="5067360"/>
            <a:ext cx="660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8D3A-1E75-4AD0-ADAC-2B1FF2453BB2}" type="slidenum">
              <a:t>13</a:t>
            </a:fld>
          </a:p>
        </p:txBody>
      </p:sp>
    </p:spTree>
  </p:cSld>
  <p:transition spd="slow" advTm="0">
    <p:fade thruBlk="true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Rin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Ring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9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1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grpSp>
          <p:nvGrpSpPr>
            <p:cNvPr id="1326" name=""/>
            <p:cNvGrpSpPr/>
            <p:nvPr/>
          </p:nvGrpSpPr>
          <p:grpSpPr>
            <a:xfrm>
              <a:off x="4851360" y="749160"/>
              <a:ext cx="3187800" cy="5321520"/>
              <a:chOff x="4851360" y="749160"/>
              <a:chExt cx="3187800" cy="5321520"/>
            </a:xfrm>
          </p:grpSpPr>
          <p:grpSp>
            <p:nvGrpSpPr>
              <p:cNvPr id="1327" name=""/>
              <p:cNvGrpSpPr/>
              <p:nvPr/>
            </p:nvGrpSpPr>
            <p:grpSpPr>
              <a:xfrm>
                <a:off x="5778360" y="1409760"/>
                <a:ext cx="1333800" cy="4127400"/>
                <a:chOff x="5778360" y="1409760"/>
                <a:chExt cx="1333800" cy="412740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5778360" y="3467160"/>
                  <a:ext cx="52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299280" y="1422360"/>
                  <a:ext cx="0" cy="410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299280" y="2743200"/>
                  <a:ext cx="799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311880" y="140976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311880" y="412740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311880" y="553716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4" name=""/>
              <p:cNvSpPr/>
              <p:nvPr/>
            </p:nvSpPr>
            <p:spPr>
              <a:xfrm>
                <a:off x="4851360" y="2857680"/>
                <a:ext cx="914400" cy="12571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24760" y="74916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12160" y="481320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232760" y="3678120"/>
                <a:ext cx="647640" cy="84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232760" y="172260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232760" y="5786280"/>
                <a:ext cx="74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59280" y="38084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SM 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24760" y="212076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220160" y="308124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5364000" y="3238560"/>
                <a:ext cx="318960" cy="404640"/>
                <a:chOff x="5364000" y="3238560"/>
                <a:chExt cx="318960" cy="40464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5364000" y="324468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546520" y="3247920"/>
                  <a:ext cx="123840" cy="118800"/>
                </a:xfrm>
                <a:prstGeom prst="rtTriangle">
                  <a:avLst/>
                </a:prstGeom>
                <a:solidFill>
                  <a:srgbClr val="d1821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364000" y="3238560"/>
                  <a:ext cx="0" cy="39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676840" y="33670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364000" y="364320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376600" y="3260520"/>
                  <a:ext cx="162000" cy="372600"/>
                </a:xfrm>
                <a:prstGeom prst="rect">
                  <a:avLst/>
                </a:prstGeom>
                <a:solidFill>
                  <a:srgbClr val="d182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02240" y="3371760"/>
                  <a:ext cx="166680" cy="261360"/>
                </a:xfrm>
                <a:prstGeom prst="rect">
                  <a:avLst/>
                </a:prstGeom>
                <a:solidFill>
                  <a:srgbClr val="d182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1" name=""/>
            <p:cNvGrpSpPr/>
            <p:nvPr/>
          </p:nvGrpSpPr>
          <p:grpSpPr>
            <a:xfrm>
              <a:off x="7167600" y="1206360"/>
              <a:ext cx="344160" cy="4545000"/>
              <a:chOff x="7167600" y="1206360"/>
              <a:chExt cx="344160" cy="454500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7192800" y="1206360"/>
                <a:ext cx="318960" cy="405000"/>
                <a:chOff x="7192800" y="1206360"/>
                <a:chExt cx="318960" cy="405000"/>
              </a:xfrm>
            </p:grpSpPr>
            <p:sp>
              <p:nvSpPr>
                <p:cNvPr id="1353" name=""/>
                <p:cNvSpPr/>
                <p:nvPr/>
              </p:nvSpPr>
              <p:spPr>
                <a:xfrm flipH="1">
                  <a:off x="7192800" y="1212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375320" y="1216080"/>
                  <a:ext cx="123840" cy="11916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192800" y="1206360"/>
                  <a:ext cx="0" cy="40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505640" y="1335240"/>
                  <a:ext cx="0" cy="27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192800" y="1611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205400" y="1228680"/>
                  <a:ext cx="162000" cy="3729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331040" y="1339920"/>
                  <a:ext cx="166680" cy="261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"/>
              <p:cNvGrpSpPr/>
              <p:nvPr/>
            </p:nvGrpSpPr>
            <p:grpSpPr>
              <a:xfrm>
                <a:off x="7192800" y="2565360"/>
                <a:ext cx="318960" cy="405000"/>
                <a:chOff x="7192800" y="2565360"/>
                <a:chExt cx="318960" cy="405000"/>
              </a:xfrm>
            </p:grpSpPr>
            <p:sp>
              <p:nvSpPr>
                <p:cNvPr id="1361" name=""/>
                <p:cNvSpPr/>
                <p:nvPr/>
              </p:nvSpPr>
              <p:spPr>
                <a:xfrm flipH="1">
                  <a:off x="7192800" y="2571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375320" y="2575080"/>
                  <a:ext cx="123840" cy="11916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192800" y="2565360"/>
                  <a:ext cx="0" cy="40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505640" y="2694240"/>
                  <a:ext cx="0" cy="27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192800" y="2970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205400" y="2587680"/>
                  <a:ext cx="162000" cy="3729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331040" y="2698920"/>
                  <a:ext cx="166680" cy="261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7167600" y="5346720"/>
                <a:ext cx="318960" cy="404640"/>
                <a:chOff x="7167600" y="5346720"/>
                <a:chExt cx="318960" cy="404640"/>
              </a:xfrm>
            </p:grpSpPr>
            <p:sp>
              <p:nvSpPr>
                <p:cNvPr id="1369" name=""/>
                <p:cNvSpPr/>
                <p:nvPr/>
              </p:nvSpPr>
              <p:spPr>
                <a:xfrm flipH="1">
                  <a:off x="7167600" y="5352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350120" y="5356080"/>
                  <a:ext cx="123840" cy="11880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167600" y="5346720"/>
                  <a:ext cx="0" cy="39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480440" y="547524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167600" y="5751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180200" y="5368680"/>
                  <a:ext cx="162000" cy="3726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305840" y="5479920"/>
                  <a:ext cx="166680" cy="261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6" name=""/>
          <p:cNvGrpSpPr/>
          <p:nvPr/>
        </p:nvGrpSpPr>
        <p:grpSpPr>
          <a:xfrm>
            <a:off x="7167600" y="1206360"/>
            <a:ext cx="344160" cy="4545000"/>
            <a:chOff x="7167600" y="1206360"/>
            <a:chExt cx="344160" cy="4545000"/>
          </a:xfrm>
        </p:grpSpPr>
        <p:grpSp>
          <p:nvGrpSpPr>
            <p:cNvPr id="1377" name=""/>
            <p:cNvGrpSpPr/>
            <p:nvPr/>
          </p:nvGrpSpPr>
          <p:grpSpPr>
            <a:xfrm>
              <a:off x="7192800" y="1206360"/>
              <a:ext cx="318960" cy="405000"/>
              <a:chOff x="7192800" y="1206360"/>
              <a:chExt cx="318960" cy="405000"/>
            </a:xfrm>
          </p:grpSpPr>
          <p:sp>
            <p:nvSpPr>
              <p:cNvPr id="1378" name=""/>
              <p:cNvSpPr/>
              <p:nvPr/>
            </p:nvSpPr>
            <p:spPr>
              <a:xfrm flipH="1">
                <a:off x="7192800" y="121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375320" y="1216080"/>
                <a:ext cx="123840" cy="119160"/>
              </a:xfrm>
              <a:prstGeom prst="rtTriangle">
                <a:avLst/>
              </a:prstGeom>
              <a:solidFill>
                <a:srgbClr val="d1821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192800" y="1206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05640" y="1335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192800" y="161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205400" y="1228680"/>
                <a:ext cx="162000" cy="37296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331040" y="1339920"/>
                <a:ext cx="166680" cy="26172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192800" y="2565360"/>
              <a:ext cx="318960" cy="405000"/>
              <a:chOff x="7192800" y="2565360"/>
              <a:chExt cx="318960" cy="405000"/>
            </a:xfrm>
          </p:grpSpPr>
          <p:sp>
            <p:nvSpPr>
              <p:cNvPr id="1386" name=""/>
              <p:cNvSpPr/>
              <p:nvPr/>
            </p:nvSpPr>
            <p:spPr>
              <a:xfrm flipH="1">
                <a:off x="7192800" y="2571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375320" y="2575080"/>
                <a:ext cx="123840" cy="119160"/>
              </a:xfrm>
              <a:prstGeom prst="rtTriangle">
                <a:avLst/>
              </a:prstGeom>
              <a:solidFill>
                <a:srgbClr val="d1821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192800" y="2565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05640" y="2694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192800" y="2970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205400" y="2587680"/>
                <a:ext cx="162000" cy="37296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331040" y="2698920"/>
                <a:ext cx="166680" cy="26172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7167600" y="5346720"/>
              <a:ext cx="318960" cy="404640"/>
              <a:chOff x="7167600" y="5346720"/>
              <a:chExt cx="318960" cy="404640"/>
            </a:xfrm>
          </p:grpSpPr>
          <p:sp>
            <p:nvSpPr>
              <p:cNvPr id="1394" name=""/>
              <p:cNvSpPr/>
              <p:nvPr/>
            </p:nvSpPr>
            <p:spPr>
              <a:xfrm flipH="1">
                <a:off x="7167600" y="535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350120" y="535608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167600" y="534672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80440" y="547524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67600" y="575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80200" y="536868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305840" y="547992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5765760" y="1409760"/>
            <a:ext cx="1359000" cy="2092320"/>
            <a:chOff x="5765760" y="1409760"/>
            <a:chExt cx="1359000" cy="2092320"/>
          </a:xfrm>
        </p:grpSpPr>
        <p:sp>
          <p:nvSpPr>
            <p:cNvPr id="1402" name=""/>
            <p:cNvSpPr/>
            <p:nvPr/>
          </p:nvSpPr>
          <p:spPr>
            <a:xfrm>
              <a:off x="57657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295680" y="1409760"/>
              <a:ext cx="3240" cy="209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611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244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165240" y="1968480"/>
            <a:ext cx="41907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efine Node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nd do any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foremention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unctions on Nodegroup boundar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62000" y="592596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53ff"/>
                </a:solidFill>
                <a:latin typeface="Lydian"/>
              </a:rPr>
              <a:t>nodegrp -n node1,node2 grou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6680160" y="660240"/>
            <a:ext cx="1733760" cy="3078720"/>
            <a:chOff x="6680160" y="660240"/>
            <a:chExt cx="1733760" cy="3078720"/>
          </a:xfrm>
        </p:grpSpPr>
        <p:sp>
          <p:nvSpPr>
            <p:cNvPr id="1411" name=""/>
            <p:cNvSpPr/>
            <p:nvPr/>
          </p:nvSpPr>
          <p:spPr>
            <a:xfrm>
              <a:off x="6680160" y="660240"/>
              <a:ext cx="1498680" cy="2832120"/>
            </a:xfrm>
            <a:prstGeom prst="rect">
              <a:avLst/>
            </a:prstGeom>
            <a:noFill/>
            <a:ln w="38160">
              <a:solidFill>
                <a:srgbClr val="535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64600" y="3462480"/>
              <a:ext cx="94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353ff"/>
                  </a:solidFill>
                  <a:latin typeface="Arial"/>
                </a:rPr>
                <a:t>group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0" y="5938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"/>
              </a:rPr>
              <a:t>cfmupdatenode -N group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EC84-00A9-4D78-A6EC-FAC48381BB82}" type="slidenum">
              <a:t>14</a:t>
            </a:fld>
          </a:p>
        </p:txBody>
      </p:sp>
    </p:spTree>
  </p:cSld>
  <p:transition spd="slow" advTm="0">
    <p:fade thruBlk="true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885960" y="2016000"/>
            <a:ext cx="82580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firmware fl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diskless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HA management serv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Blue Gene monitoring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hierarchical management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And much, much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0" y="222264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And that’s not all!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69800" y="647640"/>
            <a:ext cx="79628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CSM has other features and capabilities lik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74D9-B885-47EE-A137-5958D0BEB8D5}" type="slidenum">
              <a:t>15</a:t>
            </a:fld>
          </a:p>
        </p:txBody>
      </p:sp>
    </p:spTree>
  </p:cSld>
  <p:transition spd="slow" advTm="0">
    <p:fade thruBlk="true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190440" y="1638360"/>
            <a:ext cx="873756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or more inform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talk with your IBM Sales Representa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or visit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 </a:t>
            </a:r>
            <a:r>
              <a:rPr b="1" lang="en-US" sz="2400" spc="-1" strike="noStrike">
                <a:solidFill>
                  <a:srgbClr val="5353ff"/>
                </a:solidFill>
                <a:latin typeface="Arial"/>
                <a:ea typeface="Arial"/>
              </a:rPr>
              <a:t>http://www14.software.ibm.com/webapp/set2/sas/f/csm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E83D-ABA2-4640-A9BE-FBBCE187C83C}" type="slidenum">
              <a:t>16</a:t>
            </a:fld>
          </a:p>
        </p:txBody>
      </p:sp>
    </p:spTree>
  </p:cSld>
  <p:transition spd="slow" advTm="0">
    <p:fade thruBlk="true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760" y="2679840"/>
            <a:ext cx="8153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uster Systems Management (CSM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igh-level overvie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686800" y="4711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444E99-92DF-431D-A379-7A2C472D677B}" type="datetime1">
              <a:rPr lang="en-US"/>
              <a:t>07/31/26</a:t>
            </a:fld>
          </a:p>
        </p:txBody>
      </p:sp>
    </p:spTree>
  </p:cSld>
  <p:transition spd="slow" advTm="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78732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What is CSM?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476440"/>
            <a:ext cx="9144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oftware for deploying, managing, maintaining, and monitoring System x and System p servers from a single point of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457880"/>
            <a:ext cx="91440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or AIX and Lin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EFA1-8520-456A-876C-BB872593CD80}" type="slidenum">
              <a:t>3</a:t>
            </a:fld>
          </a:p>
        </p:txBody>
      </p:sp>
    </p:spTree>
  </p:cSld>
  <p:transition spd="slow" advTm="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854360" y="444600"/>
            <a:ext cx="54226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SM suppor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 a wide variety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System p and System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“nodes”</a:t>
            </a: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29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2296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476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247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415296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229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22960" y="415764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476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476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5764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341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3412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3412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55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37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355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4060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0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40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34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19600" y="399888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9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944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341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4187880"/>
            <a:ext cx="64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16480" y="41623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1648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038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3900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390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8422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3900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390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4224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5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5160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8501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534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5340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436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4187880"/>
            <a:ext cx="50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43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487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3288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3288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3288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0732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84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3880" y="4151160"/>
            <a:ext cx="32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738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75680" y="415296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756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77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73880" y="41623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73880" y="415764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75680" y="4157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756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771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0" y="4157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8360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850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850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8972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897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83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08520" y="312120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83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677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677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677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58040" y="42894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564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56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59720" y="415296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54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4080" y="418788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5648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564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59720" y="415764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6584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6584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6584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676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6908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6764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723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723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23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6584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611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61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611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6584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485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485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485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229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2296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2476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247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7640" y="282420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229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476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2476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27640" y="2825640"/>
            <a:ext cx="180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341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3412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34120" y="2749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556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73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355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40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060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060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40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34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29440" y="27446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2944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29440" y="2751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2944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341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341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341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16480" y="27511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16480" y="28321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1648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1648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1648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16480" y="274464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1648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038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3900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390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390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8390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8422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39000" y="2827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3900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390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84224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487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4872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4872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85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5160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501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5340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534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340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5340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5340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43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436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843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487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487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3288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3288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3288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3288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3288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3288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3288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0732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184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73880" y="2820960"/>
            <a:ext cx="32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73880" y="28224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75680" y="282420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756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7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73880" y="28321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75680" y="2825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756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771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8360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83600" y="2825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8360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850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3864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8504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8972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89720" y="28256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9720" y="2825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972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83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803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8036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8036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836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8360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83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677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6776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6776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6776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6776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677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677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58040" y="29592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54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5468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648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564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59720" y="282420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4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5648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7564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59720" y="282564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6584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6584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6584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676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6908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67640" y="28242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723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723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723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7232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723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6584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611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61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611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6584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658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6584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485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48560" y="2822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4856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4856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485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485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485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92520" y="4152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69252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972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9252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957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9252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9720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9420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878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831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8604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83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81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813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1360" y="415764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13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813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813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6813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895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87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8784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6878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78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78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004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00536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09840" y="4179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0"/>
                </a:lnTo>
                <a:lnTo>
                  <a:pt x="0" y="2"/>
                </a:lnTo>
                <a:lnTo>
                  <a:pt x="3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0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2420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1" y="0"/>
                  <a:pt x="1" y="2"/>
                  <a:pt x="1" y="3"/>
                </a:cubicBezTo>
                <a:cubicBezTo>
                  <a:pt x="1" y="5"/>
                  <a:pt x="1" y="5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1" y="6"/>
                  <a:pt x="1" y="4"/>
                  <a:pt x="1" y="3"/>
                </a:cubicBezTo>
                <a:cubicBezTo>
                  <a:pt x="1" y="3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8140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077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7792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829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0779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7972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28880" y="424800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7792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829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7960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732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685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71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685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667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667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6160" y="418788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667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667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667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667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73240" y="4157640"/>
            <a:ext cx="32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73240" y="41608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732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732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732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8440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8440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8764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876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8440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16080" y="428796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0816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1" y="0"/>
                  <a:pt x="0" y="3"/>
                  <a:pt x="0" y="3"/>
                </a:cubicBezTo>
                <a:cubicBezTo>
                  <a:pt x="0" y="4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4484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44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448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480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44840" y="415296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448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44840" y="4156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480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44840" y="4156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3368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35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336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3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304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81040" y="424800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30440" y="4160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32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304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304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369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38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38360" y="415764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383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383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3836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3692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4952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495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527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527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495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6080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608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65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608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622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60800" y="415764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6080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654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160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5612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5108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5288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10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49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96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4964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14964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4964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4964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496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561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5612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5612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5612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5612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5612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669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701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701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68600" y="41497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66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9104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6957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92520" y="2820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9252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69720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9252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957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69252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9720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6925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6878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6831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8604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83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6813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813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813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813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13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813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8784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8784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878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687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6878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71960" y="22208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004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03680" y="282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0368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0368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0368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2420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5"/>
                </a:cubicBezTo>
                <a:cubicBezTo>
                  <a:pt x="1" y="5"/>
                  <a:pt x="1" y="4"/>
                  <a:pt x="1" y="2"/>
                </a:cubicBezTo>
                <a:cubicBezTo>
                  <a:pt x="1" y="2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7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792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829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7792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07972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89440" y="21906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7792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0829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07792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732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685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71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685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667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667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0667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667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667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0667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73240" y="28306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0732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0732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0732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08440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0876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0876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0876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0876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116080" y="2959200"/>
            <a:ext cx="360" cy="61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816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1" y="0"/>
                  <a:pt x="0" y="2"/>
                  <a:pt x="0" y="2"/>
                </a:cubicBezTo>
                <a:cubicBezTo>
                  <a:pt x="0" y="4"/>
                  <a:pt x="1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1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44840" y="28224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480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44840" y="282240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448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608280" y="2190600"/>
            <a:ext cx="504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544840" y="2824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5480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44840" y="2824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98680" y="219060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3368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9724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3368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304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94240" y="219060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30440" y="28306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9256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304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304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3692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383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83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383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3692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495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616200" y="2185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14880" y="21891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5527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527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622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60800" y="2820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1608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654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6080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622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608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922560" y="2189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5612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5108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1464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1510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496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911760" y="219060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14964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4964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496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4964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19560" y="219060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15612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5612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56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15612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78440" y="21906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1669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33960" y="2185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3228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17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01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9104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0" y="0"/>
                  <a:pt x="0" y="2"/>
                  <a:pt x="0" y="2"/>
                </a:cubicBezTo>
                <a:cubicBezTo>
                  <a:pt x="0" y="4"/>
                  <a:pt x="0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977760" y="2679840"/>
            <a:ext cx="2527200" cy="1718280"/>
            <a:chOff x="977760" y="2679840"/>
            <a:chExt cx="2527200" cy="1718280"/>
          </a:xfrm>
        </p:grpSpPr>
        <p:grpSp>
          <p:nvGrpSpPr>
            <p:cNvPr id="878" name=""/>
            <p:cNvGrpSpPr/>
            <p:nvPr/>
          </p:nvGrpSpPr>
          <p:grpSpPr>
            <a:xfrm>
              <a:off x="977760" y="2679840"/>
              <a:ext cx="1469880" cy="1718280"/>
              <a:chOff x="977760" y="2679840"/>
              <a:chExt cx="1469880" cy="1718280"/>
            </a:xfrm>
          </p:grpSpPr>
          <p:sp>
            <p:nvSpPr>
              <p:cNvPr id="879" name=""/>
              <p:cNvSpPr/>
              <p:nvPr/>
            </p:nvSpPr>
            <p:spPr>
              <a:xfrm>
                <a:off x="977760" y="2679840"/>
                <a:ext cx="1447920" cy="1387440"/>
              </a:xfrm>
              <a:prstGeom prst="ellipse">
                <a:avLst/>
              </a:prstGeom>
              <a:solidFill>
                <a:srgbClr val="0000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1054080" y="2908440"/>
                <a:ext cx="1393560" cy="1489680"/>
                <a:chOff x="1054080" y="2908440"/>
                <a:chExt cx="1393560" cy="1489680"/>
              </a:xfrm>
            </p:grpSpPr>
            <p:pic>
              <p:nvPicPr>
                <p:cNvPr id="8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7240" y="3365280"/>
                  <a:ext cx="48204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1054080" y="3898800"/>
                  <a:ext cx="1393560" cy="49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p Server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AIX or Linux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06000" y="3060720"/>
                  <a:ext cx="48240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34600" y="3213000"/>
                  <a:ext cx="48240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54080" y="2908440"/>
                  <a:ext cx="48240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6" name=""/>
            <p:cNvSpPr/>
            <p:nvPr/>
          </p:nvSpPr>
          <p:spPr>
            <a:xfrm flipH="1">
              <a:off x="2488680" y="3390840"/>
              <a:ext cx="10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600880" y="2770200"/>
            <a:ext cx="2565360" cy="1389960"/>
            <a:chOff x="5600880" y="2770200"/>
            <a:chExt cx="2565360" cy="1389960"/>
          </a:xfrm>
        </p:grpSpPr>
        <p:grpSp>
          <p:nvGrpSpPr>
            <p:cNvPr id="888" name=""/>
            <p:cNvGrpSpPr/>
            <p:nvPr/>
          </p:nvGrpSpPr>
          <p:grpSpPr>
            <a:xfrm>
              <a:off x="6299280" y="2770200"/>
              <a:ext cx="1866960" cy="1389960"/>
              <a:chOff x="6299280" y="2770200"/>
              <a:chExt cx="1866960" cy="1389960"/>
            </a:xfrm>
          </p:grpSpPr>
          <p:sp>
            <p:nvSpPr>
              <p:cNvPr id="889" name=""/>
              <p:cNvSpPr/>
              <p:nvPr/>
            </p:nvSpPr>
            <p:spPr>
              <a:xfrm>
                <a:off x="7145280" y="2770200"/>
                <a:ext cx="457200" cy="438120"/>
              </a:xfrm>
              <a:prstGeom prst="ellipse">
                <a:avLst/>
              </a:prstGeom>
              <a:solidFill>
                <a:srgbClr val="ffcc00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299280" y="3162240"/>
                <a:ext cx="685800" cy="656640"/>
              </a:xfrm>
              <a:prstGeom prst="ellipse">
                <a:avLst/>
              </a:prstGeom>
              <a:solidFill>
                <a:srgbClr val="ffcc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"/>
              <p:cNvGrpSpPr/>
              <p:nvPr/>
            </p:nvGrpSpPr>
            <p:grpSpPr>
              <a:xfrm>
                <a:off x="6527880" y="2933640"/>
                <a:ext cx="1638360" cy="1226520"/>
                <a:chOff x="6527880" y="2933640"/>
                <a:chExt cx="1638360" cy="1226520"/>
              </a:xfrm>
            </p:grpSpPr>
            <p:pic>
              <p:nvPicPr>
                <p:cNvPr id="892" name="" descr=""/>
                <p:cNvPicPr/>
                <p:nvPr/>
              </p:nvPicPr>
              <p:blipFill>
                <a:blip r:embed="rId5"/>
                <a:srcRect l="36922" t="51389" r="3357" b="14150"/>
                <a:stretch/>
              </p:blipFill>
              <p:spPr>
                <a:xfrm>
                  <a:off x="6527880" y="2933640"/>
                  <a:ext cx="1638360" cy="62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3" name=""/>
                <p:cNvSpPr/>
                <p:nvPr/>
              </p:nvSpPr>
              <p:spPr>
                <a:xfrm>
                  <a:off x="6604200" y="3526920"/>
                  <a:ext cx="144756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x Server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Linux on Intel and Opter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"/>
            <p:cNvSpPr/>
            <p:nvPr/>
          </p:nvSpPr>
          <p:spPr>
            <a:xfrm flipH="1">
              <a:off x="5600880" y="3378240"/>
              <a:ext cx="58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716280" y="4495680"/>
            <a:ext cx="1905120" cy="1413000"/>
            <a:chOff x="3716280" y="4495680"/>
            <a:chExt cx="1905120" cy="1413000"/>
          </a:xfrm>
        </p:grpSpPr>
        <p:grpSp>
          <p:nvGrpSpPr>
            <p:cNvPr id="896" name=""/>
            <p:cNvGrpSpPr/>
            <p:nvPr/>
          </p:nvGrpSpPr>
          <p:grpSpPr>
            <a:xfrm>
              <a:off x="3716280" y="4813200"/>
              <a:ext cx="1905120" cy="1095480"/>
              <a:chOff x="3716280" y="4813200"/>
              <a:chExt cx="1905120" cy="1095480"/>
            </a:xfrm>
          </p:grpSpPr>
          <p:sp>
            <p:nvSpPr>
              <p:cNvPr id="897" name=""/>
              <p:cNvSpPr/>
              <p:nvPr/>
            </p:nvSpPr>
            <p:spPr>
              <a:xfrm>
                <a:off x="4025880" y="4813200"/>
                <a:ext cx="1143000" cy="1095480"/>
              </a:xfrm>
              <a:prstGeom prst="ellipse">
                <a:avLst/>
              </a:prstGeom>
              <a:solidFill>
                <a:srgbClr val="0080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3716280" y="5092560"/>
                <a:ext cx="1905120" cy="680760"/>
                <a:chOff x="3716280" y="5092560"/>
                <a:chExt cx="1905120" cy="680760"/>
              </a:xfrm>
            </p:grpSpPr>
            <p:pic>
              <p:nvPicPr>
                <p:cNvPr id="8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887640" y="5092560"/>
                  <a:ext cx="144792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0" name=""/>
                <p:cNvSpPr/>
                <p:nvPr/>
              </p:nvSpPr>
              <p:spPr>
                <a:xfrm>
                  <a:off x="3716280" y="5229000"/>
                  <a:ext cx="1905120" cy="5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Device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HMCs, IVMs, MMs, BMCs, terminal servers, etc.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1" name=""/>
            <p:cNvSpPr/>
            <p:nvPr/>
          </p:nvSpPr>
          <p:spPr>
            <a:xfrm>
              <a:off x="4597560" y="44956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77840" y="584280"/>
            <a:ext cx="3492360" cy="2463840"/>
            <a:chOff x="177840" y="584280"/>
            <a:chExt cx="3492360" cy="2463840"/>
          </a:xfrm>
        </p:grpSpPr>
        <p:grpSp>
          <p:nvGrpSpPr>
            <p:cNvPr id="903" name=""/>
            <p:cNvGrpSpPr/>
            <p:nvPr/>
          </p:nvGrpSpPr>
          <p:grpSpPr>
            <a:xfrm>
              <a:off x="177840" y="584280"/>
              <a:ext cx="2019240" cy="1858680"/>
              <a:chOff x="177840" y="584280"/>
              <a:chExt cx="2019240" cy="1858680"/>
            </a:xfrm>
          </p:grpSpPr>
          <p:sp>
            <p:nvSpPr>
              <p:cNvPr id="904" name=""/>
              <p:cNvSpPr/>
              <p:nvPr/>
            </p:nvSpPr>
            <p:spPr>
              <a:xfrm>
                <a:off x="438480" y="708120"/>
                <a:ext cx="1497960" cy="1423080"/>
              </a:xfrm>
              <a:prstGeom prst="ellipse">
                <a:avLst/>
              </a:prstGeom>
              <a:solidFill>
                <a:srgbClr val="ff00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77840" y="584280"/>
                <a:ext cx="2019240" cy="1858680"/>
                <a:chOff x="177840" y="584280"/>
                <a:chExt cx="2019240" cy="185868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77840" y="2126160"/>
                  <a:ext cx="201924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p Cluster 160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AIX or Linux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7" name=""/>
                <p:cNvGrpSpPr/>
                <p:nvPr/>
              </p:nvGrpSpPr>
              <p:grpSpPr>
                <a:xfrm>
                  <a:off x="250920" y="584280"/>
                  <a:ext cx="1845000" cy="1494000"/>
                  <a:chOff x="250920" y="584280"/>
                  <a:chExt cx="1845000" cy="14940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1759680" y="1299600"/>
                    <a:ext cx="1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1185480" y="1324080"/>
                    <a:ext cx="39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740520" y="1690200"/>
                    <a:ext cx="6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91040" y="1010880"/>
                    <a:ext cx="326520" cy="279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1380960" y="105588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933120" y="103536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1572120" y="1067400"/>
                    <a:ext cx="219960" cy="211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380960" y="1420920"/>
                    <a:ext cx="0" cy="25344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933120" y="140004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1558800" y="1392480"/>
                    <a:ext cx="329760" cy="280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451440" y="1395000"/>
                    <a:ext cx="318600" cy="315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2840" y="1275120"/>
                    <a:ext cx="10893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2" h="122">
                        <a:moveTo>
                          <a:pt x="166" y="122"/>
                        </a:moveTo>
                        <a:lnTo>
                          <a:pt x="11" y="113"/>
                        </a:lnTo>
                        <a:lnTo>
                          <a:pt x="0" y="0"/>
                        </a:lnTo>
                        <a:lnTo>
                          <a:pt x="662" y="0"/>
                        </a:lnTo>
                        <a:lnTo>
                          <a:pt x="882" y="9"/>
                        </a:lnTo>
                        <a:lnTo>
                          <a:pt x="882" y="1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4b4b4"/>
                      </a:gs>
                      <a:gs pos="100000">
                        <a:srgbClr val="f0f0f0"/>
                      </a:gs>
                    </a:gsLst>
                    <a:lin ang="10800000"/>
                  </a:gradFill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86520" y="1275120"/>
                    <a:ext cx="2397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2">
                        <a:moveTo>
                          <a:pt x="0" y="0"/>
                        </a:moveTo>
                        <a:lnTo>
                          <a:pt x="156" y="9"/>
                        </a:lnTo>
                        <a:lnTo>
                          <a:pt x="156" y="49"/>
                        </a:lnTo>
                        <a:lnTo>
                          <a:pt x="195" y="49"/>
                        </a:lnTo>
                        <a:lnTo>
                          <a:pt x="165" y="55"/>
                        </a:lnTo>
                        <a:lnTo>
                          <a:pt x="165" y="72"/>
                        </a:lnTo>
                        <a:lnTo>
                          <a:pt x="195" y="72"/>
                        </a:lnTo>
                        <a:lnTo>
                          <a:pt x="160" y="80"/>
                        </a:lnTo>
                        <a:lnTo>
                          <a:pt x="195" y="80"/>
                        </a:lnTo>
                        <a:lnTo>
                          <a:pt x="160" y="86"/>
                        </a:lnTo>
                        <a:lnTo>
                          <a:pt x="195" y="86"/>
                        </a:lnTo>
                        <a:lnTo>
                          <a:pt x="160" y="94"/>
                        </a:lnTo>
                        <a:lnTo>
                          <a:pt x="195" y="94"/>
                        </a:lnTo>
                        <a:lnTo>
                          <a:pt x="160" y="102"/>
                        </a:lnTo>
                        <a:lnTo>
                          <a:pt x="195" y="102"/>
                        </a:lnTo>
                        <a:lnTo>
                          <a:pt x="160" y="109"/>
                        </a:lnTo>
                        <a:lnTo>
                          <a:pt x="195" y="109"/>
                        </a:lnTo>
                        <a:lnTo>
                          <a:pt x="156" y="117"/>
                        </a:lnTo>
                        <a:lnTo>
                          <a:pt x="156" y="122"/>
                        </a:lnTo>
                        <a:lnTo>
                          <a:pt x="0" y="113"/>
                        </a:lnTo>
                        <a:lnTo>
                          <a:pt x="0" y="52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64646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496520" y="1357920"/>
                    <a:ext cx="0" cy="4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889920" y="1357920"/>
                    <a:ext cx="606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709640" y="1356480"/>
                    <a:ext cx="0" cy="52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1560240" y="1356480"/>
                    <a:ext cx="149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546560" y="1356480"/>
                    <a:ext cx="136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3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546560" y="1356480"/>
                    <a:ext cx="163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9">
                        <a:moveTo>
                          <a:pt x="109" y="0"/>
                        </a:moveTo>
                        <a:lnTo>
                          <a:pt x="132" y="9"/>
                        </a:lnTo>
                        <a:lnTo>
                          <a:pt x="2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545480" y="136656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">
                        <a:moveTo>
                          <a:pt x="110" y="0"/>
                        </a:moveTo>
                        <a:lnTo>
                          <a:pt x="126" y="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545480" y="1373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545480" y="1382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545480" y="1391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7">
                        <a:moveTo>
                          <a:pt x="110" y="0"/>
                        </a:moveTo>
                        <a:lnTo>
                          <a:pt x="126" y="7"/>
                        </a:lnTo>
                        <a:lnTo>
                          <a:pt x="1" y="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1545480" y="1400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546560" y="1330560"/>
                    <a:ext cx="1630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">
                        <a:moveTo>
                          <a:pt x="120" y="0"/>
                        </a:moveTo>
                        <a:lnTo>
                          <a:pt x="132" y="6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545480" y="1330560"/>
                    <a:ext cx="1641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6">
                        <a:moveTo>
                          <a:pt x="133" y="6"/>
                        </a:move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12" y="6"/>
                        </a:lnTo>
                        <a:lnTo>
                          <a:pt x="1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879120" y="1285560"/>
                    <a:ext cx="88344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113">
                        <a:moveTo>
                          <a:pt x="715" y="113"/>
                        </a:move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889920" y="1338120"/>
                    <a:ext cx="0" cy="1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879120" y="1406520"/>
                    <a:ext cx="8834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7">
                        <a:moveTo>
                          <a:pt x="715" y="7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86520" y="1275120"/>
                    <a:ext cx="1076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122">
                        <a:moveTo>
                          <a:pt x="871" y="9"/>
                        </a:move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113"/>
                        </a:lnTo>
                        <a:lnTo>
                          <a:pt x="156" y="122"/>
                        </a:lnTo>
                        <a:lnTo>
                          <a:pt x="156" y="12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H="1" flipV="1">
                    <a:off x="701280" y="1274760"/>
                    <a:ext cx="177840" cy="10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835560" y="1356480"/>
                    <a:ext cx="540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44" y="0"/>
                        </a:moveTo>
                        <a:lnTo>
                          <a:pt x="12" y="0"/>
                        </a:lnTo>
                        <a:lnTo>
                          <a:pt x="0" y="42"/>
                        </a:lnTo>
                        <a:lnTo>
                          <a:pt x="12" y="4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1385280" y="1289520"/>
                    <a:ext cx="355320" cy="2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879120" y="1366560"/>
                    <a:ext cx="61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">
                        <a:moveTo>
                          <a:pt x="436" y="0"/>
                        </a:moveTo>
                        <a:lnTo>
                          <a:pt x="50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850320" y="137196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23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889560" y="1366560"/>
                    <a:ext cx="36360" cy="6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879120" y="1373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850320" y="1379520"/>
                    <a:ext cx="28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">
                        <a:moveTo>
                          <a:pt x="23" y="3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>
                    <a:off x="889560" y="1373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879120" y="1382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850320" y="1386000"/>
                    <a:ext cx="28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5">
                        <a:moveTo>
                          <a:pt x="23" y="5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889560" y="1382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879120" y="1391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7">
                        <a:moveTo>
                          <a:pt x="436" y="0"/>
                        </a:moveTo>
                        <a:lnTo>
                          <a:pt x="50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850320" y="1397520"/>
                    <a:ext cx="28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">
                        <a:moveTo>
                          <a:pt x="23" y="2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889560" y="1391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879120" y="1400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850320" y="1404000"/>
                    <a:ext cx="28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">
                        <a:moveTo>
                          <a:pt x="23" y="4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889560" y="1400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>
                    <a:off x="889560" y="1357920"/>
                    <a:ext cx="36360" cy="8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879120" y="1357920"/>
                    <a:ext cx="61704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850320" y="1362600"/>
                    <a:ext cx="28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">
                        <a:moveTo>
                          <a:pt x="23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>
                    <a:off x="879120" y="1330560"/>
                    <a:ext cx="617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889560" y="1330560"/>
                    <a:ext cx="3636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889920" y="1330560"/>
                    <a:ext cx="606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6">
                        <a:moveTo>
                          <a:pt x="430" y="0"/>
                        </a:moveTo>
                        <a:lnTo>
                          <a:pt x="491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850320" y="1334520"/>
                    <a:ext cx="39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">
                        <a:moveTo>
                          <a:pt x="32" y="3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50320" y="1325160"/>
                    <a:ext cx="284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8">
                        <a:moveTo>
                          <a:pt x="23" y="5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1491120" y="133056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999720" y="1292040"/>
                    <a:ext cx="132840" cy="7560"/>
                  </a:xfrm>
                  <a:prstGeom prst="ellips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86520" y="1315080"/>
                    <a:ext cx="10760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9">
                        <a:moveTo>
                          <a:pt x="871" y="9"/>
                        </a:moveTo>
                        <a:lnTo>
                          <a:pt x="160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858960" y="1285560"/>
                    <a:ext cx="20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91240" y="1690200"/>
                    <a:ext cx="54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843920" y="584280"/>
                    <a:ext cx="64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1630800"/>
                    <a:ext cx="412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080" y="640800"/>
                    <a:ext cx="41220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83720" y="640800"/>
                    <a:ext cx="41220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27600" y="640800"/>
                    <a:ext cx="41256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71840" y="640800"/>
                    <a:ext cx="41256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83720" y="1630800"/>
                    <a:ext cx="412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6680" y="1630800"/>
                    <a:ext cx="412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62440" y="1630800"/>
                    <a:ext cx="412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978" name=""/>
            <p:cNvSpPr/>
            <p:nvPr/>
          </p:nvSpPr>
          <p:spPr>
            <a:xfrm flipH="1" flipV="1">
              <a:off x="2171880" y="2197080"/>
              <a:ext cx="149832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5448240" y="469800"/>
            <a:ext cx="3314880" cy="2552400"/>
            <a:chOff x="5448240" y="469800"/>
            <a:chExt cx="3314880" cy="2552400"/>
          </a:xfrm>
        </p:grpSpPr>
        <p:grpSp>
          <p:nvGrpSpPr>
            <p:cNvPr id="980" name=""/>
            <p:cNvGrpSpPr/>
            <p:nvPr/>
          </p:nvGrpSpPr>
          <p:grpSpPr>
            <a:xfrm>
              <a:off x="6934320" y="469800"/>
              <a:ext cx="1828800" cy="1784160"/>
              <a:chOff x="6934320" y="469800"/>
              <a:chExt cx="1828800" cy="1784160"/>
            </a:xfrm>
          </p:grpSpPr>
          <p:sp>
            <p:nvSpPr>
              <p:cNvPr id="981" name=""/>
              <p:cNvSpPr/>
              <p:nvPr/>
            </p:nvSpPr>
            <p:spPr>
              <a:xfrm>
                <a:off x="7086960" y="469800"/>
                <a:ext cx="1523880" cy="1460520"/>
              </a:xfrm>
              <a:prstGeom prst="ellipse">
                <a:avLst/>
              </a:prstGeom>
              <a:solidFill>
                <a:srgbClr val="339966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6934320" y="851040"/>
                <a:ext cx="1828800" cy="1402920"/>
                <a:chOff x="6934320" y="851040"/>
                <a:chExt cx="1828800" cy="140292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6934320" y="1620720"/>
                  <a:ext cx="18288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Cluster 135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Linux HPC Solu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Intel, Opteron and Blade Servers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7010640" y="851040"/>
                  <a:ext cx="1533240" cy="761760"/>
                  <a:chOff x="7010640" y="851040"/>
                  <a:chExt cx="1533240" cy="761760"/>
                </a:xfrm>
              </p:grpSpPr>
              <p:pic>
                <p:nvPicPr>
                  <p:cNvPr id="9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10640" y="851040"/>
                    <a:ext cx="466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851040"/>
                    <a:ext cx="466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077320" y="851040"/>
                    <a:ext cx="466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988" name=""/>
            <p:cNvSpPr/>
            <p:nvPr/>
          </p:nvSpPr>
          <p:spPr>
            <a:xfrm flipV="1">
              <a:off x="5448240" y="2171520"/>
              <a:ext cx="1422360" cy="8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5181480" y="4305240"/>
            <a:ext cx="2070360" cy="1961640"/>
            <a:chOff x="5181480" y="4305240"/>
            <a:chExt cx="2070360" cy="1961640"/>
          </a:xfrm>
        </p:grpSpPr>
        <p:grpSp>
          <p:nvGrpSpPr>
            <p:cNvPr id="990" name=""/>
            <p:cNvGrpSpPr/>
            <p:nvPr/>
          </p:nvGrpSpPr>
          <p:grpSpPr>
            <a:xfrm>
              <a:off x="5575320" y="5016600"/>
              <a:ext cx="1676520" cy="1250280"/>
              <a:chOff x="5575320" y="5016600"/>
              <a:chExt cx="1676520" cy="1250280"/>
            </a:xfrm>
          </p:grpSpPr>
          <p:sp>
            <p:nvSpPr>
              <p:cNvPr id="991" name=""/>
              <p:cNvSpPr/>
              <p:nvPr/>
            </p:nvSpPr>
            <p:spPr>
              <a:xfrm>
                <a:off x="5575320" y="5016600"/>
                <a:ext cx="1295640" cy="1241280"/>
              </a:xfrm>
              <a:prstGeom prst="ellipse">
                <a:avLst/>
              </a:prstGeom>
              <a:solidFill>
                <a:srgbClr val="ff0000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77280" y="5394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5803920" y="5168880"/>
                <a:ext cx="1447920" cy="1098000"/>
                <a:chOff x="5803920" y="5168880"/>
                <a:chExt cx="1447920" cy="1098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803920" y="5816160"/>
                  <a:ext cx="144792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ladeCent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Intel, Power and Opter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857920" y="5168880"/>
                  <a:ext cx="1295280" cy="55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96" name=""/>
            <p:cNvSpPr/>
            <p:nvPr/>
          </p:nvSpPr>
          <p:spPr>
            <a:xfrm>
              <a:off x="5181480" y="4305240"/>
              <a:ext cx="71136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374920" y="4330800"/>
            <a:ext cx="1574640" cy="1958040"/>
            <a:chOff x="2374920" y="4330800"/>
            <a:chExt cx="1574640" cy="1958040"/>
          </a:xfrm>
        </p:grpSpPr>
        <p:grpSp>
          <p:nvGrpSpPr>
            <p:cNvPr id="998" name=""/>
            <p:cNvGrpSpPr/>
            <p:nvPr/>
          </p:nvGrpSpPr>
          <p:grpSpPr>
            <a:xfrm>
              <a:off x="2374920" y="5054760"/>
              <a:ext cx="1295280" cy="1234080"/>
              <a:chOff x="2374920" y="5054760"/>
              <a:chExt cx="1295280" cy="1234080"/>
            </a:xfrm>
          </p:grpSpPr>
          <p:sp>
            <p:nvSpPr>
              <p:cNvPr id="999" name=""/>
              <p:cNvSpPr/>
              <p:nvPr/>
            </p:nvSpPr>
            <p:spPr>
              <a:xfrm>
                <a:off x="2527200" y="5130720"/>
                <a:ext cx="1143000" cy="1094760"/>
              </a:xfrm>
              <a:prstGeom prst="ellipse">
                <a:avLst/>
              </a:prstGeom>
              <a:solidFill>
                <a:srgbClr val="0080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2374920" y="5054760"/>
                <a:ext cx="1165320" cy="1234080"/>
                <a:chOff x="2374920" y="5054760"/>
                <a:chExt cx="1165320" cy="123408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2374920" y="5892840"/>
                  <a:ext cx="116532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Aft>
                      <a:spcPts val="201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HA Clusters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HACMP or Tivoli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603520" y="5207040"/>
                  <a:ext cx="48276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832120" y="5359320"/>
                  <a:ext cx="482760" cy="55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451240" y="5054760"/>
                  <a:ext cx="48240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5" name=""/>
            <p:cNvSpPr/>
            <p:nvPr/>
          </p:nvSpPr>
          <p:spPr>
            <a:xfrm flipH="1">
              <a:off x="3225960" y="4330800"/>
              <a:ext cx="72360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511960" y="3873600"/>
            <a:ext cx="3301920" cy="1755360"/>
            <a:chOff x="5511960" y="3873600"/>
            <a:chExt cx="3301920" cy="1755360"/>
          </a:xfrm>
        </p:grpSpPr>
        <p:grpSp>
          <p:nvGrpSpPr>
            <p:cNvPr id="1007" name=""/>
            <p:cNvGrpSpPr/>
            <p:nvPr/>
          </p:nvGrpSpPr>
          <p:grpSpPr>
            <a:xfrm>
              <a:off x="7213680" y="4076640"/>
              <a:ext cx="1600200" cy="1552320"/>
              <a:chOff x="7213680" y="4076640"/>
              <a:chExt cx="1600200" cy="1552320"/>
            </a:xfrm>
          </p:grpSpPr>
          <p:sp>
            <p:nvSpPr>
              <p:cNvPr id="1008" name=""/>
              <p:cNvSpPr/>
              <p:nvPr/>
            </p:nvSpPr>
            <p:spPr>
              <a:xfrm>
                <a:off x="7442280" y="4533840"/>
                <a:ext cx="1143000" cy="1095120"/>
              </a:xfrm>
              <a:prstGeom prst="ellipse">
                <a:avLst/>
              </a:prstGeom>
              <a:solidFill>
                <a:srgbClr val="ff66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7213680" y="4076640"/>
                <a:ext cx="1600200" cy="1552320"/>
                <a:chOff x="7213680" y="4076640"/>
                <a:chExt cx="1600200" cy="1552320"/>
              </a:xfrm>
            </p:grpSpPr>
            <p:pic>
              <p:nvPicPr>
                <p:cNvPr id="10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670880" y="4076640"/>
                  <a:ext cx="669960" cy="109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>
                  <a:off x="7213680" y="5178240"/>
                  <a:ext cx="160020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CU for Linux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Balanced Configuration Unit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2" name=""/>
            <p:cNvSpPr/>
            <p:nvPr/>
          </p:nvSpPr>
          <p:spPr>
            <a:xfrm>
              <a:off x="5511960" y="3873600"/>
              <a:ext cx="187956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0" y="3898800"/>
            <a:ext cx="3606840" cy="2143080"/>
            <a:chOff x="0" y="3898800"/>
            <a:chExt cx="3606840" cy="2143080"/>
          </a:xfrm>
        </p:grpSpPr>
        <p:grpSp>
          <p:nvGrpSpPr>
            <p:cNvPr id="1014" name=""/>
            <p:cNvGrpSpPr/>
            <p:nvPr/>
          </p:nvGrpSpPr>
          <p:grpSpPr>
            <a:xfrm>
              <a:off x="0" y="4546440"/>
              <a:ext cx="2438280" cy="1495440"/>
              <a:chOff x="0" y="4546440"/>
              <a:chExt cx="2438280" cy="1495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533160" y="5537160"/>
                <a:ext cx="38124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057400" y="4851360"/>
                <a:ext cx="38088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137960" y="60307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127160" y="6030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7880" y="6037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62040" y="6037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8960" y="60307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137960" y="470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68160" y="470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84000" y="4707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960" y="4707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380880" y="4546440"/>
                <a:ext cx="1836720" cy="1330200"/>
                <a:chOff x="380880" y="4546440"/>
                <a:chExt cx="1836720" cy="13302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1642680" y="5070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657080" y="50702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193400" y="50702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4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64840" y="5070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52240" y="5070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" descr=""/>
                <p:cNvPicPr/>
                <p:nvPr/>
              </p:nvPicPr>
              <p:blipFill>
                <a:blip r:embed="rId25"/>
                <a:srcRect l="1252" t="14331" r="2333" b="7000"/>
                <a:stretch/>
              </p:blipFill>
              <p:spPr>
                <a:xfrm>
                  <a:off x="380880" y="4546440"/>
                  <a:ext cx="183672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814320" y="5648040"/>
                  <a:ext cx="1012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Aft>
                      <a:spcPts val="275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lue Gen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0" y="4699080"/>
                <a:ext cx="38088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 flipH="1">
              <a:off x="2451240" y="3898800"/>
              <a:ext cx="11556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3535200" y="2692440"/>
            <a:ext cx="1951200" cy="1781280"/>
            <a:chOff x="3535200" y="2692440"/>
            <a:chExt cx="1951200" cy="1781280"/>
          </a:xfrm>
        </p:grpSpPr>
        <p:sp>
          <p:nvSpPr>
            <p:cNvPr id="1038" name=""/>
            <p:cNvSpPr/>
            <p:nvPr/>
          </p:nvSpPr>
          <p:spPr>
            <a:xfrm>
              <a:off x="3657600" y="2692440"/>
              <a:ext cx="1828800" cy="1731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86200" y="406080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54720" y="3871800"/>
              <a:ext cx="612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44800" y="40226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35200" y="4030560"/>
              <a:ext cx="504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48160" y="4030560"/>
              <a:ext cx="46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4064040" y="3289320"/>
              <a:ext cx="1041120" cy="641160"/>
              <a:chOff x="4064040" y="3289320"/>
              <a:chExt cx="1041120" cy="64116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26"/>
              <a:srcRect l="0" t="0" r="0" b="5014"/>
              <a:stretch/>
            </p:blipFill>
            <p:spPr>
              <a:xfrm>
                <a:off x="4064040" y="3289320"/>
                <a:ext cx="1041120" cy="6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>
                <a:off x="4459320" y="3493800"/>
                <a:ext cx="323640" cy="25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3873600" y="2857680"/>
              <a:ext cx="1447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  <a:ea typeface="Arial"/>
                </a:rPr>
                <a:t>CS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  <a:ea typeface="Arial"/>
                </a:rPr>
                <a:t>Management Ser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33920" y="3962520"/>
              <a:ext cx="1726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Y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single point of control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AAA0-C397-498A-9C8A-EFE632B50DA8}" type="slidenum">
              <a:t>4</a:t>
            </a:fld>
          </a:p>
        </p:txBody>
      </p:sp>
    </p:spTree>
  </p:cSld>
  <p:transition spd="slow" advTm="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4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0" y="153684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Impressive!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3467160"/>
            <a:ext cx="9144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How do you set up CS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0D51-42F7-4B3B-BD82-7C706A9D0E52}" type="slidenum">
              <a:t>5</a:t>
            </a:fld>
          </a:p>
        </p:txBody>
      </p:sp>
    </p:spTree>
  </p:cSld>
  <p:transition spd="slow" advTm="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04920" y="1536840"/>
            <a:ext cx="37209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2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iscover/Define your no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(i.e. the servers you plan to deploy and manage)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hwsda, define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54160" y="1523880"/>
            <a:ext cx="37209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3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eploy your no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(i.e. install OS, CSM client, and user applications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csmsetupinstall, installnod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120" y="1486080"/>
            <a:ext cx="37213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1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Install y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C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Manag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erver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instal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112160" y="4813200"/>
            <a:ext cx="914400" cy="1257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124760" y="2095560"/>
            <a:ext cx="914400" cy="1257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124760" y="749160"/>
            <a:ext cx="914400" cy="1257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851360" y="2857680"/>
            <a:ext cx="914400" cy="12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51360" y="2857680"/>
            <a:ext cx="914400" cy="1257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846320" y="4138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499000" y="927000"/>
            <a:ext cx="2070360" cy="147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53160" y="2451240"/>
            <a:ext cx="241200" cy="15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607000" y="2666880"/>
            <a:ext cx="133560" cy="9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19840" y="1023840"/>
            <a:ext cx="1198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1 = x36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2 = x37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3 = H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4 = J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778360" y="749160"/>
            <a:ext cx="2260800" cy="5321520"/>
            <a:chOff x="5778360" y="749160"/>
            <a:chExt cx="2260800" cy="5321520"/>
          </a:xfrm>
        </p:grpSpPr>
        <p:sp>
          <p:nvSpPr>
            <p:cNvPr id="1066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24760" y="20955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7232760" y="172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220160" y="306864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232760" y="57862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081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163E-920B-4DBE-80AB-1F8B9BD6B600}" type="slidenum">
              <a:t>6</a:t>
            </a:fld>
          </a:p>
        </p:txBody>
      </p:sp>
    </p:spTree>
  </p:cSld>
  <p:transition spd="slow" advTm="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0" y="19173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</a:rPr>
              <a:t>Ok, you can deploy new nodes in parallel from a single point of control. Nice.</a:t>
            </a:r>
            <a:endParaRPr b="0" lang="en-US" sz="4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184560"/>
            <a:ext cx="9144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hat else can you do with CS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92CA-2C2E-421B-8086-8DEB3CD05C89}" type="slidenum">
              <a:t>7</a:t>
            </a:fld>
          </a:p>
        </p:txBody>
      </p:sp>
    </p:spTree>
  </p:cSld>
  <p:transition spd="slow" advTm="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25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304920" y="2235240"/>
            <a:ext cx="421632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Power on, power off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nd reboot no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(out-of-band)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rpower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093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24760" y="2108160"/>
              <a:ext cx="914400" cy="1257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20160" y="30686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7453440" y="4940280"/>
              <a:ext cx="452160" cy="415440"/>
              <a:chOff x="7453440" y="4940280"/>
              <a:chExt cx="452160" cy="41544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7542000" y="4940280"/>
                <a:ext cx="144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51520" y="494496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6200000">
                <a:off x="7600680" y="5050800"/>
                <a:ext cx="157320" cy="45216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160"/>
                  <a:gd name="textAreaBottom" fmla="*/ 339120 h 45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7520040" y="851040"/>
              <a:ext cx="452520" cy="415440"/>
              <a:chOff x="7520040" y="851040"/>
              <a:chExt cx="452520" cy="415440"/>
            </a:xfrm>
          </p:grpSpPr>
          <p:sp>
            <p:nvSpPr>
              <p:cNvPr id="1113" name=""/>
              <p:cNvSpPr/>
              <p:nvPr/>
            </p:nvSpPr>
            <p:spPr>
              <a:xfrm flipH="1">
                <a:off x="7608600" y="851040"/>
                <a:ext cx="180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7818120" y="855720"/>
                <a:ext cx="180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6200000">
                <a:off x="7667640" y="961560"/>
                <a:ext cx="157320" cy="45252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520"/>
                  <a:gd name="textAreaBottom" fmla="*/ 33948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7637400" y="2203560"/>
              <a:ext cx="210960" cy="174600"/>
              <a:chOff x="7637400" y="2203560"/>
              <a:chExt cx="210960" cy="17460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7637400" y="220356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7846920" y="220824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7516800" y="2282760"/>
              <a:ext cx="471600" cy="390240"/>
              <a:chOff x="7516800" y="2282760"/>
              <a:chExt cx="471600" cy="390240"/>
            </a:xfrm>
          </p:grpSpPr>
          <p:sp>
            <p:nvSpPr>
              <p:cNvPr id="1120" name=""/>
              <p:cNvSpPr/>
              <p:nvPr/>
            </p:nvSpPr>
            <p:spPr>
              <a:xfrm>
                <a:off x="7557840" y="2282760"/>
                <a:ext cx="169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62680" y="2287440"/>
                <a:ext cx="169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16800" y="2538360"/>
                <a:ext cx="4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6200000">
                <a:off x="7778520" y="2558520"/>
                <a:ext cx="127080" cy="101520"/>
              </a:xfrm>
              <a:custGeom>
                <a:avLst/>
                <a:gdLst>
                  <a:gd name="textAreaLeft" fmla="*/ 37440 w 127080"/>
                  <a:gd name="textAreaRight" fmla="*/ 127440 w 127080"/>
                  <a:gd name="textAreaTop" fmla="*/ 25200 h 101520"/>
                  <a:gd name="textAreaBottom" fmla="*/ 7632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"/>
          <p:cNvSpPr/>
          <p:nvPr/>
        </p:nvSpPr>
        <p:spPr>
          <a:xfrm>
            <a:off x="5638680" y="2959200"/>
            <a:ext cx="1625760" cy="241200"/>
          </a:xfrm>
          <a:prstGeom prst="rightArrow">
            <a:avLst>
              <a:gd name="adj1" fmla="val 50000"/>
              <a:gd name="adj2" fmla="val 168507"/>
            </a:avLst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832440" y="2247840"/>
            <a:ext cx="1308240" cy="1333440"/>
          </a:xfrm>
          <a:prstGeom prst="irregularSeal1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7124760" y="2108160"/>
            <a:ext cx="914400" cy="1257480"/>
            <a:chOff x="7124760" y="2108160"/>
            <a:chExt cx="914400" cy="1257480"/>
          </a:xfrm>
        </p:grpSpPr>
        <p:sp>
          <p:nvSpPr>
            <p:cNvPr id="1128" name=""/>
            <p:cNvSpPr/>
            <p:nvPr/>
          </p:nvSpPr>
          <p:spPr>
            <a:xfrm>
              <a:off x="7124760" y="2108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7466040" y="2235240"/>
              <a:ext cx="452520" cy="415440"/>
              <a:chOff x="7466040" y="2235240"/>
              <a:chExt cx="452520" cy="415440"/>
            </a:xfrm>
          </p:grpSpPr>
          <p:sp>
            <p:nvSpPr>
              <p:cNvPr id="1130" name=""/>
              <p:cNvSpPr/>
              <p:nvPr/>
            </p:nvSpPr>
            <p:spPr>
              <a:xfrm flipH="1">
                <a:off x="7554600" y="2235240"/>
                <a:ext cx="180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7764120" y="2239920"/>
                <a:ext cx="180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6200000">
                <a:off x="7613640" y="2345760"/>
                <a:ext cx="157320" cy="45252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520"/>
                  <a:gd name="textAreaBottom" fmla="*/ 33948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20160" y="30686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500C-5DE6-4907-9164-ED720271C807}" type="slidenum">
              <a:t>8</a:t>
            </a:fld>
          </a:p>
        </p:txBody>
      </p:sp>
    </p:spTree>
  </p:cSld>
  <p:transition spd="slow" advTm="0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5240" y="1955880"/>
            <a:ext cx="419076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Open remote consoles to your no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(out-of-band)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rconsol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139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80920" y="8208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 xx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 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x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167960" y="488484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xxx xx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xx x 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180920" y="22050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  xxx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450320" y="1168560"/>
            <a:ext cx="2712600" cy="2091960"/>
            <a:chOff x="4450320" y="1168560"/>
            <a:chExt cx="2712600" cy="2091960"/>
          </a:xfrm>
        </p:grpSpPr>
        <p:sp>
          <p:nvSpPr>
            <p:cNvPr id="1158" name=""/>
            <p:cNvSpPr/>
            <p:nvPr/>
          </p:nvSpPr>
          <p:spPr>
            <a:xfrm>
              <a:off x="4450320" y="26748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 xx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 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x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032520" y="1219320"/>
              <a:ext cx="0" cy="195552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81760" y="1168560"/>
              <a:ext cx="1181160" cy="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95960" y="3124080"/>
              <a:ext cx="787320" cy="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B8C0-D086-4FE7-9383-0D85B3E206B0}" type="slidenum">
              <a:t>9</a:t>
            </a:fld>
          </a:p>
        </p:txBody>
      </p:sp>
    </p:spTree>
  </p:cSld>
  <p:transition spd="slow" advTm="0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3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22:41Z</dcterms:created>
  <dc:creator>Marty Fullam</dc:creator>
  <dc:description/>
  <dc:language>en-US</dc:language>
  <cp:lastModifiedBy>IBM_USER</cp:lastModifiedBy>
  <dcterms:modified xsi:type="dcterms:W3CDTF">2006-10-31T13:18:24Z</dcterms:modified>
  <cp:revision>329</cp:revision>
  <dc:subject/>
  <dc:title>CSM presentation</dc:title>
</cp:coreProperties>
</file>