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772-3D31-4CDB-9328-9DFCCE4A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6465-D7D5-418E-B0E1-02C25487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FD7-14D2-46EE-BC52-B68A3E44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43C4-1F6D-4FEB-8DBA-5390D768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4AA4-8EE2-4166-B0D6-DC2331C0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257B-BA25-4E30-BABC-03673FAD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F06-8CB4-4CA7-9735-A075659F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76A-73EE-468E-A566-1544A5F0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4517-100F-4575-9158-88F5DCB1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02F-30C5-468C-B95B-B9818240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FFB-5887-4AEC-BB2A-B3E85606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D9F-CB32-48E6-9E89-242F03D1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CE95-8B7A-477F-88A1-A5718EB15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Welcome To T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19</a:t>
            </a:r>
            <a:r>
              <a:rPr b="0" lang="en-US" sz="44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International Rexx Sympos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exxLA_Logo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41008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Presenters are reminded to provide a digital (PDF if possible) copy of their presentation to Lee as soon as possible – no later than 30 seconds after the present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From%20Object%20REXX%20V3_Page_15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924680" cy="5602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Manfred’s 2005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5:10:33Z</dcterms:created>
  <dc:creator>Lee Peedin</dc:creator>
  <dc:description/>
  <dc:language>en-US</dc:language>
  <cp:lastModifiedBy>Lee Peedin</cp:lastModifiedBy>
  <dcterms:modified xsi:type="dcterms:W3CDTF">2008-04-28T12:16:06Z</dcterms:modified>
  <cp:revision>16</cp:revision>
  <dc:subject/>
  <dc:title>Welcome To The</dc:title>
</cp:coreProperties>
</file>